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716000" cy="9907588"/>
  <p:notesSz cx="9831388" cy="6664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F19-3E60-48F8-92B2-E312F8CC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2862360"/>
            <a:ext cx="1165860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28520" y="5967000"/>
            <a:ext cx="1165860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6AA-E5CC-48BA-898B-1F31B054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520" y="286236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02360" y="286236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28520" y="596700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002360" y="596700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E7B-FD7E-46D7-A949-5C07B579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2862360"/>
            <a:ext cx="375372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0160" y="2862360"/>
            <a:ext cx="375372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912160" y="2862360"/>
            <a:ext cx="375372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28520" y="5967000"/>
            <a:ext cx="375372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70160" y="5967000"/>
            <a:ext cx="375372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912160" y="5967000"/>
            <a:ext cx="375372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BE0-5A6E-43BC-8B6C-E4D3FBE8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28520" y="2862360"/>
            <a:ext cx="116586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3D2-3853-4FBE-B409-F4E84962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28520" y="2862360"/>
            <a:ext cx="11658600" cy="5943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9F4-2A50-4C59-8356-5A54F03D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520" y="2862360"/>
            <a:ext cx="5689080" cy="5943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002360" y="2862360"/>
            <a:ext cx="5689080" cy="5943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908-E308-4731-960E-BE078F8D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39A-9622-4E76-94DE-212CB5FE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28520" y="880560"/>
            <a:ext cx="116586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DC31-968F-4D78-9647-684B70D1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28520" y="286236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002360" y="2862360"/>
            <a:ext cx="5689080" cy="5943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28520" y="596700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FE6-B467-4854-AE41-20879623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520" y="2862360"/>
            <a:ext cx="5689080" cy="5943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002360" y="286236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360" y="596700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9B5-8EF7-42F5-A9AC-476A6C96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286236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002360" y="286236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5967000"/>
            <a:ext cx="1165860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678-70FA-479D-96F9-F68082DA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520" y="2862360"/>
            <a:ext cx="11658600" cy="5943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 fontScale="96000"/>
          </a:bodyPr>
          <a:p>
            <a:pPr marL="493560" indent="-49356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9920" indent="-41148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5920" indent="-3290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04360" indent="-3290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4" marL="2962800" indent="-3290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5" marL="2962800" indent="-3290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6" marL="2962800" indent="-3290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28520" y="9024480"/>
            <a:ext cx="2857320" cy="660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lstStyle>
            <a:lvl1pPr indent="0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  <a:defRPr b="0" lang="en-US" sz="2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6120" y="9024480"/>
            <a:ext cx="4343400" cy="660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lstStyle>
            <a:lvl1pPr indent="0" algn="ctr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  <a:defRPr b="0" lang="en-US" sz="2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29800" y="9024480"/>
            <a:ext cx="2857680" cy="660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lstStyle>
            <a:lvl1pPr indent="0" algn="r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  <a:defRPr b="0" lang="en-US" sz="2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fld id="{5437C81C-E037-4564-9619-9D26E699A0E7}" type="slidenum"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440" y="3882960"/>
            <a:ext cx="345960" cy="11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5381280" y="3876840"/>
            <a:ext cx="377640" cy="112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46680" y="3886200"/>
            <a:ext cx="386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86320" y="3470400"/>
            <a:ext cx="0" cy="15588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360" y="679320"/>
            <a:ext cx="0" cy="7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51640" y="2127240"/>
            <a:ext cx="201600" cy="12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22480" y="2092320"/>
            <a:ext cx="2934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48480" y="2260440"/>
            <a:ext cx="0" cy="33721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9760" y="5495760"/>
            <a:ext cx="0" cy="171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90960" y="1863720"/>
            <a:ext cx="987480" cy="410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888080" y="2092320"/>
            <a:ext cx="287280" cy="199080"/>
            <a:chOff x="4888080" y="2092320"/>
            <a:chExt cx="287280" cy="199080"/>
          </a:xfrm>
        </p:grpSpPr>
        <p:sp>
          <p:nvSpPr>
            <p:cNvPr id="52" name=""/>
            <p:cNvSpPr/>
            <p:nvPr/>
          </p:nvSpPr>
          <p:spPr>
            <a:xfrm>
              <a:off x="4927680" y="2127240"/>
              <a:ext cx="201600" cy="12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88080" y="2092320"/>
              <a:ext cx="2872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912920" y="1863720"/>
            <a:ext cx="969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 u="sng">
                <a:solidFill>
                  <a:srgbClr val="000000"/>
                </a:solidFill>
                <a:uFillTx/>
                <a:latin typeface="Arial"/>
              </a:rPr>
              <a:t>Répart.Géné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40360" y="2249640"/>
            <a:ext cx="0" cy="29318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2920" y="271620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242320" y="3286080"/>
            <a:ext cx="302400" cy="199080"/>
            <a:chOff x="5242320" y="3286080"/>
            <a:chExt cx="302400" cy="199080"/>
          </a:xfrm>
        </p:grpSpPr>
        <p:sp>
          <p:nvSpPr>
            <p:cNvPr id="58" name=""/>
            <p:cNvSpPr/>
            <p:nvPr/>
          </p:nvSpPr>
          <p:spPr>
            <a:xfrm>
              <a:off x="5289480" y="3321000"/>
              <a:ext cx="201600" cy="1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42320" y="3286080"/>
              <a:ext cx="302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011560" y="271620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22920" y="2521080"/>
            <a:ext cx="493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1280" y="2521080"/>
            <a:ext cx="493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32640" y="3855960"/>
            <a:ext cx="4896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11560" y="385920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243760" y="5091120"/>
            <a:ext cx="302400" cy="199080"/>
            <a:chOff x="5243760" y="5091120"/>
            <a:chExt cx="302400" cy="199080"/>
          </a:xfrm>
        </p:grpSpPr>
        <p:sp>
          <p:nvSpPr>
            <p:cNvPr id="66" name=""/>
            <p:cNvSpPr/>
            <p:nvPr/>
          </p:nvSpPr>
          <p:spPr>
            <a:xfrm>
              <a:off x="5292720" y="5126040"/>
              <a:ext cx="201600" cy="12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43760" y="5091120"/>
              <a:ext cx="302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364000" y="548784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9680" y="5481720"/>
            <a:ext cx="493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40680" y="6610320"/>
            <a:ext cx="457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bornie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JBUS 5-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11480" y="673740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11720" y="5013360"/>
            <a:ext cx="0" cy="21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327560" y="5003640"/>
            <a:ext cx="10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170240" y="5411160"/>
            <a:ext cx="183960" cy="558360"/>
            <a:chOff x="4170240" y="5411160"/>
            <a:chExt cx="183960" cy="558360"/>
          </a:xfrm>
        </p:grpSpPr>
        <p:sp>
          <p:nvSpPr>
            <p:cNvPr id="75" name=""/>
            <p:cNvSpPr/>
            <p:nvPr/>
          </p:nvSpPr>
          <p:spPr>
            <a:xfrm>
              <a:off x="4206960" y="5489640"/>
              <a:ext cx="101520" cy="39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6200000">
              <a:off x="3983040" y="5598360"/>
              <a:ext cx="558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UPT230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506840" y="5685480"/>
            <a:ext cx="183960" cy="558360"/>
            <a:chOff x="4506840" y="5685480"/>
            <a:chExt cx="183960" cy="558360"/>
          </a:xfrm>
        </p:grpSpPr>
        <p:sp>
          <p:nvSpPr>
            <p:cNvPr id="78" name=""/>
            <p:cNvSpPr/>
            <p:nvPr/>
          </p:nvSpPr>
          <p:spPr>
            <a:xfrm>
              <a:off x="4543560" y="5764320"/>
              <a:ext cx="101520" cy="39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6200000">
              <a:off x="4319640" y="5872680"/>
              <a:ext cx="558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UPT003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rot="16200000">
            <a:off x="4152960" y="5627520"/>
            <a:ext cx="441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p 0.2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4452840" y="5880960"/>
            <a:ext cx="5644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x10p 6/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9400" y="732960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PRIL5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élésurveillan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81320" y="6381720"/>
            <a:ext cx="444600" cy="216000"/>
            <a:chOff x="4081320" y="6381720"/>
            <a:chExt cx="444600" cy="216000"/>
          </a:xfrm>
        </p:grpSpPr>
        <p:sp>
          <p:nvSpPr>
            <p:cNvPr id="84" name=""/>
            <p:cNvSpPr/>
            <p:nvPr/>
          </p:nvSpPr>
          <p:spPr>
            <a:xfrm>
              <a:off x="4081320" y="6381720"/>
              <a:ext cx="444600" cy="216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22720" y="6429240"/>
              <a:ext cx="37980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PI-GT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267080" y="6697800"/>
            <a:ext cx="95400" cy="8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490920" y="6831000"/>
            <a:ext cx="1276200" cy="529560"/>
            <a:chOff x="3490920" y="6831000"/>
            <a:chExt cx="1276200" cy="529560"/>
          </a:xfrm>
        </p:grpSpPr>
        <p:grpSp>
          <p:nvGrpSpPr>
            <p:cNvPr id="88" name=""/>
            <p:cNvGrpSpPr/>
            <p:nvPr/>
          </p:nvGrpSpPr>
          <p:grpSpPr>
            <a:xfrm>
              <a:off x="3490920" y="6847200"/>
              <a:ext cx="183960" cy="511200"/>
              <a:chOff x="3490920" y="6847200"/>
              <a:chExt cx="183960" cy="511200"/>
            </a:xfrm>
          </p:grpSpPr>
          <p:sp>
            <p:nvSpPr>
              <p:cNvPr id="89" name=""/>
              <p:cNvSpPr/>
              <p:nvPr/>
            </p:nvSpPr>
            <p:spPr>
              <a:xfrm>
                <a:off x="3508200" y="6878520"/>
                <a:ext cx="95400" cy="444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6200000">
                <a:off x="3327120" y="7010640"/>
                <a:ext cx="51120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SU025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3600360" y="6844320"/>
              <a:ext cx="183960" cy="515880"/>
              <a:chOff x="3600360" y="6844320"/>
              <a:chExt cx="183960" cy="515880"/>
            </a:xfrm>
          </p:grpSpPr>
          <p:sp>
            <p:nvSpPr>
              <p:cNvPr id="92" name=""/>
              <p:cNvSpPr/>
              <p:nvPr/>
            </p:nvSpPr>
            <p:spPr>
              <a:xfrm>
                <a:off x="3616200" y="6878520"/>
                <a:ext cx="96840" cy="444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6200000">
                <a:off x="3434400" y="7010280"/>
                <a:ext cx="5158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CPU5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3708360" y="6878520"/>
              <a:ext cx="133560" cy="480960"/>
              <a:chOff x="3708360" y="6878520"/>
              <a:chExt cx="133560" cy="480960"/>
            </a:xfrm>
          </p:grpSpPr>
          <p:sp>
            <p:nvSpPr>
              <p:cNvPr id="95" name=""/>
              <p:cNvSpPr/>
              <p:nvPr/>
            </p:nvSpPr>
            <p:spPr>
              <a:xfrm>
                <a:off x="3726000" y="6878520"/>
                <a:ext cx="96840" cy="444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8360" y="7175520"/>
                <a:ext cx="1335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819600" y="6878520"/>
              <a:ext cx="131760" cy="480960"/>
              <a:chOff x="3819600" y="6878520"/>
              <a:chExt cx="131760" cy="480960"/>
            </a:xfrm>
          </p:grpSpPr>
          <p:sp>
            <p:nvSpPr>
              <p:cNvPr id="98" name=""/>
              <p:cNvSpPr/>
              <p:nvPr/>
            </p:nvSpPr>
            <p:spPr>
              <a:xfrm>
                <a:off x="3835440" y="6878520"/>
                <a:ext cx="95040" cy="444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819600" y="7175520"/>
                <a:ext cx="1317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927600" y="6878520"/>
              <a:ext cx="131760" cy="480960"/>
              <a:chOff x="3927600" y="6878520"/>
              <a:chExt cx="131760" cy="480960"/>
            </a:xfrm>
          </p:grpSpPr>
          <p:sp>
            <p:nvSpPr>
              <p:cNvPr id="101" name=""/>
              <p:cNvSpPr/>
              <p:nvPr/>
            </p:nvSpPr>
            <p:spPr>
              <a:xfrm>
                <a:off x="3943440" y="6878520"/>
                <a:ext cx="98280" cy="444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927600" y="7175520"/>
                <a:ext cx="1317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037040" y="6878520"/>
              <a:ext cx="131760" cy="480960"/>
              <a:chOff x="4037040" y="6878520"/>
              <a:chExt cx="131760" cy="480960"/>
            </a:xfrm>
          </p:grpSpPr>
          <p:sp>
            <p:nvSpPr>
              <p:cNvPr id="104" name=""/>
              <p:cNvSpPr/>
              <p:nvPr/>
            </p:nvSpPr>
            <p:spPr>
              <a:xfrm>
                <a:off x="4054320" y="6878520"/>
                <a:ext cx="95400" cy="444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037040" y="7175520"/>
                <a:ext cx="1317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146480" y="6878520"/>
              <a:ext cx="130320" cy="480960"/>
              <a:chOff x="4146480" y="6878520"/>
              <a:chExt cx="130320" cy="480960"/>
            </a:xfrm>
          </p:grpSpPr>
          <p:sp>
            <p:nvSpPr>
              <p:cNvPr id="107" name=""/>
              <p:cNvSpPr/>
              <p:nvPr/>
            </p:nvSpPr>
            <p:spPr>
              <a:xfrm>
                <a:off x="4162320" y="6878520"/>
                <a:ext cx="96840" cy="444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46480" y="7175520"/>
                <a:ext cx="13032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254480" y="6860160"/>
              <a:ext cx="183960" cy="498960"/>
              <a:chOff x="4254480" y="6860160"/>
              <a:chExt cx="183960" cy="498960"/>
            </a:xfrm>
          </p:grpSpPr>
          <p:sp>
            <p:nvSpPr>
              <p:cNvPr id="110" name=""/>
              <p:cNvSpPr/>
              <p:nvPr/>
            </p:nvSpPr>
            <p:spPr>
              <a:xfrm>
                <a:off x="4272120" y="6878520"/>
                <a:ext cx="96840" cy="444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6200000">
                <a:off x="4096800" y="7017480"/>
                <a:ext cx="4989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JBU055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363920" y="6878520"/>
              <a:ext cx="133560" cy="480960"/>
              <a:chOff x="4363920" y="6878520"/>
              <a:chExt cx="133560" cy="480960"/>
            </a:xfrm>
          </p:grpSpPr>
          <p:sp>
            <p:nvSpPr>
              <p:cNvPr id="113" name=""/>
              <p:cNvSpPr/>
              <p:nvPr/>
            </p:nvSpPr>
            <p:spPr>
              <a:xfrm>
                <a:off x="4381560" y="6878520"/>
                <a:ext cx="95040" cy="444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63920" y="7175520"/>
                <a:ext cx="1335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4473720" y="6878520"/>
              <a:ext cx="131760" cy="480960"/>
              <a:chOff x="4473720" y="6878520"/>
              <a:chExt cx="131760" cy="480960"/>
            </a:xfrm>
          </p:grpSpPr>
          <p:sp>
            <p:nvSpPr>
              <p:cNvPr id="116" name=""/>
              <p:cNvSpPr/>
              <p:nvPr/>
            </p:nvSpPr>
            <p:spPr>
              <a:xfrm>
                <a:off x="4489560" y="6878520"/>
                <a:ext cx="96840" cy="444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473720" y="7175520"/>
                <a:ext cx="1317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4583160" y="6831000"/>
              <a:ext cx="183960" cy="529560"/>
              <a:chOff x="4583160" y="6831000"/>
              <a:chExt cx="183960" cy="529560"/>
            </a:xfrm>
          </p:grpSpPr>
          <p:sp>
            <p:nvSpPr>
              <p:cNvPr id="119" name=""/>
              <p:cNvSpPr/>
              <p:nvPr/>
            </p:nvSpPr>
            <p:spPr>
              <a:xfrm>
                <a:off x="4599000" y="6878520"/>
                <a:ext cx="96840" cy="4446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4410360" y="7003800"/>
                <a:ext cx="5295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QMB162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 flipH="1">
            <a:off x="4638240" y="5506920"/>
            <a:ext cx="748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94560" y="2389320"/>
            <a:ext cx="0" cy="32400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02680" y="2394000"/>
            <a:ext cx="0" cy="38210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746440"/>
            <a:ext cx="908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137120" y="2954160"/>
            <a:ext cx="5292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Zon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 déte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éroga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à 1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0145880" y="3327480"/>
            <a:ext cx="9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018880" y="3544920"/>
            <a:ext cx="44460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72840" y="459108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72840" y="4452840"/>
            <a:ext cx="30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72840" y="4179960"/>
            <a:ext cx="30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72840" y="431640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60240" y="3548160"/>
            <a:ext cx="318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gne 9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60240" y="3684600"/>
            <a:ext cx="3538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gne 1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60240" y="3822840"/>
            <a:ext cx="3538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gne 1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60240" y="3959280"/>
            <a:ext cx="3538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gne 1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60240" y="4095720"/>
            <a:ext cx="3538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gne 13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60240" y="4233960"/>
            <a:ext cx="3538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gne 14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60240" y="4370400"/>
            <a:ext cx="3538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gne 1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60240" y="4508640"/>
            <a:ext cx="3538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gne 16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001600" y="3403440"/>
            <a:ext cx="5061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CARTE 8 E/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109240" y="3591000"/>
            <a:ext cx="262080" cy="1027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0419840" y="3630600"/>
            <a:ext cx="68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0419840" y="3767040"/>
            <a:ext cx="68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0419840" y="3905280"/>
            <a:ext cx="68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0419840" y="4041720"/>
            <a:ext cx="68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10907640" y="3943440"/>
            <a:ext cx="669240" cy="2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rte 8 contac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xiliai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452600" y="3548160"/>
            <a:ext cx="512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tacts sec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452600" y="3822840"/>
            <a:ext cx="512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tacts sec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452600" y="3684600"/>
            <a:ext cx="512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tacts sec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452600" y="3959280"/>
            <a:ext cx="512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tacts sec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240920" y="5067360"/>
            <a:ext cx="169920" cy="77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240920" y="4929120"/>
            <a:ext cx="169920" cy="79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240920" y="4792680"/>
            <a:ext cx="169920" cy="77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240920" y="4002120"/>
            <a:ext cx="169920" cy="7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40920" y="3865680"/>
            <a:ext cx="169920" cy="7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240920" y="3728880"/>
            <a:ext cx="169920" cy="78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142640" y="3659040"/>
            <a:ext cx="91800" cy="92160"/>
            <a:chOff x="10142640" y="3659040"/>
            <a:chExt cx="91800" cy="92160"/>
          </a:xfrm>
        </p:grpSpPr>
        <p:sp>
          <p:nvSpPr>
            <p:cNvPr id="158" name=""/>
            <p:cNvSpPr/>
            <p:nvPr/>
          </p:nvSpPr>
          <p:spPr>
            <a:xfrm flipH="1">
              <a:off x="10145880" y="365904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142640" y="36622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145880" y="375120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0142640" y="3795840"/>
            <a:ext cx="91800" cy="91800"/>
            <a:chOff x="10142640" y="3795840"/>
            <a:chExt cx="91800" cy="91800"/>
          </a:xfrm>
        </p:grpSpPr>
        <p:sp>
          <p:nvSpPr>
            <p:cNvPr id="162" name=""/>
            <p:cNvSpPr/>
            <p:nvPr/>
          </p:nvSpPr>
          <p:spPr>
            <a:xfrm flipH="1">
              <a:off x="10145880" y="379584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142640" y="379872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145880" y="388764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142640" y="3933720"/>
            <a:ext cx="91800" cy="90720"/>
            <a:chOff x="10142640" y="3933720"/>
            <a:chExt cx="91800" cy="90720"/>
          </a:xfrm>
        </p:grpSpPr>
        <p:sp>
          <p:nvSpPr>
            <p:cNvPr id="166" name=""/>
            <p:cNvSpPr/>
            <p:nvPr/>
          </p:nvSpPr>
          <p:spPr>
            <a:xfrm flipH="1">
              <a:off x="10145880" y="393372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142640" y="3936960"/>
              <a:ext cx="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145880" y="402444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H="1">
            <a:off x="10145880" y="4070520"/>
            <a:ext cx="8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142640" y="407340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150560" y="48099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0142640" y="4854600"/>
            <a:ext cx="91800" cy="91800"/>
            <a:chOff x="10142640" y="4854600"/>
            <a:chExt cx="91800" cy="91800"/>
          </a:xfrm>
        </p:grpSpPr>
        <p:sp>
          <p:nvSpPr>
            <p:cNvPr id="173" name=""/>
            <p:cNvSpPr/>
            <p:nvPr/>
          </p:nvSpPr>
          <p:spPr>
            <a:xfrm flipH="1">
              <a:off x="10145880" y="485460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142640" y="48574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145880" y="494640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0142640" y="4997520"/>
            <a:ext cx="91800" cy="92160"/>
            <a:chOff x="10142640" y="4997520"/>
            <a:chExt cx="91800" cy="92160"/>
          </a:xfrm>
        </p:grpSpPr>
        <p:sp>
          <p:nvSpPr>
            <p:cNvPr id="177" name=""/>
            <p:cNvSpPr/>
            <p:nvPr/>
          </p:nvSpPr>
          <p:spPr>
            <a:xfrm flipH="1">
              <a:off x="10145880" y="499752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142640" y="50007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145880" y="508968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0142640" y="3335400"/>
            <a:ext cx="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152000" y="36082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240920" y="3591000"/>
            <a:ext cx="169920" cy="7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018880" y="2265480"/>
            <a:ext cx="4446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52600" y="2541600"/>
            <a:ext cx="512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tacts sec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452600" y="2405160"/>
            <a:ext cx="512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tacts sec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52600" y="2679840"/>
            <a:ext cx="512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tacts sec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452600" y="2952720"/>
            <a:ext cx="512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tacts sec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452600" y="2816280"/>
            <a:ext cx="512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tacts sec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452600" y="3090960"/>
            <a:ext cx="512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tacts sec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72840" y="2351160"/>
            <a:ext cx="1474920" cy="1690560"/>
            <a:chOff x="11472840" y="2351160"/>
            <a:chExt cx="1474920" cy="1690560"/>
          </a:xfrm>
        </p:grpSpPr>
        <p:sp>
          <p:nvSpPr>
            <p:cNvPr id="191" name=""/>
            <p:cNvSpPr/>
            <p:nvPr/>
          </p:nvSpPr>
          <p:spPr>
            <a:xfrm>
              <a:off x="11472840" y="3630600"/>
              <a:ext cx="146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472840" y="3767040"/>
              <a:ext cx="146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72840" y="3905280"/>
              <a:ext cx="146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472840" y="4041720"/>
              <a:ext cx="146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472840" y="2351160"/>
              <a:ext cx="146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72840" y="2487600"/>
              <a:ext cx="146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472840" y="2624040"/>
              <a:ext cx="146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472840" y="2762280"/>
              <a:ext cx="14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72840" y="2898720"/>
              <a:ext cx="146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72840" y="3036960"/>
              <a:ext cx="146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72840" y="3173400"/>
              <a:ext cx="146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72840" y="3309840"/>
              <a:ext cx="146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1460240" y="2266920"/>
            <a:ext cx="318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gne 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60240" y="2405160"/>
            <a:ext cx="318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gne 2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60240" y="2541600"/>
            <a:ext cx="318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gne 3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60240" y="2679840"/>
            <a:ext cx="318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gne 4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60240" y="2816280"/>
            <a:ext cx="318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gne 5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60240" y="2952720"/>
            <a:ext cx="318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gne 6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60240" y="3090960"/>
            <a:ext cx="318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gne 7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60240" y="3227400"/>
            <a:ext cx="318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gne 8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001600" y="2124000"/>
            <a:ext cx="5061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CARTE 8 E/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109240" y="2311560"/>
            <a:ext cx="262080" cy="1038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0419840" y="2351160"/>
            <a:ext cx="68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0419840" y="2487600"/>
            <a:ext cx="68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0419840" y="2624040"/>
            <a:ext cx="68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0419840" y="2762280"/>
            <a:ext cx="68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0419840" y="2898720"/>
            <a:ext cx="68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0419840" y="3036960"/>
            <a:ext cx="68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0419840" y="3173400"/>
            <a:ext cx="68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10907640" y="2664000"/>
            <a:ext cx="669240" cy="2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rte 8 contac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xiliai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52600" y="2266920"/>
            <a:ext cx="512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tacts sec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419840" y="3227400"/>
            <a:ext cx="682920" cy="130320"/>
            <a:chOff x="10419840" y="3227400"/>
            <a:chExt cx="682920" cy="130320"/>
          </a:xfrm>
        </p:grpSpPr>
        <p:sp>
          <p:nvSpPr>
            <p:cNvPr id="223" name=""/>
            <p:cNvSpPr/>
            <p:nvPr/>
          </p:nvSpPr>
          <p:spPr>
            <a:xfrm flipH="1">
              <a:off x="10419840" y="33098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452600" y="3227400"/>
              <a:ext cx="5122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ntacts sec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0240920" y="3133800"/>
            <a:ext cx="169920" cy="7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240920" y="2997360"/>
            <a:ext cx="169920" cy="77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240920" y="2859120"/>
            <a:ext cx="169920" cy="7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240920" y="2722680"/>
            <a:ext cx="169920" cy="7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240920" y="2585880"/>
            <a:ext cx="169920" cy="78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240920" y="2448000"/>
            <a:ext cx="169920" cy="7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0142640" y="2379600"/>
            <a:ext cx="91800" cy="90720"/>
            <a:chOff x="10142640" y="2379600"/>
            <a:chExt cx="91800" cy="90720"/>
          </a:xfrm>
        </p:grpSpPr>
        <p:sp>
          <p:nvSpPr>
            <p:cNvPr id="232" name=""/>
            <p:cNvSpPr/>
            <p:nvPr/>
          </p:nvSpPr>
          <p:spPr>
            <a:xfrm flipH="1">
              <a:off x="10145880" y="237960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142640" y="2381400"/>
              <a:ext cx="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145880" y="247032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0142640" y="2516040"/>
            <a:ext cx="91800" cy="92160"/>
            <a:chOff x="10142640" y="2516040"/>
            <a:chExt cx="91800" cy="92160"/>
          </a:xfrm>
        </p:grpSpPr>
        <p:sp>
          <p:nvSpPr>
            <p:cNvPr id="236" name=""/>
            <p:cNvSpPr/>
            <p:nvPr/>
          </p:nvSpPr>
          <p:spPr>
            <a:xfrm flipH="1">
              <a:off x="10145880" y="251604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142640" y="25192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145880" y="260820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0142640" y="2652840"/>
            <a:ext cx="91800" cy="91800"/>
            <a:chOff x="10142640" y="2652840"/>
            <a:chExt cx="91800" cy="91800"/>
          </a:xfrm>
        </p:grpSpPr>
        <p:sp>
          <p:nvSpPr>
            <p:cNvPr id="240" name=""/>
            <p:cNvSpPr/>
            <p:nvPr/>
          </p:nvSpPr>
          <p:spPr>
            <a:xfrm flipH="1">
              <a:off x="10145880" y="265284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142640" y="265572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145880" y="274464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0142640" y="2790720"/>
            <a:ext cx="91800" cy="90720"/>
            <a:chOff x="10142640" y="2790720"/>
            <a:chExt cx="91800" cy="90720"/>
          </a:xfrm>
        </p:grpSpPr>
        <p:sp>
          <p:nvSpPr>
            <p:cNvPr id="244" name=""/>
            <p:cNvSpPr/>
            <p:nvPr/>
          </p:nvSpPr>
          <p:spPr>
            <a:xfrm flipH="1">
              <a:off x="10145880" y="279072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142640" y="2792520"/>
              <a:ext cx="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145880" y="288144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0142640" y="2922480"/>
            <a:ext cx="91800" cy="90720"/>
            <a:chOff x="10142640" y="2922480"/>
            <a:chExt cx="91800" cy="90720"/>
          </a:xfrm>
        </p:grpSpPr>
        <p:sp>
          <p:nvSpPr>
            <p:cNvPr id="248" name=""/>
            <p:cNvSpPr/>
            <p:nvPr/>
          </p:nvSpPr>
          <p:spPr>
            <a:xfrm flipH="1">
              <a:off x="10145880" y="292248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142640" y="2924280"/>
              <a:ext cx="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145880" y="301320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0142640" y="3065400"/>
            <a:ext cx="91800" cy="90720"/>
            <a:chOff x="10142640" y="3065400"/>
            <a:chExt cx="91800" cy="90720"/>
          </a:xfrm>
        </p:grpSpPr>
        <p:sp>
          <p:nvSpPr>
            <p:cNvPr id="252" name=""/>
            <p:cNvSpPr/>
            <p:nvPr/>
          </p:nvSpPr>
          <p:spPr>
            <a:xfrm flipH="1">
              <a:off x="10145880" y="306540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142640" y="3067200"/>
              <a:ext cx="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145880" y="315612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142640" y="3195720"/>
            <a:ext cx="91800" cy="92160"/>
            <a:chOff x="10142640" y="3195720"/>
            <a:chExt cx="91800" cy="92160"/>
          </a:xfrm>
        </p:grpSpPr>
        <p:sp>
          <p:nvSpPr>
            <p:cNvPr id="256" name=""/>
            <p:cNvSpPr/>
            <p:nvPr/>
          </p:nvSpPr>
          <p:spPr>
            <a:xfrm flipH="1">
              <a:off x="10145880" y="319572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142640" y="31989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145880" y="328788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0240920" y="3271680"/>
            <a:ext cx="169920" cy="78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240920" y="2311560"/>
            <a:ext cx="169920" cy="77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117800" y="2073240"/>
            <a:ext cx="452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adressabl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194840" y="2266920"/>
            <a:ext cx="263520" cy="2919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53640" y="1803240"/>
            <a:ext cx="187488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35120" y="1825560"/>
            <a:ext cx="600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DI TEN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8480" y="2928960"/>
            <a:ext cx="1288800" cy="71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14560" y="3111480"/>
            <a:ext cx="2617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99440" y="3166920"/>
            <a:ext cx="3142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art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B DA4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2 BU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00360" y="3111480"/>
            <a:ext cx="444240" cy="216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49400" y="2935440"/>
            <a:ext cx="9651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DI  ACTIVA 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75880" y="3114720"/>
            <a:ext cx="514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Concentrateur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JBU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657080" y="319716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22480" y="33354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800360" y="3386160"/>
            <a:ext cx="446040" cy="216000"/>
            <a:chOff x="1800360" y="3386160"/>
            <a:chExt cx="446040" cy="216000"/>
          </a:xfrm>
        </p:grpSpPr>
        <p:sp>
          <p:nvSpPr>
            <p:cNvPr id="274" name=""/>
            <p:cNvSpPr/>
            <p:nvPr/>
          </p:nvSpPr>
          <p:spPr>
            <a:xfrm>
              <a:off x="1800360" y="3386160"/>
              <a:ext cx="444240" cy="216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17640" y="3433680"/>
              <a:ext cx="42876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PI-MBU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398600" y="3121200"/>
            <a:ext cx="2671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art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33520" y="3111480"/>
            <a:ext cx="2160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37640" y="5046840"/>
            <a:ext cx="4590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orties DA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131120" y="4586400"/>
            <a:ext cx="306720" cy="207720"/>
            <a:chOff x="1131120" y="4586400"/>
            <a:chExt cx="306720" cy="207720"/>
          </a:xfrm>
        </p:grpSpPr>
        <p:sp>
          <p:nvSpPr>
            <p:cNvPr id="280" name=""/>
            <p:cNvSpPr/>
            <p:nvPr/>
          </p:nvSpPr>
          <p:spPr>
            <a:xfrm>
              <a:off x="1150920" y="4586400"/>
              <a:ext cx="262080" cy="169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31120" y="4587840"/>
              <a:ext cx="30672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arte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4RMS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90520" y="476568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36600" y="47656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81240" y="4765680"/>
            <a:ext cx="0" cy="41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529200" y="6895440"/>
            <a:ext cx="529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Zône bloc te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659160" y="6842160"/>
            <a:ext cx="6343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Zône centrale él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887400" y="6887520"/>
            <a:ext cx="5428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Zône MG/SSI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2400" y="6429240"/>
            <a:ext cx="60480" cy="2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3040" y="6465960"/>
            <a:ext cx="79200" cy="141120"/>
          </a:xfrm>
          <a:prstGeom prst="triangle">
            <a:avLst>
              <a:gd name="adj" fmla="val 4307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1200" y="4911840"/>
            <a:ext cx="0" cy="15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63720" y="5102280"/>
            <a:ext cx="0" cy="13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46240" y="5191200"/>
            <a:ext cx="0" cy="12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925560" y="6429240"/>
            <a:ext cx="79200" cy="177840"/>
            <a:chOff x="925560" y="6429240"/>
            <a:chExt cx="79200" cy="177840"/>
          </a:xfrm>
        </p:grpSpPr>
        <p:sp>
          <p:nvSpPr>
            <p:cNvPr id="294" name=""/>
            <p:cNvSpPr/>
            <p:nvPr/>
          </p:nvSpPr>
          <p:spPr>
            <a:xfrm>
              <a:off x="934920" y="6429240"/>
              <a:ext cx="60480" cy="2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25560" y="6465960"/>
              <a:ext cx="79200" cy="141120"/>
            </a:xfrm>
            <a:prstGeom prst="triangle">
              <a:avLst>
                <a:gd name="adj" fmla="val 4997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109520" y="6429240"/>
            <a:ext cx="77760" cy="177840"/>
            <a:chOff x="1109520" y="6429240"/>
            <a:chExt cx="77760" cy="177840"/>
          </a:xfrm>
        </p:grpSpPr>
        <p:sp>
          <p:nvSpPr>
            <p:cNvPr id="297" name=""/>
            <p:cNvSpPr/>
            <p:nvPr/>
          </p:nvSpPr>
          <p:spPr>
            <a:xfrm>
              <a:off x="1119240" y="6429240"/>
              <a:ext cx="58680" cy="2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09520" y="6465960"/>
              <a:ext cx="77760" cy="141120"/>
            </a:xfrm>
            <a:prstGeom prst="triangle">
              <a:avLst>
                <a:gd name="adj" fmla="val 4997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058760" y="4083120"/>
            <a:ext cx="1320840" cy="71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3880" y="4089240"/>
            <a:ext cx="6861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MSI TEN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1920" y="6415200"/>
            <a:ext cx="3265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irèn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97840" y="4265640"/>
            <a:ext cx="267120" cy="216000"/>
            <a:chOff x="1797840" y="4265640"/>
            <a:chExt cx="267120" cy="216000"/>
          </a:xfrm>
        </p:grpSpPr>
        <p:sp>
          <p:nvSpPr>
            <p:cNvPr id="303" name=""/>
            <p:cNvSpPr/>
            <p:nvPr/>
          </p:nvSpPr>
          <p:spPr>
            <a:xfrm>
              <a:off x="1797840" y="4275000"/>
              <a:ext cx="26712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ar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35280" y="4265640"/>
              <a:ext cx="21564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065320" y="4586400"/>
            <a:ext cx="216000" cy="16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149560" y="4765680"/>
            <a:ext cx="92160" cy="271440"/>
            <a:chOff x="2149560" y="4765680"/>
            <a:chExt cx="92160" cy="271440"/>
          </a:xfrm>
        </p:grpSpPr>
        <p:sp>
          <p:nvSpPr>
            <p:cNvPr id="307" name=""/>
            <p:cNvSpPr/>
            <p:nvPr/>
          </p:nvSpPr>
          <p:spPr>
            <a:xfrm>
              <a:off x="2149560" y="4765680"/>
              <a:ext cx="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95640" y="4765680"/>
              <a:ext cx="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41720" y="4765680"/>
              <a:ext cx="0" cy="2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2044800" y="4587840"/>
            <a:ext cx="2854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art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R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770120" y="4586400"/>
            <a:ext cx="285480" cy="450720"/>
            <a:chOff x="1770120" y="4586400"/>
            <a:chExt cx="285480" cy="450720"/>
          </a:xfrm>
        </p:grpSpPr>
        <p:sp>
          <p:nvSpPr>
            <p:cNvPr id="312" name=""/>
            <p:cNvSpPr/>
            <p:nvPr/>
          </p:nvSpPr>
          <p:spPr>
            <a:xfrm>
              <a:off x="1790640" y="4586400"/>
              <a:ext cx="216000" cy="169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1876320" y="4765680"/>
              <a:ext cx="90720" cy="271440"/>
              <a:chOff x="1876320" y="4765680"/>
              <a:chExt cx="90720" cy="271440"/>
            </a:xfrm>
          </p:grpSpPr>
          <p:sp>
            <p:nvSpPr>
              <p:cNvPr id="314" name=""/>
              <p:cNvSpPr/>
              <p:nvPr/>
            </p:nvSpPr>
            <p:spPr>
              <a:xfrm>
                <a:off x="1876320" y="4765680"/>
                <a:ext cx="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920960" y="4765680"/>
                <a:ext cx="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967040" y="4765680"/>
                <a:ext cx="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1770120" y="4587840"/>
              <a:ext cx="28548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arte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4R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495440" y="4586400"/>
            <a:ext cx="285480" cy="450720"/>
            <a:chOff x="1495440" y="4586400"/>
            <a:chExt cx="285480" cy="450720"/>
          </a:xfrm>
        </p:grpSpPr>
        <p:sp>
          <p:nvSpPr>
            <p:cNvPr id="319" name=""/>
            <p:cNvSpPr/>
            <p:nvPr/>
          </p:nvSpPr>
          <p:spPr>
            <a:xfrm>
              <a:off x="1515960" y="4586400"/>
              <a:ext cx="216000" cy="169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601640" y="4765680"/>
              <a:ext cx="90720" cy="271440"/>
              <a:chOff x="1601640" y="4765680"/>
              <a:chExt cx="90720" cy="271440"/>
            </a:xfrm>
          </p:grpSpPr>
          <p:sp>
            <p:nvSpPr>
              <p:cNvPr id="321" name=""/>
              <p:cNvSpPr/>
              <p:nvPr/>
            </p:nvSpPr>
            <p:spPr>
              <a:xfrm>
                <a:off x="1601640" y="4765680"/>
                <a:ext cx="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647720" y="4765680"/>
                <a:ext cx="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92360" y="4765680"/>
                <a:ext cx="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1495440" y="4587840"/>
              <a:ext cx="28548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artes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4R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933560" y="3622680"/>
            <a:ext cx="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2880" y="3763800"/>
            <a:ext cx="5522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aison MM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62880" y="271620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73880" y="271620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87760" y="385920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69360" y="3859200"/>
            <a:ext cx="4896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73880" y="385920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1200" y="1835280"/>
            <a:ext cx="682560" cy="26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117240" y="2108160"/>
            <a:ext cx="293400" cy="199080"/>
            <a:chOff x="3117240" y="2108160"/>
            <a:chExt cx="293400" cy="199080"/>
          </a:xfrm>
        </p:grpSpPr>
        <p:sp>
          <p:nvSpPr>
            <p:cNvPr id="334" name=""/>
            <p:cNvSpPr/>
            <p:nvPr/>
          </p:nvSpPr>
          <p:spPr>
            <a:xfrm>
              <a:off x="3157560" y="2143080"/>
              <a:ext cx="201600" cy="12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17240" y="2108160"/>
              <a:ext cx="293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054600" y="1819440"/>
            <a:ext cx="822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 u="sng">
                <a:solidFill>
                  <a:srgbClr val="000000"/>
                </a:solidFill>
                <a:uFillTx/>
                <a:latin typeface="Arial"/>
              </a:rPr>
              <a:t>Répart.S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0240" y="2278080"/>
            <a:ext cx="0" cy="20844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44680" y="385596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477600" y="2108160"/>
            <a:ext cx="293400" cy="199080"/>
            <a:chOff x="3477600" y="2108160"/>
            <a:chExt cx="293400" cy="199080"/>
          </a:xfrm>
        </p:grpSpPr>
        <p:sp>
          <p:nvSpPr>
            <p:cNvPr id="340" name=""/>
            <p:cNvSpPr/>
            <p:nvPr/>
          </p:nvSpPr>
          <p:spPr>
            <a:xfrm>
              <a:off x="3519360" y="2143080"/>
              <a:ext cx="201600" cy="12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77600" y="2108160"/>
              <a:ext cx="293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616200" y="2276640"/>
            <a:ext cx="0" cy="20952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602080" y="3741840"/>
            <a:ext cx="558360" cy="183960"/>
            <a:chOff x="2602080" y="3741840"/>
            <a:chExt cx="558360" cy="183960"/>
          </a:xfrm>
        </p:grpSpPr>
        <p:sp>
          <p:nvSpPr>
            <p:cNvPr id="344" name=""/>
            <p:cNvSpPr/>
            <p:nvPr/>
          </p:nvSpPr>
          <p:spPr>
            <a:xfrm>
              <a:off x="2684520" y="3778200"/>
              <a:ext cx="398520" cy="10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02080" y="3741840"/>
              <a:ext cx="5583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UPT230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990720" y="2746440"/>
            <a:ext cx="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3600" y="3200400"/>
            <a:ext cx="11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97120" y="272088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45520" y="1990800"/>
            <a:ext cx="987120" cy="434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440120" y="2219400"/>
            <a:ext cx="293400" cy="199080"/>
            <a:chOff x="7440120" y="2219400"/>
            <a:chExt cx="293400" cy="199080"/>
          </a:xfrm>
        </p:grpSpPr>
        <p:sp>
          <p:nvSpPr>
            <p:cNvPr id="351" name=""/>
            <p:cNvSpPr/>
            <p:nvPr/>
          </p:nvSpPr>
          <p:spPr>
            <a:xfrm>
              <a:off x="7481880" y="2254320"/>
              <a:ext cx="201600" cy="12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40120" y="2219400"/>
              <a:ext cx="293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7467120" y="1996920"/>
            <a:ext cx="969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 u="sng">
                <a:solidFill>
                  <a:srgbClr val="000000"/>
                </a:solidFill>
                <a:uFillTx/>
                <a:latin typeface="Arial"/>
              </a:rPr>
              <a:t>Répart.Géné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8160120" y="2219400"/>
            <a:ext cx="297720" cy="199080"/>
            <a:chOff x="8160120" y="2219400"/>
            <a:chExt cx="297720" cy="199080"/>
          </a:xfrm>
        </p:grpSpPr>
        <p:sp>
          <p:nvSpPr>
            <p:cNvPr id="355" name=""/>
            <p:cNvSpPr/>
            <p:nvPr/>
          </p:nvSpPr>
          <p:spPr>
            <a:xfrm>
              <a:off x="8205840" y="2254320"/>
              <a:ext cx="201600" cy="12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60120" y="2219400"/>
              <a:ext cx="2977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7798320" y="5033880"/>
            <a:ext cx="297720" cy="199080"/>
            <a:chOff x="7798320" y="5033880"/>
            <a:chExt cx="297720" cy="199080"/>
          </a:xfrm>
        </p:grpSpPr>
        <p:sp>
          <p:nvSpPr>
            <p:cNvPr id="358" name=""/>
            <p:cNvSpPr/>
            <p:nvPr/>
          </p:nvSpPr>
          <p:spPr>
            <a:xfrm>
              <a:off x="7843680" y="5068800"/>
              <a:ext cx="201600" cy="1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98320" y="5033880"/>
              <a:ext cx="2977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7940520" y="520848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55840" y="2714760"/>
            <a:ext cx="493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29800" y="3862440"/>
            <a:ext cx="441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p 0.2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68720" y="2714760"/>
            <a:ext cx="441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p 9/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743480" y="2598840"/>
            <a:ext cx="613440" cy="183960"/>
            <a:chOff x="1743480" y="2598840"/>
            <a:chExt cx="613440" cy="183960"/>
          </a:xfrm>
        </p:grpSpPr>
        <p:sp>
          <p:nvSpPr>
            <p:cNvPr id="365" name=""/>
            <p:cNvSpPr/>
            <p:nvPr/>
          </p:nvSpPr>
          <p:spPr>
            <a:xfrm>
              <a:off x="1827360" y="2635200"/>
              <a:ext cx="468000" cy="10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43480" y="2598840"/>
              <a:ext cx="613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FEU014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0077480" y="2746440"/>
            <a:ext cx="0" cy="239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074240" y="2336760"/>
            <a:ext cx="1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0080720" y="512928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0187640" y="1828800"/>
            <a:ext cx="267120" cy="216000"/>
            <a:chOff x="10187640" y="1828800"/>
            <a:chExt cx="267120" cy="216000"/>
          </a:xfrm>
        </p:grpSpPr>
        <p:sp>
          <p:nvSpPr>
            <p:cNvPr id="371" name=""/>
            <p:cNvSpPr/>
            <p:nvPr/>
          </p:nvSpPr>
          <p:spPr>
            <a:xfrm>
              <a:off x="10187640" y="1838520"/>
              <a:ext cx="26712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ar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225080" y="18288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9613800" y="1940040"/>
            <a:ext cx="0" cy="19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617040" y="194616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960120" y="1371600"/>
            <a:ext cx="1873080" cy="38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491480" y="1339920"/>
            <a:ext cx="6861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MSI TEN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0184400" y="1449360"/>
            <a:ext cx="267120" cy="216000"/>
            <a:chOff x="10184400" y="1449360"/>
            <a:chExt cx="267120" cy="216000"/>
          </a:xfrm>
        </p:grpSpPr>
        <p:sp>
          <p:nvSpPr>
            <p:cNvPr id="378" name=""/>
            <p:cNvSpPr/>
            <p:nvPr/>
          </p:nvSpPr>
          <p:spPr>
            <a:xfrm>
              <a:off x="10184400" y="1459080"/>
              <a:ext cx="26712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art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221840" y="1449360"/>
              <a:ext cx="2152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749160" y="1682640"/>
            <a:ext cx="1739880" cy="35625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92520" y="1708200"/>
            <a:ext cx="1476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LLE DE VEILLE S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937800" y="3238560"/>
            <a:ext cx="17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938160" y="2544840"/>
            <a:ext cx="0" cy="69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46080" y="2548080"/>
            <a:ext cx="913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072800" y="2336760"/>
            <a:ext cx="0" cy="21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67560" y="251604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278920" y="2516040"/>
            <a:ext cx="4896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748520" y="2403360"/>
            <a:ext cx="613440" cy="183960"/>
            <a:chOff x="1748520" y="2403360"/>
            <a:chExt cx="613440" cy="183960"/>
          </a:xfrm>
        </p:grpSpPr>
        <p:sp>
          <p:nvSpPr>
            <p:cNvPr id="389" name=""/>
            <p:cNvSpPr/>
            <p:nvPr/>
          </p:nvSpPr>
          <p:spPr>
            <a:xfrm>
              <a:off x="1832040" y="2440080"/>
              <a:ext cx="468360" cy="10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48520" y="2403360"/>
              <a:ext cx="613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FEU014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1349640" y="2509920"/>
            <a:ext cx="441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p 9/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87760" y="2521080"/>
            <a:ext cx="493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46480" y="251460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038480" y="2038320"/>
            <a:ext cx="616320" cy="183960"/>
            <a:chOff x="4038480" y="2038320"/>
            <a:chExt cx="616320" cy="183960"/>
          </a:xfrm>
        </p:grpSpPr>
        <p:sp>
          <p:nvSpPr>
            <p:cNvPr id="395" name=""/>
            <p:cNvSpPr/>
            <p:nvPr/>
          </p:nvSpPr>
          <p:spPr>
            <a:xfrm>
              <a:off x="4119480" y="2075040"/>
              <a:ext cx="468360" cy="10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38480" y="2038320"/>
              <a:ext cx="616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PAR00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3995640" y="2316240"/>
            <a:ext cx="74880" cy="162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030200" y="2190600"/>
            <a:ext cx="8748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325160" y="166536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139560" y="5099040"/>
            <a:ext cx="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396960" y="4965840"/>
            <a:ext cx="0" cy="71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289200" y="5672160"/>
            <a:ext cx="610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921800" y="5645160"/>
            <a:ext cx="4896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7115040" y="6110280"/>
            <a:ext cx="549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807680" y="5729400"/>
            <a:ext cx="297720" cy="199080"/>
            <a:chOff x="7807680" y="5729400"/>
            <a:chExt cx="297720" cy="199080"/>
          </a:xfrm>
        </p:grpSpPr>
        <p:sp>
          <p:nvSpPr>
            <p:cNvPr id="406" name=""/>
            <p:cNvSpPr/>
            <p:nvPr/>
          </p:nvSpPr>
          <p:spPr>
            <a:xfrm>
              <a:off x="7853400" y="5764320"/>
              <a:ext cx="201600" cy="125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07680" y="5729400"/>
              <a:ext cx="2977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7950240" y="5899320"/>
            <a:ext cx="0" cy="3776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935840" y="608796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278920" y="5483160"/>
            <a:ext cx="4896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278920" y="6078600"/>
            <a:ext cx="4896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606480" y="482760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74040" y="5487840"/>
            <a:ext cx="4896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278920" y="5645160"/>
            <a:ext cx="4896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8890560" y="2222640"/>
            <a:ext cx="613440" cy="183960"/>
            <a:chOff x="8890560" y="2222640"/>
            <a:chExt cx="613440" cy="183960"/>
          </a:xfrm>
        </p:grpSpPr>
        <p:sp>
          <p:nvSpPr>
            <p:cNvPr id="416" name=""/>
            <p:cNvSpPr/>
            <p:nvPr/>
          </p:nvSpPr>
          <p:spPr>
            <a:xfrm>
              <a:off x="8974080" y="2259000"/>
              <a:ext cx="468360" cy="10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890560" y="2222640"/>
              <a:ext cx="613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FEU100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8850240" y="2525760"/>
            <a:ext cx="68400" cy="362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8884800" y="2374920"/>
            <a:ext cx="8748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031320" y="2332080"/>
            <a:ext cx="441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p 6/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01480" y="2157480"/>
            <a:ext cx="483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5p 6/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350040" y="2222640"/>
            <a:ext cx="616320" cy="183960"/>
            <a:chOff x="6350040" y="2222640"/>
            <a:chExt cx="616320" cy="183960"/>
          </a:xfrm>
        </p:grpSpPr>
        <p:sp>
          <p:nvSpPr>
            <p:cNvPr id="423" name=""/>
            <p:cNvSpPr/>
            <p:nvPr/>
          </p:nvSpPr>
          <p:spPr>
            <a:xfrm>
              <a:off x="6432480" y="2259000"/>
              <a:ext cx="468360" cy="10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50040" y="2222640"/>
              <a:ext cx="616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PAR000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flipH="1">
            <a:off x="6343200" y="2374920"/>
            <a:ext cx="8748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51920" y="2332080"/>
            <a:ext cx="483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6p 8/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46720" y="496404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057640" y="52610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91000" y="5261040"/>
            <a:ext cx="0" cy="3776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268520" y="4869000"/>
            <a:ext cx="538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Liason MM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005760" y="3763800"/>
            <a:ext cx="538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Liason MM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48320" y="1603440"/>
            <a:ext cx="0" cy="3073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279600" y="4667400"/>
            <a:ext cx="136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4680000"/>
            <a:ext cx="0" cy="295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79600" y="7639200"/>
            <a:ext cx="2816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51200" y="1600200"/>
            <a:ext cx="1444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5880" y="1603440"/>
            <a:ext cx="0" cy="6035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727520" y="1631880"/>
            <a:ext cx="1263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LLE TECHNI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45360" y="1168560"/>
            <a:ext cx="6375240" cy="5321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947160" y="1136520"/>
            <a:ext cx="1282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CAL TECHNI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299280" y="5667480"/>
            <a:ext cx="0" cy="30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124760" y="6111720"/>
            <a:ext cx="0" cy="266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61720" y="8791560"/>
            <a:ext cx="99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ngar AS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ynthèse BB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41360" y="8791560"/>
            <a:ext cx="99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ngar D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ynthèse BB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99280" y="8524800"/>
            <a:ext cx="0" cy="17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124760" y="8559720"/>
            <a:ext cx="0" cy="17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2931920" y="2292480"/>
            <a:ext cx="104760" cy="1069920"/>
            <a:chOff x="12931920" y="2292480"/>
            <a:chExt cx="104760" cy="1069920"/>
          </a:xfrm>
        </p:grpSpPr>
        <p:grpSp>
          <p:nvGrpSpPr>
            <p:cNvPr id="448" name=""/>
            <p:cNvGrpSpPr/>
            <p:nvPr/>
          </p:nvGrpSpPr>
          <p:grpSpPr>
            <a:xfrm>
              <a:off x="12934800" y="2432160"/>
              <a:ext cx="95400" cy="101520"/>
              <a:chOff x="12934800" y="2432160"/>
              <a:chExt cx="95400" cy="101520"/>
            </a:xfrm>
          </p:grpSpPr>
          <p:sp>
            <p:nvSpPr>
              <p:cNvPr id="449" name=""/>
              <p:cNvSpPr/>
              <p:nvPr/>
            </p:nvSpPr>
            <p:spPr>
              <a:xfrm>
                <a:off x="12934800" y="2432160"/>
                <a:ext cx="9540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939840" y="2460600"/>
                <a:ext cx="8892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12952440" y="2444760"/>
                <a:ext cx="684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12931920" y="2292480"/>
              <a:ext cx="95040" cy="101520"/>
              <a:chOff x="12931920" y="2292480"/>
              <a:chExt cx="95040" cy="101520"/>
            </a:xfrm>
          </p:grpSpPr>
          <p:sp>
            <p:nvSpPr>
              <p:cNvPr id="453" name=""/>
              <p:cNvSpPr/>
              <p:nvPr/>
            </p:nvSpPr>
            <p:spPr>
              <a:xfrm>
                <a:off x="12931920" y="2292480"/>
                <a:ext cx="9504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2936600" y="2320920"/>
                <a:ext cx="8892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2949200" y="2305080"/>
                <a:ext cx="684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12934800" y="2568600"/>
              <a:ext cx="95400" cy="101520"/>
              <a:chOff x="12934800" y="2568600"/>
              <a:chExt cx="95400" cy="101520"/>
            </a:xfrm>
          </p:grpSpPr>
          <p:sp>
            <p:nvSpPr>
              <p:cNvPr id="457" name=""/>
              <p:cNvSpPr/>
              <p:nvPr/>
            </p:nvSpPr>
            <p:spPr>
              <a:xfrm>
                <a:off x="12934800" y="2568600"/>
                <a:ext cx="9540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939840" y="2597040"/>
                <a:ext cx="8892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12952440" y="2581200"/>
                <a:ext cx="6840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2936600" y="2708280"/>
              <a:ext cx="95040" cy="101520"/>
              <a:chOff x="12936600" y="2708280"/>
              <a:chExt cx="95040" cy="101520"/>
            </a:xfrm>
          </p:grpSpPr>
          <p:sp>
            <p:nvSpPr>
              <p:cNvPr id="461" name=""/>
              <p:cNvSpPr/>
              <p:nvPr/>
            </p:nvSpPr>
            <p:spPr>
              <a:xfrm>
                <a:off x="12936600" y="2708280"/>
                <a:ext cx="9504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2941280" y="2736720"/>
                <a:ext cx="8892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12953880" y="2720880"/>
                <a:ext cx="6840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12936600" y="2844720"/>
              <a:ext cx="100080" cy="517680"/>
              <a:chOff x="12936600" y="2844720"/>
              <a:chExt cx="100080" cy="51768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12939840" y="2984400"/>
                <a:ext cx="95040" cy="101880"/>
                <a:chOff x="12939840" y="2984400"/>
                <a:chExt cx="95040" cy="1018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2939840" y="2984400"/>
                  <a:ext cx="95040" cy="101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2944520" y="3013200"/>
                  <a:ext cx="88920" cy="4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12957120" y="2997360"/>
                  <a:ext cx="6840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12936600" y="2844720"/>
                <a:ext cx="95040" cy="101520"/>
                <a:chOff x="12936600" y="2844720"/>
                <a:chExt cx="95040" cy="1015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12936600" y="2844720"/>
                  <a:ext cx="95040" cy="101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2941280" y="2873520"/>
                  <a:ext cx="88920" cy="4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12953880" y="2857680"/>
                  <a:ext cx="6840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12939840" y="3121200"/>
                <a:ext cx="95040" cy="101520"/>
                <a:chOff x="12939840" y="3121200"/>
                <a:chExt cx="95040" cy="1015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12939840" y="3121200"/>
                  <a:ext cx="95040" cy="101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12944520" y="3149640"/>
                  <a:ext cx="88920" cy="4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12957120" y="3133800"/>
                  <a:ext cx="6840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12941280" y="3260880"/>
                <a:ext cx="95400" cy="101520"/>
                <a:chOff x="12941280" y="3260880"/>
                <a:chExt cx="95400" cy="1015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12941280" y="3260880"/>
                  <a:ext cx="95400" cy="101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12945960" y="3289320"/>
                  <a:ext cx="88920" cy="44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12958560" y="3273480"/>
                  <a:ext cx="6804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1" name=""/>
          <p:cNvGrpSpPr/>
          <p:nvPr/>
        </p:nvGrpSpPr>
        <p:grpSpPr>
          <a:xfrm>
            <a:off x="12928680" y="3571920"/>
            <a:ext cx="100080" cy="517320"/>
            <a:chOff x="12928680" y="3571920"/>
            <a:chExt cx="100080" cy="517320"/>
          </a:xfrm>
        </p:grpSpPr>
        <p:grpSp>
          <p:nvGrpSpPr>
            <p:cNvPr id="482" name=""/>
            <p:cNvGrpSpPr/>
            <p:nvPr/>
          </p:nvGrpSpPr>
          <p:grpSpPr>
            <a:xfrm>
              <a:off x="12931920" y="3711600"/>
              <a:ext cx="95040" cy="101520"/>
              <a:chOff x="12931920" y="3711600"/>
              <a:chExt cx="95040" cy="101520"/>
            </a:xfrm>
          </p:grpSpPr>
          <p:sp>
            <p:nvSpPr>
              <p:cNvPr id="483" name=""/>
              <p:cNvSpPr/>
              <p:nvPr/>
            </p:nvSpPr>
            <p:spPr>
              <a:xfrm>
                <a:off x="12931920" y="3711600"/>
                <a:ext cx="9504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2936600" y="3740040"/>
                <a:ext cx="8892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12949200" y="3724200"/>
                <a:ext cx="6840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12928680" y="3571920"/>
              <a:ext cx="95040" cy="101520"/>
              <a:chOff x="12928680" y="3571920"/>
              <a:chExt cx="95040" cy="101520"/>
            </a:xfrm>
          </p:grpSpPr>
          <p:sp>
            <p:nvSpPr>
              <p:cNvPr id="487" name=""/>
              <p:cNvSpPr/>
              <p:nvPr/>
            </p:nvSpPr>
            <p:spPr>
              <a:xfrm>
                <a:off x="12928680" y="3571920"/>
                <a:ext cx="9504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2933360" y="3600360"/>
                <a:ext cx="8892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12945960" y="3584520"/>
                <a:ext cx="6840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12931920" y="3848040"/>
              <a:ext cx="95040" cy="101520"/>
              <a:chOff x="12931920" y="3848040"/>
              <a:chExt cx="95040" cy="101520"/>
            </a:xfrm>
          </p:grpSpPr>
          <p:sp>
            <p:nvSpPr>
              <p:cNvPr id="491" name=""/>
              <p:cNvSpPr/>
              <p:nvPr/>
            </p:nvSpPr>
            <p:spPr>
              <a:xfrm>
                <a:off x="12931920" y="3848040"/>
                <a:ext cx="9504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2936600" y="3876840"/>
                <a:ext cx="8892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12949200" y="3860640"/>
                <a:ext cx="6840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12933360" y="3987720"/>
              <a:ext cx="95400" cy="101520"/>
              <a:chOff x="12933360" y="3987720"/>
              <a:chExt cx="95400" cy="101520"/>
            </a:xfrm>
          </p:grpSpPr>
          <p:sp>
            <p:nvSpPr>
              <p:cNvPr id="495" name=""/>
              <p:cNvSpPr/>
              <p:nvPr/>
            </p:nvSpPr>
            <p:spPr>
              <a:xfrm>
                <a:off x="12933360" y="3987720"/>
                <a:ext cx="9540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2938040" y="4016520"/>
                <a:ext cx="8892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12950640" y="4000680"/>
                <a:ext cx="6804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8" name=""/>
          <p:cNvSpPr/>
          <p:nvPr/>
        </p:nvSpPr>
        <p:spPr>
          <a:xfrm>
            <a:off x="13144680" y="22892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3080600" y="227664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13080600" y="410544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76120" y="787320"/>
            <a:ext cx="100080" cy="517680"/>
            <a:chOff x="276120" y="787320"/>
            <a:chExt cx="100080" cy="517680"/>
          </a:xfrm>
        </p:grpSpPr>
        <p:grpSp>
          <p:nvGrpSpPr>
            <p:cNvPr id="502" name=""/>
            <p:cNvGrpSpPr/>
            <p:nvPr/>
          </p:nvGrpSpPr>
          <p:grpSpPr>
            <a:xfrm>
              <a:off x="279360" y="927000"/>
              <a:ext cx="95400" cy="101880"/>
              <a:chOff x="279360" y="927000"/>
              <a:chExt cx="95400" cy="101880"/>
            </a:xfrm>
          </p:grpSpPr>
          <p:sp>
            <p:nvSpPr>
              <p:cNvPr id="503" name=""/>
              <p:cNvSpPr/>
              <p:nvPr/>
            </p:nvSpPr>
            <p:spPr>
              <a:xfrm>
                <a:off x="279360" y="927000"/>
                <a:ext cx="95400" cy="101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84040" y="955800"/>
                <a:ext cx="8892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296640" y="939960"/>
                <a:ext cx="6804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76120" y="787320"/>
              <a:ext cx="95400" cy="101520"/>
              <a:chOff x="276120" y="787320"/>
              <a:chExt cx="95400" cy="101520"/>
            </a:xfrm>
          </p:grpSpPr>
          <p:sp>
            <p:nvSpPr>
              <p:cNvPr id="507" name=""/>
              <p:cNvSpPr/>
              <p:nvPr/>
            </p:nvSpPr>
            <p:spPr>
              <a:xfrm>
                <a:off x="276120" y="787320"/>
                <a:ext cx="9540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81160" y="816120"/>
                <a:ext cx="8856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93400" y="800280"/>
                <a:ext cx="6804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279360" y="1063800"/>
              <a:ext cx="95400" cy="101520"/>
              <a:chOff x="279360" y="1063800"/>
              <a:chExt cx="95400" cy="101520"/>
            </a:xfrm>
          </p:grpSpPr>
          <p:sp>
            <p:nvSpPr>
              <p:cNvPr id="511" name=""/>
              <p:cNvSpPr/>
              <p:nvPr/>
            </p:nvSpPr>
            <p:spPr>
              <a:xfrm>
                <a:off x="279360" y="1063800"/>
                <a:ext cx="9540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4040" y="1092240"/>
                <a:ext cx="8892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296640" y="1076400"/>
                <a:ext cx="6804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281160" y="1203480"/>
              <a:ext cx="95040" cy="101520"/>
              <a:chOff x="281160" y="1203480"/>
              <a:chExt cx="95040" cy="101520"/>
            </a:xfrm>
          </p:grpSpPr>
          <p:sp>
            <p:nvSpPr>
              <p:cNvPr id="515" name=""/>
              <p:cNvSpPr/>
              <p:nvPr/>
            </p:nvSpPr>
            <p:spPr>
              <a:xfrm>
                <a:off x="281160" y="1203480"/>
                <a:ext cx="9504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5840" y="1231920"/>
                <a:ext cx="8892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298440" y="1216080"/>
                <a:ext cx="684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8" name=""/>
          <p:cNvSpPr/>
          <p:nvPr/>
        </p:nvSpPr>
        <p:spPr>
          <a:xfrm>
            <a:off x="336600" y="3495600"/>
            <a:ext cx="76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0120" y="668160"/>
            <a:ext cx="193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23800" y="679320"/>
            <a:ext cx="0" cy="276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7040" y="3454560"/>
            <a:ext cx="58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3360" y="1467000"/>
            <a:ext cx="0" cy="127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3360" y="2200320"/>
            <a:ext cx="0" cy="12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85840" y="2270160"/>
            <a:ext cx="100080" cy="517320"/>
            <a:chOff x="285840" y="2270160"/>
            <a:chExt cx="100080" cy="517320"/>
          </a:xfrm>
        </p:grpSpPr>
        <p:grpSp>
          <p:nvGrpSpPr>
            <p:cNvPr id="525" name=""/>
            <p:cNvGrpSpPr/>
            <p:nvPr/>
          </p:nvGrpSpPr>
          <p:grpSpPr>
            <a:xfrm>
              <a:off x="289080" y="2409840"/>
              <a:ext cx="95040" cy="101520"/>
              <a:chOff x="289080" y="2409840"/>
              <a:chExt cx="95040" cy="101520"/>
            </a:xfrm>
          </p:grpSpPr>
          <p:sp>
            <p:nvSpPr>
              <p:cNvPr id="526" name=""/>
              <p:cNvSpPr/>
              <p:nvPr/>
            </p:nvSpPr>
            <p:spPr>
              <a:xfrm>
                <a:off x="289080" y="2409840"/>
                <a:ext cx="9504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93760" y="2438280"/>
                <a:ext cx="8892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306360" y="2422440"/>
                <a:ext cx="6840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285840" y="2270160"/>
              <a:ext cx="95040" cy="101520"/>
              <a:chOff x="285840" y="2270160"/>
              <a:chExt cx="95040" cy="101520"/>
            </a:xfrm>
          </p:grpSpPr>
          <p:sp>
            <p:nvSpPr>
              <p:cNvPr id="530" name=""/>
              <p:cNvSpPr/>
              <p:nvPr/>
            </p:nvSpPr>
            <p:spPr>
              <a:xfrm>
                <a:off x="285840" y="2270160"/>
                <a:ext cx="9504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90520" y="2298600"/>
                <a:ext cx="8892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303120" y="2282760"/>
                <a:ext cx="6840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289080" y="2546280"/>
              <a:ext cx="95040" cy="101520"/>
              <a:chOff x="289080" y="2546280"/>
              <a:chExt cx="95040" cy="101520"/>
            </a:xfrm>
          </p:grpSpPr>
          <p:sp>
            <p:nvSpPr>
              <p:cNvPr id="534" name=""/>
              <p:cNvSpPr/>
              <p:nvPr/>
            </p:nvSpPr>
            <p:spPr>
              <a:xfrm>
                <a:off x="289080" y="2546280"/>
                <a:ext cx="9504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3760" y="2575080"/>
                <a:ext cx="8892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306360" y="2558880"/>
                <a:ext cx="6840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290520" y="2685960"/>
              <a:ext cx="95400" cy="101520"/>
              <a:chOff x="290520" y="2685960"/>
              <a:chExt cx="95400" cy="101520"/>
            </a:xfrm>
          </p:grpSpPr>
          <p:sp>
            <p:nvSpPr>
              <p:cNvPr id="538" name=""/>
              <p:cNvSpPr/>
              <p:nvPr/>
            </p:nvSpPr>
            <p:spPr>
              <a:xfrm>
                <a:off x="290520" y="2685960"/>
                <a:ext cx="9540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5200" y="2714760"/>
                <a:ext cx="88920" cy="4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307800" y="2698920"/>
                <a:ext cx="6840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1" name=""/>
          <p:cNvGrpSpPr/>
          <p:nvPr/>
        </p:nvGrpSpPr>
        <p:grpSpPr>
          <a:xfrm>
            <a:off x="193680" y="2831040"/>
            <a:ext cx="183960" cy="613440"/>
            <a:chOff x="193680" y="2831040"/>
            <a:chExt cx="183960" cy="613440"/>
          </a:xfrm>
        </p:grpSpPr>
        <p:sp>
          <p:nvSpPr>
            <p:cNvPr id="542" name=""/>
            <p:cNvSpPr/>
            <p:nvPr/>
          </p:nvSpPr>
          <p:spPr>
            <a:xfrm>
              <a:off x="230040" y="2894040"/>
              <a:ext cx="101880" cy="46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16200000">
              <a:off x="-20880" y="3045600"/>
              <a:ext cx="613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FEU013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84120" y="2843640"/>
            <a:ext cx="183960" cy="613440"/>
            <a:chOff x="384120" y="2843640"/>
            <a:chExt cx="183960" cy="613440"/>
          </a:xfrm>
        </p:grpSpPr>
        <p:sp>
          <p:nvSpPr>
            <p:cNvPr id="545" name=""/>
            <p:cNvSpPr/>
            <p:nvPr/>
          </p:nvSpPr>
          <p:spPr>
            <a:xfrm>
              <a:off x="420840" y="2906640"/>
              <a:ext cx="101520" cy="46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6200000">
              <a:off x="169200" y="3058200"/>
              <a:ext cx="613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FEU014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38880" y="2666880"/>
            <a:ext cx="317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1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120" y="2523960"/>
            <a:ext cx="317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10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20" y="755640"/>
            <a:ext cx="317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17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0" y="892080"/>
            <a:ext cx="317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17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680" y="147600"/>
            <a:ext cx="75816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Ligne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éte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Arial"/>
              </a:rPr>
              <a:t>Bloc Techniqu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(73 détecteur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6 déclancheur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885240" y="8096400"/>
          <a:ext cx="3816360" cy="179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5240" y="8096400"/>
                    <a:ext cx="3816360" cy="17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3240" y="7905600"/>
            <a:ext cx="1371132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86640" y="403200"/>
            <a:ext cx="0" cy="75024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02640" y="498600"/>
            <a:ext cx="195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TNA     AEROG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960" y="491508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961920" y="5099040"/>
            <a:ext cx="2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39760" y="518796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38280" y="5567760"/>
            <a:ext cx="183960" cy="613440"/>
            <a:chOff x="638280" y="5567760"/>
            <a:chExt cx="183960" cy="613440"/>
          </a:xfrm>
        </p:grpSpPr>
        <p:sp>
          <p:nvSpPr>
            <p:cNvPr id="561" name=""/>
            <p:cNvSpPr/>
            <p:nvPr/>
          </p:nvSpPr>
          <p:spPr>
            <a:xfrm>
              <a:off x="674640" y="5630760"/>
              <a:ext cx="101520" cy="46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6200000">
              <a:off x="423360" y="5782320"/>
              <a:ext cx="613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FEU013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822240" y="5574240"/>
            <a:ext cx="183960" cy="613440"/>
            <a:chOff x="822240" y="5574240"/>
            <a:chExt cx="183960" cy="613440"/>
          </a:xfrm>
        </p:grpSpPr>
        <p:sp>
          <p:nvSpPr>
            <p:cNvPr id="564" name=""/>
            <p:cNvSpPr/>
            <p:nvPr/>
          </p:nvSpPr>
          <p:spPr>
            <a:xfrm>
              <a:off x="858960" y="5637240"/>
              <a:ext cx="101520" cy="46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200000">
              <a:off x="607320" y="5788800"/>
              <a:ext cx="613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FEU013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000080" y="5586840"/>
            <a:ext cx="183960" cy="613440"/>
            <a:chOff x="1000080" y="5586840"/>
            <a:chExt cx="183960" cy="613440"/>
          </a:xfrm>
        </p:grpSpPr>
        <p:sp>
          <p:nvSpPr>
            <p:cNvPr id="567" name=""/>
            <p:cNvSpPr/>
            <p:nvPr/>
          </p:nvSpPr>
          <p:spPr>
            <a:xfrm>
              <a:off x="1036800" y="5649840"/>
              <a:ext cx="101520" cy="46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6200000">
              <a:off x="785160" y="5801400"/>
              <a:ext cx="613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FEU015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4793400" y="6576840"/>
            <a:ext cx="549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Synthès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détection fe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shelter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03680" y="6718320"/>
            <a:ext cx="82800" cy="38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5840" y="6743880"/>
            <a:ext cx="15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6156360" y="6222240"/>
            <a:ext cx="183960" cy="616320"/>
            <a:chOff x="6156360" y="6222240"/>
            <a:chExt cx="183960" cy="616320"/>
          </a:xfrm>
        </p:grpSpPr>
        <p:sp>
          <p:nvSpPr>
            <p:cNvPr id="573" name=""/>
            <p:cNvSpPr/>
            <p:nvPr/>
          </p:nvSpPr>
          <p:spPr>
            <a:xfrm>
              <a:off x="6194520" y="6254640"/>
              <a:ext cx="98280" cy="503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6200000">
              <a:off x="5940000" y="6438240"/>
              <a:ext cx="616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PAR100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975360" y="6496920"/>
            <a:ext cx="183960" cy="616320"/>
            <a:chOff x="6975360" y="6496920"/>
            <a:chExt cx="183960" cy="616320"/>
          </a:xfrm>
        </p:grpSpPr>
        <p:sp>
          <p:nvSpPr>
            <p:cNvPr id="576" name=""/>
            <p:cNvSpPr/>
            <p:nvPr/>
          </p:nvSpPr>
          <p:spPr>
            <a:xfrm>
              <a:off x="7013520" y="6508800"/>
              <a:ext cx="104760" cy="52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6200000">
              <a:off x="6759000" y="6712920"/>
              <a:ext cx="616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PAR100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 rot="16200000">
            <a:off x="6145920" y="6431760"/>
            <a:ext cx="483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8p 8/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16200000">
            <a:off x="6952320" y="6755400"/>
            <a:ext cx="483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8p 8/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40040" y="3886200"/>
            <a:ext cx="30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09960" y="4294080"/>
            <a:ext cx="215640" cy="16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76480" y="4264200"/>
            <a:ext cx="2854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5440" rIns="55440" tIns="27000" bIns="27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art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8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10000" y="2384280"/>
            <a:ext cx="0" cy="198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27400" y="436896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06760" y="2387520"/>
            <a:ext cx="35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16600" y="812880"/>
            <a:ext cx="73656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87760" y="2362320"/>
            <a:ext cx="493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46480" y="2355840"/>
            <a:ext cx="4932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308640" y="2525760"/>
            <a:ext cx="34920" cy="3030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178680" y="1271520"/>
            <a:ext cx="0" cy="11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4819320" y="1270080"/>
            <a:ext cx="13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083920" y="996840"/>
            <a:ext cx="244440" cy="199080"/>
            <a:chOff x="5083920" y="996840"/>
            <a:chExt cx="244440" cy="199080"/>
          </a:xfrm>
        </p:grpSpPr>
        <p:sp>
          <p:nvSpPr>
            <p:cNvPr id="593" name=""/>
            <p:cNvSpPr/>
            <p:nvPr/>
          </p:nvSpPr>
          <p:spPr>
            <a:xfrm>
              <a:off x="5100480" y="1031760"/>
              <a:ext cx="201600" cy="1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83920" y="996840"/>
              <a:ext cx="244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5213520" y="1166760"/>
            <a:ext cx="0" cy="2620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5444280" y="996840"/>
            <a:ext cx="244440" cy="199080"/>
            <a:chOff x="5444280" y="996840"/>
            <a:chExt cx="244440" cy="199080"/>
          </a:xfrm>
        </p:grpSpPr>
        <p:sp>
          <p:nvSpPr>
            <p:cNvPr id="597" name=""/>
            <p:cNvSpPr/>
            <p:nvPr/>
          </p:nvSpPr>
          <p:spPr>
            <a:xfrm>
              <a:off x="5462640" y="1031760"/>
              <a:ext cx="201600" cy="1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44280" y="996840"/>
              <a:ext cx="244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5562720" y="1165320"/>
            <a:ext cx="2880" cy="2476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189400" y="1238400"/>
            <a:ext cx="493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538960" y="1238400"/>
            <a:ext cx="4896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972680" y="777960"/>
            <a:ext cx="8496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900" spc="-1" strike="noStrike" u="sng">
                <a:solidFill>
                  <a:srgbClr val="000000"/>
                </a:solidFill>
                <a:uFillTx/>
                <a:latin typeface="Arial"/>
              </a:rPr>
              <a:t>Répart. Vig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016600" y="2362320"/>
            <a:ext cx="4896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250240" y="2089080"/>
            <a:ext cx="302400" cy="199080"/>
            <a:chOff x="5250240" y="2089080"/>
            <a:chExt cx="302400" cy="199080"/>
          </a:xfrm>
        </p:grpSpPr>
        <p:sp>
          <p:nvSpPr>
            <p:cNvPr id="605" name=""/>
            <p:cNvSpPr/>
            <p:nvPr/>
          </p:nvSpPr>
          <p:spPr>
            <a:xfrm>
              <a:off x="5297400" y="2124000"/>
              <a:ext cx="201600" cy="12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50240" y="2089080"/>
              <a:ext cx="302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394240" y="2257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72280" y="2355840"/>
            <a:ext cx="48960" cy="49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2568240" y="2949840"/>
            <a:ext cx="183960" cy="613440"/>
            <a:chOff x="2568240" y="2949840"/>
            <a:chExt cx="183960" cy="613440"/>
          </a:xfrm>
        </p:grpSpPr>
        <p:sp>
          <p:nvSpPr>
            <p:cNvPr id="610" name=""/>
            <p:cNvSpPr/>
            <p:nvPr/>
          </p:nvSpPr>
          <p:spPr>
            <a:xfrm>
              <a:off x="2611440" y="3032280"/>
              <a:ext cx="101520" cy="46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5400000">
              <a:off x="2353320" y="3164400"/>
              <a:ext cx="613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FEU020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159000" y="201600"/>
            <a:ext cx="1374840" cy="731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428280" y="152280"/>
            <a:ext cx="7048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trappe d ’accè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" spc="-1" strike="noStrike" u="sng">
                <a:solidFill>
                  <a:srgbClr val="000000"/>
                </a:solidFill>
                <a:uFillTx/>
                <a:latin typeface="Arial"/>
              </a:rPr>
              <a:t>chausset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3576240" y="826920"/>
            <a:ext cx="163800" cy="68400"/>
            <a:chOff x="3576240" y="826920"/>
            <a:chExt cx="163800" cy="68400"/>
          </a:xfrm>
        </p:grpSpPr>
        <p:sp>
          <p:nvSpPr>
            <p:cNvPr id="615" name=""/>
            <p:cNvSpPr/>
            <p:nvPr/>
          </p:nvSpPr>
          <p:spPr>
            <a:xfrm>
              <a:off x="3576600" y="83196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576240" y="826920"/>
              <a:ext cx="363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607920" y="830160"/>
              <a:ext cx="363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3646080" y="826920"/>
              <a:ext cx="363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3690720" y="833400"/>
              <a:ext cx="367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657600" y="73512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3603240" y="623520"/>
            <a:ext cx="5868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54360" y="436680"/>
            <a:ext cx="0" cy="18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027320" y="403200"/>
            <a:ext cx="392400" cy="50760"/>
            <a:chOff x="4027320" y="403200"/>
            <a:chExt cx="392400" cy="50760"/>
          </a:xfrm>
        </p:grpSpPr>
        <p:sp>
          <p:nvSpPr>
            <p:cNvPr id="624" name=""/>
            <p:cNvSpPr/>
            <p:nvPr/>
          </p:nvSpPr>
          <p:spPr>
            <a:xfrm>
              <a:off x="4027320" y="438120"/>
              <a:ext cx="1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4129200" y="403200"/>
              <a:ext cx="187200" cy="50760"/>
              <a:chOff x="4129200" y="403200"/>
              <a:chExt cx="187200" cy="50760"/>
            </a:xfrm>
          </p:grpSpPr>
          <p:sp>
            <p:nvSpPr>
              <p:cNvPr id="626" name=""/>
              <p:cNvSpPr/>
              <p:nvPr/>
            </p:nvSpPr>
            <p:spPr>
              <a:xfrm>
                <a:off x="4151160" y="403200"/>
                <a:ext cx="1296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4165560" y="407880"/>
                <a:ext cx="2556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194000" y="407880"/>
                <a:ext cx="2412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4222800" y="409680"/>
                <a:ext cx="2376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48000" y="411120"/>
                <a:ext cx="2412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4273560" y="412560"/>
                <a:ext cx="22320" cy="3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303800" y="415800"/>
                <a:ext cx="126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4129200" y="407880"/>
                <a:ext cx="1728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4316400" y="438120"/>
              <a:ext cx="1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4340160" y="820800"/>
            <a:ext cx="163440" cy="68040"/>
            <a:chOff x="4340160" y="820800"/>
            <a:chExt cx="163440" cy="68040"/>
          </a:xfrm>
        </p:grpSpPr>
        <p:sp>
          <p:nvSpPr>
            <p:cNvPr id="636" name=""/>
            <p:cNvSpPr/>
            <p:nvPr/>
          </p:nvSpPr>
          <p:spPr>
            <a:xfrm>
              <a:off x="4340160" y="82548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4340160" y="820800"/>
              <a:ext cx="367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4371840" y="824040"/>
              <a:ext cx="367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410000" y="820800"/>
              <a:ext cx="367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4454280" y="826920"/>
              <a:ext cx="363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4401720" y="434880"/>
            <a:ext cx="50760" cy="392040"/>
            <a:chOff x="4401720" y="434880"/>
            <a:chExt cx="50760" cy="392040"/>
          </a:xfrm>
        </p:grpSpPr>
        <p:sp>
          <p:nvSpPr>
            <p:cNvPr id="642" name=""/>
            <p:cNvSpPr/>
            <p:nvPr/>
          </p:nvSpPr>
          <p:spPr>
            <a:xfrm>
              <a:off x="4419720" y="434880"/>
              <a:ext cx="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4401720" y="536040"/>
              <a:ext cx="50760" cy="189360"/>
              <a:chOff x="4401720" y="536040"/>
              <a:chExt cx="50760" cy="189360"/>
            </a:xfrm>
          </p:grpSpPr>
          <p:sp>
            <p:nvSpPr>
              <p:cNvPr id="644" name=""/>
              <p:cNvSpPr/>
              <p:nvPr/>
            </p:nvSpPr>
            <p:spPr>
              <a:xfrm flipH="1">
                <a:off x="4401720" y="558720"/>
                <a:ext cx="5076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403880" y="574560"/>
                <a:ext cx="4572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4404960" y="600120"/>
                <a:ext cx="4428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406760" y="628560"/>
                <a:ext cx="414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4404960" y="654120"/>
                <a:ext cx="4140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405320" y="681120"/>
                <a:ext cx="3816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4417920" y="712800"/>
                <a:ext cx="237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 flipV="1">
                <a:off x="4421160" y="536040"/>
                <a:ext cx="3024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>
              <a:off x="4419720" y="723960"/>
              <a:ext cx="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4046040" y="422280"/>
            <a:ext cx="2901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7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79240" y="560520"/>
            <a:ext cx="2901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82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14680" y="438120"/>
            <a:ext cx="4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819680" y="439560"/>
            <a:ext cx="0" cy="8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776480" y="473400"/>
            <a:ext cx="183960" cy="613440"/>
            <a:chOff x="4776480" y="473400"/>
            <a:chExt cx="183960" cy="613440"/>
          </a:xfrm>
        </p:grpSpPr>
        <p:sp>
          <p:nvSpPr>
            <p:cNvPr id="658" name=""/>
            <p:cNvSpPr/>
            <p:nvPr/>
          </p:nvSpPr>
          <p:spPr>
            <a:xfrm>
              <a:off x="4821120" y="555480"/>
              <a:ext cx="101880" cy="46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5400000">
              <a:off x="4561560" y="687960"/>
              <a:ext cx="6134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FEU0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652920" y="403200"/>
            <a:ext cx="391680" cy="50760"/>
            <a:chOff x="3652920" y="403200"/>
            <a:chExt cx="391680" cy="50760"/>
          </a:xfrm>
        </p:grpSpPr>
        <p:sp>
          <p:nvSpPr>
            <p:cNvPr id="661" name=""/>
            <p:cNvSpPr/>
            <p:nvPr/>
          </p:nvSpPr>
          <p:spPr>
            <a:xfrm>
              <a:off x="3652920" y="438120"/>
              <a:ext cx="10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3754080" y="403200"/>
              <a:ext cx="186840" cy="50760"/>
              <a:chOff x="3754080" y="403200"/>
              <a:chExt cx="186840" cy="50760"/>
            </a:xfrm>
          </p:grpSpPr>
          <p:sp>
            <p:nvSpPr>
              <p:cNvPr id="663" name=""/>
              <p:cNvSpPr/>
              <p:nvPr/>
            </p:nvSpPr>
            <p:spPr>
              <a:xfrm>
                <a:off x="3776040" y="403200"/>
                <a:ext cx="1260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3790440" y="407880"/>
                <a:ext cx="2520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818880" y="407880"/>
                <a:ext cx="2376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3847680" y="409680"/>
                <a:ext cx="23400" cy="4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872880" y="411120"/>
                <a:ext cx="2376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3898440" y="412560"/>
                <a:ext cx="21960" cy="3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928680" y="415800"/>
                <a:ext cx="1224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3754080" y="407880"/>
                <a:ext cx="1692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3941640" y="438120"/>
              <a:ext cx="10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677040" y="415800"/>
            <a:ext cx="334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4.7 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93120" y="488880"/>
            <a:ext cx="621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rappe fermée: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tact ouver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026880" y="905040"/>
            <a:ext cx="1665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Nota: résistances intégrées dans le corps du contac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0410840" y="4829040"/>
            <a:ext cx="21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415520" y="49672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0410840" y="5105520"/>
            <a:ext cx="172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3T22:15:24Z</dcterms:created>
  <dc:creator>CIRUS</dc:creator>
  <dc:description/>
  <dc:language>en-US</dc:language>
  <cp:lastModifiedBy>Frédéric Lassimonne</cp:lastModifiedBy>
  <cp:lastPrinted>2000-06-06T19:20:49Z</cp:lastPrinted>
  <dcterms:modified xsi:type="dcterms:W3CDTF">2000-06-06T20:13:37Z</dcterms:modified>
  <cp:revision>23</cp:revision>
  <dc:subject/>
  <dc:title>Aucun titre de diapositive</dc:title>
</cp:coreProperties>
</file>