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DF8F-5CEA-4001-B2C1-4AA72207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0A60-BC2D-4E87-AFE4-0D2FA4D7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DDF8-920D-46E4-B3AC-815330E6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FDAD-0E54-4334-96D1-304B16A2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A3ED-69E6-43C5-8DAD-CADF569E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76F6-9AB6-4F3D-9252-D1EC2632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EA18-BF34-4EEB-AC50-7D148F76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557C-B6B2-4EAE-8977-30A375C3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4AA1-371F-48C9-BA37-933C157D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CED6-F2C5-481A-BA58-D3E7B93E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C4AD-FBA1-4DBB-8F6B-7B8B3DC5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6CF3-61E0-468B-A3EC-DA07D034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913E-3369-482C-BC1E-C41E06328E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Plan site de Troyes (RDC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015920" y="1600200"/>
            <a:ext cx="7112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Plan site de Troyes (R+1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893880" y="1600200"/>
            <a:ext cx="7356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lan site de Troy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082960" y="1600200"/>
            <a:ext cx="4978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19T14:49:49Z</dcterms:created>
  <dc:creator>HEL GREGORY</dc:creator>
  <dc:description/>
  <dc:language>en-US</dc:language>
  <cp:lastModifiedBy>NOYARET CECILE (CNAM / Valence)</cp:lastModifiedBy>
  <dcterms:modified xsi:type="dcterms:W3CDTF">2025-06-11T14:36:16Z</dcterms:modified>
  <cp:revision>1</cp:revision>
  <dc:subject/>
  <dc:title>Plan site de Troyes (RDC)</dc:title>
</cp:coreProperties>
</file>