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2193588" cy="6858000"/>
  <p:notesSz cx="9928225" cy="6800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E187-31AE-40A6-A76D-65C14BCDA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57C2-EC2A-496D-8F2B-874E8D9FA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CFA5-60D5-46CE-A7F3-F1321168F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B7BE-9B45-45A7-9C98-5908D174C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CD8B-2D07-4FD5-B938-7A49AFE6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EA49-AC07-4F82-91DE-66A624482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7931-31BA-4623-9E69-E0B998BC8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D362-7599-4406-817C-BFECC1CD4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8021-986A-47C4-A1CE-15DCF59A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67FF-160C-4D3F-9375-C945606F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368A-590B-41C8-9C6E-4FDB9E72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EAA3-31A3-41DF-BA1C-C9240E21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3036B6-344C-4905-AD2C-E6785085F0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8"/>
          <p:cNvSpPr/>
          <p:nvPr/>
        </p:nvSpPr>
        <p:spPr>
          <a:xfrm>
            <a:off x="6059520" y="6521400"/>
            <a:ext cx="5757840" cy="90360"/>
          </a:xfrm>
          <a:prstGeom prst="rect">
            <a:avLst/>
          </a:prstGeom>
          <a:solidFill>
            <a:srgbClr val="0042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23" descr=""/>
          <p:cNvPicPr/>
          <p:nvPr/>
        </p:nvPicPr>
        <p:blipFill>
          <a:blip r:embed="rId2"/>
          <a:stretch/>
        </p:blipFill>
        <p:spPr>
          <a:xfrm>
            <a:off x="0" y="0"/>
            <a:ext cx="29494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8"/>
          <p:cNvSpPr/>
          <p:nvPr/>
        </p:nvSpPr>
        <p:spPr>
          <a:xfrm>
            <a:off x="6059520" y="6521400"/>
            <a:ext cx="5757840" cy="90360"/>
          </a:xfrm>
          <a:prstGeom prst="rect">
            <a:avLst/>
          </a:prstGeom>
          <a:solidFill>
            <a:srgbClr val="0042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3" descr=""/>
          <p:cNvPicPr/>
          <p:nvPr/>
        </p:nvPicPr>
        <p:blipFill>
          <a:blip r:embed="rId2"/>
          <a:stretch/>
        </p:blipFill>
        <p:spPr>
          <a:xfrm>
            <a:off x="0" y="0"/>
            <a:ext cx="294948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Connecteur droit 38"/>
          <p:cNvSpPr/>
          <p:nvPr/>
        </p:nvSpPr>
        <p:spPr>
          <a:xfrm>
            <a:off x="10345680" y="2565360"/>
            <a:ext cx="0" cy="216000"/>
          </a:xfrm>
          <a:prstGeom prst="line">
            <a:avLst/>
          </a:prstGeom>
          <a:ln w="12600">
            <a:solidFill>
              <a:srgbClr val="004494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5025960" y="723960"/>
            <a:ext cx="2436840" cy="976320"/>
          </a:xfrm>
          <a:prstGeom prst="rect">
            <a:avLst/>
          </a:prstGeom>
          <a:solidFill>
            <a:srgbClr val="ffffff"/>
          </a:solidFill>
          <a:ln w="6480">
            <a:solidFill>
              <a:srgbClr val="0810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de6422"/>
                </a:solidFill>
                <a:latin typeface="Arial"/>
              </a:rPr>
              <a:t>Anne Claire MIALOT - Directrice Générale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de6422"/>
                </a:solidFill>
                <a:latin typeface="Arial"/>
              </a:rPr>
              <a:t>Maxance BARRE, Directeur Général Adjoint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Agathe HERVEY </a:t>
            </a:r>
            <a:r>
              <a:rPr b="0" lang="fr-FR" sz="5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Conseillère spéciale – Cheffe de cabinet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Annie BARRET </a:t>
            </a: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– Attachée de Direction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10775880" y="6459480"/>
            <a:ext cx="1166760" cy="2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4494"/>
                </a:solidFill>
                <a:latin typeface="Calibri"/>
              </a:rPr>
              <a:t>1</a:t>
            </a:r>
            <a:r>
              <a:rPr b="1" lang="fr-FR" sz="1100" spc="-1" strike="noStrike" baseline="30000">
                <a:solidFill>
                  <a:srgbClr val="004494"/>
                </a:solidFill>
                <a:latin typeface="Calibri"/>
              </a:rPr>
              <a:t>er</a:t>
            </a:r>
            <a:r>
              <a:rPr b="1" lang="fr-FR" sz="1100" spc="-1" strike="noStrike">
                <a:solidFill>
                  <a:srgbClr val="004494"/>
                </a:solidFill>
                <a:latin typeface="Calibri"/>
              </a:rPr>
              <a:t> juin 202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Connecteur droit 103"/>
          <p:cNvSpPr/>
          <p:nvPr/>
        </p:nvSpPr>
        <p:spPr>
          <a:xfrm>
            <a:off x="3114720" y="-480960"/>
            <a:ext cx="106200" cy="0"/>
          </a:xfrm>
          <a:prstGeom prst="line">
            <a:avLst/>
          </a:prstGeom>
          <a:ln w="12600">
            <a:solidFill>
              <a:srgbClr val="004494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ZoneTexte 7"/>
          <p:cNvSpPr/>
          <p:nvPr/>
        </p:nvSpPr>
        <p:spPr>
          <a:xfrm>
            <a:off x="6523200" y="2979720"/>
            <a:ext cx="3232080" cy="3460680"/>
          </a:xfrm>
          <a:prstGeom prst="rect">
            <a:avLst/>
          </a:prstGeom>
          <a:noFill/>
          <a:ln w="6480">
            <a:solidFill>
              <a:srgbClr val="0810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ZoneTexte 3"/>
          <p:cNvSpPr/>
          <p:nvPr/>
        </p:nvSpPr>
        <p:spPr>
          <a:xfrm>
            <a:off x="6672240" y="3278160"/>
            <a:ext cx="2994120" cy="830160"/>
          </a:xfrm>
          <a:prstGeom prst="rect">
            <a:avLst/>
          </a:prstGeom>
          <a:noFill/>
          <a:ln w="12600">
            <a:solidFill>
              <a:srgbClr val="de642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5029200" y="388800"/>
            <a:ext cx="2440080" cy="33660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800" spc="-1" strike="noStrike">
                <a:solidFill>
                  <a:srgbClr val="de6422"/>
                </a:solidFill>
                <a:latin typeface="Arial"/>
              </a:rPr>
              <a:t>Direction Général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8358120" y="4199040"/>
            <a:ext cx="1305000" cy="2052360"/>
          </a:xfrm>
          <a:prstGeom prst="rect">
            <a:avLst/>
          </a:prstGeom>
          <a:solidFill>
            <a:srgbClr val="ffffff"/>
          </a:solidFill>
          <a:ln w="12600">
            <a:solidFill>
              <a:srgbClr val="de642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Bertrand AUBREE </a:t>
            </a: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– Directeur adjoint</a:t>
            </a:r>
            <a:r>
              <a:rPr b="0" lang="mr-IN" sz="500" spc="-1" strike="noStrike">
                <a:solidFill>
                  <a:srgbClr val="004494"/>
                </a:solidFill>
                <a:latin typeface="Arial"/>
                <a:ea typeface="Mangal"/>
              </a:rPr>
              <a:t>–</a:t>
            </a: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direction des systèmes d’information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500" spc="-1" strike="noStrike" u="sng">
                <a:solidFill>
                  <a:srgbClr val="004494"/>
                </a:solidFill>
                <a:uFillTx/>
                <a:latin typeface="Arial"/>
              </a:rPr>
              <a:t>Direction des Systèmes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500" spc="-1" strike="noStrike" u="sng">
                <a:solidFill>
                  <a:srgbClr val="004494"/>
                </a:solidFill>
                <a:uFillTx/>
                <a:latin typeface="Arial"/>
              </a:rPr>
              <a:t>d’Information DSI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Michaël POIRIER – </a:t>
            </a: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Responsable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infrastructure, exploita° et sécurité du SI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Ephraim N’GOYI </a:t>
            </a: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- Technicien SI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Asma SOMAÏ – </a:t>
            </a: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chef de projet reporting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500" spc="-1" strike="noStrike" u="sng">
                <a:solidFill>
                  <a:srgbClr val="004494"/>
                </a:solidFill>
                <a:uFillTx/>
                <a:latin typeface="Arial"/>
              </a:rPr>
              <a:t>Appui Equipes support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Véronique DUCHENE </a:t>
            </a: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– Responsable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Sarah SI MOHAMMEDI - </a:t>
            </a: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Conseillère Support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500" spc="-1" strike="noStrike" u="sng">
                <a:solidFill>
                  <a:srgbClr val="004494"/>
                </a:solidFill>
                <a:uFillTx/>
                <a:latin typeface="Arial"/>
              </a:rPr>
              <a:t>Chefs de projet informatique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Michel CABARTIER 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Thierry HUET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Medhi MIDRA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Régis SELVANAYAGOM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Nghia TRAN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1406520" y="3014640"/>
            <a:ext cx="1874880" cy="2500200"/>
          </a:xfrm>
          <a:prstGeom prst="rect">
            <a:avLst/>
          </a:prstGeom>
          <a:solidFill>
            <a:srgbClr val="ffffff"/>
          </a:solidFill>
          <a:ln w="6480">
            <a:solidFill>
              <a:srgbClr val="0810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de6422"/>
                </a:solidFill>
                <a:latin typeface="Arial"/>
              </a:rPr>
              <a:t>Benoit ZELLER - Directeur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Delphine PUPIER </a:t>
            </a: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- Directrice adjointe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12"/>
          <p:cNvSpPr/>
          <p:nvPr/>
        </p:nvSpPr>
        <p:spPr>
          <a:xfrm>
            <a:off x="2135160" y="1084320"/>
            <a:ext cx="2082960" cy="520560"/>
          </a:xfrm>
          <a:prstGeom prst="rect">
            <a:avLst/>
          </a:prstGeom>
          <a:solidFill>
            <a:srgbClr val="ffffff"/>
          </a:solidFill>
          <a:ln w="6480">
            <a:solidFill>
              <a:srgbClr val="0810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de6422"/>
                </a:solidFill>
                <a:latin typeface="Arial"/>
              </a:rPr>
              <a:t>Maxance BARRE – Directeur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Camille MAIRE – Responsable du pôle Presse et Communication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Jérôme PERROT - </a:t>
            </a: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Coordinateur Éditorial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Thibaut PREVOST </a:t>
            </a: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– Chargé de communication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13"/>
          <p:cNvSpPr/>
          <p:nvPr/>
        </p:nvSpPr>
        <p:spPr>
          <a:xfrm>
            <a:off x="2135160" y="774720"/>
            <a:ext cx="2082960" cy="31284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700" spc="-1" strike="noStrike">
                <a:solidFill>
                  <a:srgbClr val="de6422"/>
                </a:solidFill>
                <a:latin typeface="Arial"/>
              </a:rPr>
              <a:t>Direction des relations Publiques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700" spc="-1" strike="noStrike">
                <a:solidFill>
                  <a:srgbClr val="de6422"/>
                </a:solidFill>
                <a:latin typeface="Arial"/>
              </a:rPr>
              <a:t>Et de la Communication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659640" y="4142880"/>
            <a:ext cx="1585800" cy="2296800"/>
          </a:xfrm>
          <a:prstGeom prst="rect">
            <a:avLst/>
          </a:prstGeom>
          <a:solidFill>
            <a:srgbClr val="ffffff"/>
          </a:solidFill>
          <a:ln w="12600">
            <a:solidFill>
              <a:srgbClr val="de642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Thierry LE CRAS – </a:t>
            </a: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Directeur adjoint </a:t>
            </a:r>
            <a:r>
              <a:rPr b="0" lang="mr-IN" sz="500" spc="-1" strike="noStrike">
                <a:solidFill>
                  <a:srgbClr val="004494"/>
                </a:solidFill>
                <a:latin typeface="Arial"/>
                <a:ea typeface="Mangal"/>
              </a:rPr>
              <a:t>–</a:t>
            </a: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pilotage de l’exécution des programmes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500" spc="-1" strike="noStrike" u="sng">
                <a:solidFill>
                  <a:srgbClr val="004494"/>
                </a:solidFill>
                <a:uFillTx/>
                <a:latin typeface="Arial"/>
              </a:rPr>
              <a:t>Pôle Financier PFi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Olivier BEAUJEAU– </a:t>
            </a: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Responsable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500" spc="-1" strike="noStrike" u="sng">
                <a:solidFill>
                  <a:srgbClr val="004494"/>
                </a:solidFill>
                <a:uFillTx/>
                <a:latin typeface="Arial"/>
              </a:rPr>
              <a:t>Chargés de Mission Financière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Isabelle AVA - Patricia BOLLINGER-  Elodie BUGNAZET – Siham DERNI -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 </a:t>
            </a: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Valérie FOURNEL - Céline GUASCONI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Florence HUVET - Jennifer LACROIX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Maud NECTOUX - Yassine TAFER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500" spc="-1" strike="noStrike" u="sng">
                <a:solidFill>
                  <a:srgbClr val="004494"/>
                </a:solidFill>
                <a:uFillTx/>
                <a:latin typeface="Arial"/>
              </a:rPr>
              <a:t>Pôle Sécurisa° Paiements-recouvrements - PSP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David MANIERE </a:t>
            </a: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– Responsable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500" spc="-1" strike="noStrike" u="sng">
                <a:solidFill>
                  <a:srgbClr val="004494"/>
                </a:solidFill>
                <a:uFillTx/>
                <a:latin typeface="Arial"/>
              </a:rPr>
              <a:t>Chargés de mission financière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Zachary ABDI  -  Gaëlle BUVAL – Thomas DUBOIS – Charitha JOSEPH – François MARTIN - Luisa MATEOS APARICIO - Ecaterina TRIFU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500" spc="-1" strike="noStrike" u="sng">
                <a:solidFill>
                  <a:srgbClr val="004494"/>
                </a:solidFill>
                <a:uFillTx/>
                <a:latin typeface="Arial"/>
              </a:rPr>
              <a:t>Chargés d’instruction financière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  </a:t>
            </a: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Anissa BERNAOUI  - Khalid KASSOU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500" spc="-1" strike="noStrike" u="sng">
                <a:solidFill>
                  <a:srgbClr val="004494"/>
                </a:solidFill>
                <a:uFillTx/>
                <a:latin typeface="Arial"/>
              </a:rPr>
              <a:t>Pôle PIA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Annabelle DIABATE </a:t>
            </a: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– Responsable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500" spc="-1" strike="noStrike" u="sng">
                <a:solidFill>
                  <a:srgbClr val="004494"/>
                </a:solidFill>
                <a:uFillTx/>
                <a:latin typeface="Arial"/>
              </a:rPr>
              <a:t>Chargés de mission financière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 </a:t>
            </a: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Karima BAHRI– Tania LAVIOLETTE  -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Gracia NGBONGA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Hajar JAOUNI - </a:t>
            </a: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Chargée de Gestion Administrative et Financière des PIA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534000" y="2687760"/>
            <a:ext cx="3232440" cy="31104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700" spc="-1" strike="noStrike">
                <a:solidFill>
                  <a:srgbClr val="de6422"/>
                </a:solidFill>
                <a:latin typeface="Arial"/>
              </a:rPr>
              <a:t>DAFSIC – Direction des affaires financières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700" spc="-1" strike="noStrike">
                <a:solidFill>
                  <a:srgbClr val="de6422"/>
                </a:solidFill>
                <a:latin typeface="Arial"/>
              </a:rPr>
              <a:t>des Systèmes d’Information et de la Comptabilité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31"/>
          <p:cNvSpPr/>
          <p:nvPr/>
        </p:nvSpPr>
        <p:spPr>
          <a:xfrm>
            <a:off x="9874080" y="2689200"/>
            <a:ext cx="1838520" cy="29844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700" spc="-1" strike="noStrike">
                <a:solidFill>
                  <a:srgbClr val="de6422"/>
                </a:solidFill>
                <a:latin typeface="Arial"/>
              </a:rPr>
              <a:t>Fonds de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700" spc="-1" strike="noStrike">
                <a:solidFill>
                  <a:srgbClr val="de6422"/>
                </a:solidFill>
                <a:latin typeface="Arial"/>
              </a:rPr>
              <a:t>Co-Investissement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32"/>
          <p:cNvSpPr/>
          <p:nvPr/>
        </p:nvSpPr>
        <p:spPr>
          <a:xfrm>
            <a:off x="5033880" y="52560"/>
            <a:ext cx="2435400" cy="23328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800" spc="-1" strike="noStrike">
                <a:solidFill>
                  <a:srgbClr val="de6422"/>
                </a:solidFill>
                <a:latin typeface="Arial"/>
              </a:rPr>
              <a:t>Conseil d’Administratio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700" spc="-1" strike="noStrike">
                <a:solidFill>
                  <a:srgbClr val="004494"/>
                </a:solidFill>
                <a:latin typeface="Arial"/>
              </a:rPr>
              <a:t>Patrice VERGRIETE - Président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3551400" y="3021120"/>
            <a:ext cx="2736720" cy="3589200"/>
          </a:xfrm>
          <a:prstGeom prst="rect">
            <a:avLst/>
          </a:prstGeom>
          <a:solidFill>
            <a:srgbClr val="ffffff"/>
          </a:solidFill>
          <a:ln w="6480">
            <a:solidFill>
              <a:srgbClr val="0810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de6422"/>
                </a:solidFill>
                <a:latin typeface="Arial"/>
              </a:rPr>
              <a:t>Mélanie LAMANT – Directrice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Hayet BALOUL </a:t>
            </a: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– Assistante de direction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Valérie MARCOS </a:t>
            </a: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– Chargée de Mission coord° budget, achats et partenariats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Annie TAIOLA </a:t>
            </a: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–Chargée de Mission Extranet &amp; outillage interactif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3544920" y="2684520"/>
            <a:ext cx="2736720" cy="33012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700" spc="-1" strike="noStrike">
                <a:solidFill>
                  <a:srgbClr val="de6422"/>
                </a:solidFill>
                <a:latin typeface="Arial"/>
              </a:rPr>
              <a:t>DS2A – Direction de la Stratégie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700" spc="-1" strike="noStrike">
                <a:solidFill>
                  <a:srgbClr val="de6422"/>
                </a:solidFill>
                <a:latin typeface="Arial"/>
              </a:rPr>
              <a:t>et de l’Accompagnement des Acteur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Connecteur droit 9"/>
          <p:cNvSpPr/>
          <p:nvPr/>
        </p:nvSpPr>
        <p:spPr>
          <a:xfrm>
            <a:off x="2828880" y="2519280"/>
            <a:ext cx="7516800" cy="27000"/>
          </a:xfrm>
          <a:prstGeom prst="line">
            <a:avLst/>
          </a:prstGeom>
          <a:ln w="12600">
            <a:solidFill>
              <a:srgbClr val="004494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Connecteur droit 47"/>
          <p:cNvSpPr/>
          <p:nvPr/>
        </p:nvSpPr>
        <p:spPr>
          <a:xfrm>
            <a:off x="5664240" y="2519280"/>
            <a:ext cx="0" cy="168480"/>
          </a:xfrm>
          <a:prstGeom prst="line">
            <a:avLst/>
          </a:prstGeom>
          <a:ln w="12600">
            <a:solidFill>
              <a:srgbClr val="004494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Connecteur droit 52"/>
          <p:cNvSpPr/>
          <p:nvPr/>
        </p:nvSpPr>
        <p:spPr>
          <a:xfrm>
            <a:off x="8121600" y="2538360"/>
            <a:ext cx="0" cy="144360"/>
          </a:xfrm>
          <a:prstGeom prst="line">
            <a:avLst/>
          </a:prstGeom>
          <a:ln w="12600">
            <a:solidFill>
              <a:srgbClr val="004494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28"/>
          <p:cNvSpPr/>
          <p:nvPr/>
        </p:nvSpPr>
        <p:spPr>
          <a:xfrm>
            <a:off x="6408720" y="1787400"/>
            <a:ext cx="2206800" cy="19692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700" spc="-1" strike="noStrike">
                <a:solidFill>
                  <a:srgbClr val="de6422"/>
                </a:solidFill>
                <a:latin typeface="Arial"/>
              </a:rPr>
              <a:t>Pôle Maîtrise des risque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27"/>
          <p:cNvSpPr/>
          <p:nvPr/>
        </p:nvSpPr>
        <p:spPr>
          <a:xfrm>
            <a:off x="6407280" y="1974960"/>
            <a:ext cx="2208240" cy="290520"/>
          </a:xfrm>
          <a:prstGeom prst="rect">
            <a:avLst/>
          </a:prstGeom>
          <a:solidFill>
            <a:srgbClr val="ffffff"/>
          </a:solidFill>
          <a:ln w="6480">
            <a:solidFill>
              <a:srgbClr val="0810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Véronique DEGENNE - Responsable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Alice DUFAIT </a:t>
            </a: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– Auditeur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Connecteur droit 40"/>
          <p:cNvSpPr/>
          <p:nvPr/>
        </p:nvSpPr>
        <p:spPr>
          <a:xfrm flipH="1">
            <a:off x="6149880" y="1692360"/>
            <a:ext cx="7920" cy="833400"/>
          </a:xfrm>
          <a:prstGeom prst="line">
            <a:avLst/>
          </a:prstGeom>
          <a:ln w="12600">
            <a:solidFill>
              <a:srgbClr val="004494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oneTexte 8"/>
          <p:cNvSpPr/>
          <p:nvPr/>
        </p:nvSpPr>
        <p:spPr>
          <a:xfrm>
            <a:off x="6594480" y="3000240"/>
            <a:ext cx="299412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de6422"/>
                </a:solidFill>
                <a:latin typeface="Arial"/>
              </a:rPr>
              <a:t>Jean-Marc POULAIN – Directeur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Muriel MUCRET– </a:t>
            </a: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Responsable formation et animation du réseau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ZoneTexte 1"/>
          <p:cNvSpPr/>
          <p:nvPr/>
        </p:nvSpPr>
        <p:spPr>
          <a:xfrm>
            <a:off x="6721560" y="3479760"/>
            <a:ext cx="128088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500" spc="-1" strike="noStrike" u="sng">
                <a:solidFill>
                  <a:srgbClr val="004494"/>
                </a:solidFill>
                <a:uFillTx/>
                <a:latin typeface="Arial"/>
              </a:rPr>
              <a:t>Service Facturier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Séverine LEMARIE </a:t>
            </a: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– Responsable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500" spc="-1" strike="noStrike" u="sng">
                <a:solidFill>
                  <a:srgbClr val="004494"/>
                </a:solidFill>
                <a:uFillTx/>
                <a:latin typeface="Arial"/>
              </a:rPr>
              <a:t>Chargés de mission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500" spc="-1" strike="noStrike" u="sng">
                <a:solidFill>
                  <a:srgbClr val="004494"/>
                </a:solidFill>
                <a:uFillTx/>
                <a:latin typeface="Arial"/>
              </a:rPr>
              <a:t>visa des dépenses de fonctionnement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Audrey ABHAY - Nelly BRENA –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 </a:t>
            </a: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Maud SALETTI – Myrna CRAMPONT - Carole MOUSTIN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ZoneTexte 2"/>
          <p:cNvSpPr/>
          <p:nvPr/>
        </p:nvSpPr>
        <p:spPr>
          <a:xfrm>
            <a:off x="8169120" y="3505320"/>
            <a:ext cx="151956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500" spc="-1" strike="noStrike" u="sng">
                <a:solidFill>
                  <a:srgbClr val="004494"/>
                </a:solidFill>
                <a:uFillTx/>
                <a:latin typeface="Arial"/>
              </a:rPr>
              <a:t>Service Comptable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Joëlle ATSIN – Rémi LOUPIEN </a:t>
            </a: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–comptables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500" spc="-1" strike="noStrike" u="sng">
                <a:solidFill>
                  <a:srgbClr val="004494"/>
                </a:solidFill>
                <a:uFillTx/>
                <a:latin typeface="Arial"/>
              </a:rPr>
              <a:t>Pôle Contrôle de gestion et synthèse financière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Corinne RAULT – </a:t>
            </a: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Responsable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Mohamadou TRAORE – </a:t>
            </a: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Contrôleur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de gestion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3382920" y="1978200"/>
            <a:ext cx="2109960" cy="380880"/>
          </a:xfrm>
          <a:prstGeom prst="rect">
            <a:avLst/>
          </a:prstGeom>
          <a:solidFill>
            <a:srgbClr val="ffffff"/>
          </a:solidFill>
          <a:ln w="6480">
            <a:solidFill>
              <a:srgbClr val="0810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Lise LEBEL – Responsable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Tanya DA SILVEIRA</a:t>
            </a: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 – Chef de projet MOA transformation numérique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Anya AHMED SAID </a:t>
            </a: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– Chef de projet MOA transformation numérique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28"/>
          <p:cNvSpPr/>
          <p:nvPr/>
        </p:nvSpPr>
        <p:spPr>
          <a:xfrm>
            <a:off x="3382920" y="1763640"/>
            <a:ext cx="2109960" cy="21276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700" spc="-1" strike="noStrike">
                <a:solidFill>
                  <a:srgbClr val="de6422"/>
                </a:solidFill>
                <a:latin typeface="Arial"/>
              </a:rPr>
              <a:t>Pôle MOA transformation numériqu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678120" y="3449520"/>
            <a:ext cx="2468520" cy="1708200"/>
          </a:xfrm>
          <a:prstGeom prst="rect">
            <a:avLst/>
          </a:prstGeom>
          <a:solidFill>
            <a:srgbClr val="ffffff"/>
          </a:solidFill>
          <a:ln w="12600">
            <a:solidFill>
              <a:srgbClr val="de642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 u="sng">
                <a:solidFill>
                  <a:srgbClr val="004494"/>
                </a:solidFill>
                <a:uFillTx/>
                <a:latin typeface="Arial"/>
              </a:rPr>
              <a:t>Kim CHIUSANO </a:t>
            </a:r>
            <a:r>
              <a:rPr b="0" lang="fr-FR" sz="500" spc="-1" strike="noStrike" u="sng">
                <a:solidFill>
                  <a:srgbClr val="004494"/>
                </a:solidFill>
                <a:uFillTx/>
                <a:latin typeface="Arial"/>
              </a:rPr>
              <a:t>– </a:t>
            </a:r>
            <a:r>
              <a:rPr b="1" lang="fr-FR" sz="500" spc="-1" strike="noStrike" u="sng">
                <a:solidFill>
                  <a:srgbClr val="004494"/>
                </a:solidFill>
                <a:uFillTx/>
                <a:latin typeface="Arial"/>
              </a:rPr>
              <a:t>Directrice adjointe Expertises Thématiques et Innovation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  <a:ea typeface="Arial"/>
              </a:rPr>
              <a:t>Christophe BOUR </a:t>
            </a:r>
            <a:r>
              <a:rPr b="0" lang="fr-FR" sz="500" spc="-1" strike="noStrike">
                <a:solidFill>
                  <a:srgbClr val="004494"/>
                </a:solidFill>
                <a:latin typeface="Arial"/>
                <a:ea typeface="Arial"/>
              </a:rPr>
              <a:t>– Chargé de gestion administrative &amp; financière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  <a:ea typeface="Arial"/>
              </a:rPr>
              <a:t>Hélène GROS </a:t>
            </a:r>
            <a:r>
              <a:rPr b="0" lang="fr-FR" sz="500" spc="-1" strike="noStrike">
                <a:solidFill>
                  <a:srgbClr val="004494"/>
                </a:solidFill>
                <a:latin typeface="Arial"/>
                <a:ea typeface="Arial"/>
              </a:rPr>
              <a:t>– Responsable de projets « innovation 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  <a:ea typeface="Arial"/>
              </a:rPr>
              <a:t>Alice COLLET </a:t>
            </a:r>
            <a:r>
              <a:rPr b="0" lang="fr-FR" sz="500" spc="-1" strike="noStrike">
                <a:solidFill>
                  <a:srgbClr val="004494"/>
                </a:solidFill>
                <a:latin typeface="Arial"/>
                <a:ea typeface="Arial"/>
              </a:rPr>
              <a:t>– Responsable de projets « Cohésions sociale »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  <a:ea typeface="Arial"/>
              </a:rPr>
              <a:t>Melvin STECKER </a:t>
            </a:r>
            <a:r>
              <a:rPr b="0" lang="fr-FR" sz="500" spc="-1" strike="noStrike">
                <a:solidFill>
                  <a:srgbClr val="004494"/>
                </a:solidFill>
                <a:latin typeface="Arial"/>
                <a:ea typeface="Arial"/>
              </a:rPr>
              <a:t>– Chargé de Mission Cohésion Sociale et co-construction CIFRE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500" spc="-1" strike="noStrike" u="sng">
                <a:solidFill>
                  <a:srgbClr val="004494"/>
                </a:solidFill>
                <a:uFillTx/>
                <a:latin typeface="Arial"/>
              </a:rPr>
              <a:t>Pôle Aménagement-Habitat-Transition écologique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 </a:t>
            </a: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Véronique TIRANT</a:t>
            </a: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 – Responsable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Jean-Benoît CARIOU - C</a:t>
            </a: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hargé de mission Innovation et Transition Ecologique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Anaïs JUSTE - </a:t>
            </a: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Chargée de mission Habitat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Hélène LE RAI </a:t>
            </a: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– Chargée de mission Habitat Ancien&amp;Copro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Christophe ROMERO </a:t>
            </a: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– Chargé de mission Transition Ecologique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Alicia ZACCARIA </a:t>
            </a: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– Chargée de mission Aménagement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500" spc="-1" strike="noStrike" u="sng">
                <a:solidFill>
                  <a:srgbClr val="004494"/>
                </a:solidFill>
                <a:uFillTx/>
                <a:latin typeface="Arial"/>
              </a:rPr>
              <a:t>Pôle Développement économique/Emploi/Insertion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Nicolas LE ROUX </a:t>
            </a: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– Responsable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Lisa BERTRAND – </a:t>
            </a: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Chargée de mission Agriculture Urbaine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Nadir HAOUAT </a:t>
            </a: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– Chargé de mission Dvpt Economique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Inga KARDAVA - </a:t>
            </a: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Chargée de mission Agriculture Urbaine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14"/>
          <p:cNvSpPr/>
          <p:nvPr/>
        </p:nvSpPr>
        <p:spPr>
          <a:xfrm>
            <a:off x="3686040" y="5256360"/>
            <a:ext cx="2467080" cy="1238040"/>
          </a:xfrm>
          <a:prstGeom prst="rect">
            <a:avLst/>
          </a:prstGeom>
          <a:solidFill>
            <a:srgbClr val="ffffff"/>
          </a:solidFill>
          <a:ln w="12600">
            <a:solidFill>
              <a:srgbClr val="de642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Cyril MARS - </a:t>
            </a:r>
            <a:r>
              <a:rPr b="1" lang="fr-FR" sz="500" spc="-1" strike="noStrike" u="sng">
                <a:solidFill>
                  <a:srgbClr val="004494"/>
                </a:solidFill>
                <a:uFillTx/>
                <a:latin typeface="Arial"/>
              </a:rPr>
              <a:t>Directeur Adjoint Pilotage et Accompagnement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500" spc="-1" strike="noStrike" u="sng">
                <a:solidFill>
                  <a:srgbClr val="004494"/>
                </a:solidFill>
                <a:uFillTx/>
                <a:latin typeface="Arial"/>
              </a:rPr>
              <a:t>Pôle Formation et Animation des Réseaux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Nellie de la MONNERAYE – </a:t>
            </a: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Responsable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Ana CALABOZO </a:t>
            </a: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– Chargée de mission Conduite du changemen</a:t>
            </a:r>
            <a:r>
              <a:rPr b="0" i="1" lang="fr-FR" sz="500" spc="-1" strike="noStrike">
                <a:solidFill>
                  <a:srgbClr val="004494"/>
                </a:solidFill>
                <a:latin typeface="Arial"/>
              </a:rPr>
              <a:t>t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 </a:t>
            </a: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Marie DALLE MOLLE </a:t>
            </a: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– Chargée de mission animation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Lola KASSABI – </a:t>
            </a: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Chargée de mission événementiel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Victoria MONNIER </a:t>
            </a: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- Chargée de formation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500" spc="-1" strike="noStrike" u="sng">
                <a:solidFill>
                  <a:srgbClr val="004494"/>
                </a:solidFill>
                <a:uFillTx/>
                <a:latin typeface="Arial"/>
              </a:rPr>
              <a:t>Pôle Réglementation-Evaluation – Prospective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Christophe</a:t>
            </a: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 </a:t>
            </a: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BOURGOIS – </a:t>
            </a: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Responsable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  <a:ea typeface="Arial"/>
              </a:rPr>
              <a:t>Sarah AUDRAS-MARCY – </a:t>
            </a:r>
            <a:r>
              <a:rPr b="0" lang="fr-FR" sz="500" spc="-1" strike="noStrike">
                <a:solidFill>
                  <a:srgbClr val="004494"/>
                </a:solidFill>
                <a:latin typeface="Arial"/>
                <a:ea typeface="Arial"/>
              </a:rPr>
              <a:t>Responsable de projets « évaluation »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Ewen BESSON - </a:t>
            </a: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Chargé de mission évaluation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  <a:ea typeface="Arial"/>
              </a:rPr>
              <a:t>Fatma FAREB – </a:t>
            </a:r>
            <a:r>
              <a:rPr b="0" lang="fr-FR" sz="500" spc="-1" strike="noStrike">
                <a:solidFill>
                  <a:srgbClr val="004494"/>
                </a:solidFill>
                <a:latin typeface="Arial"/>
                <a:ea typeface="Arial"/>
              </a:rPr>
              <a:t>Chargée de mission Réglementation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  <a:ea typeface="Arial"/>
              </a:rPr>
              <a:t>Sylvie MERLIN – </a:t>
            </a:r>
            <a:r>
              <a:rPr b="0" lang="fr-FR" sz="500" spc="-1" strike="noStrike">
                <a:solidFill>
                  <a:srgbClr val="004494"/>
                </a:solidFill>
                <a:latin typeface="Arial"/>
                <a:ea typeface="Arial"/>
              </a:rPr>
              <a:t>Chargée de mission Coordination de la réglementation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Connecteur droit 6"/>
          <p:cNvSpPr/>
          <p:nvPr/>
        </p:nvSpPr>
        <p:spPr>
          <a:xfrm>
            <a:off x="7462800" y="1212840"/>
            <a:ext cx="1249560" cy="0"/>
          </a:xfrm>
          <a:prstGeom prst="line">
            <a:avLst/>
          </a:prstGeom>
          <a:ln w="12600">
            <a:solidFill>
              <a:srgbClr val="ed7d31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Connecteur droit 4"/>
          <p:cNvSpPr/>
          <p:nvPr/>
        </p:nvSpPr>
        <p:spPr>
          <a:xfrm>
            <a:off x="2828880" y="2519280"/>
            <a:ext cx="0" cy="195480"/>
          </a:xfrm>
          <a:prstGeom prst="line">
            <a:avLst/>
          </a:prstGeom>
          <a:ln w="12600">
            <a:solidFill>
              <a:srgbClr val="004494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8712360" y="434880"/>
            <a:ext cx="2357280" cy="1708200"/>
          </a:xfrm>
          <a:prstGeom prst="rect">
            <a:avLst/>
          </a:prstGeom>
          <a:solidFill>
            <a:srgbClr val="ffffff"/>
          </a:solidFill>
          <a:ln w="6480">
            <a:solidFill>
              <a:srgbClr val="0810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de6422"/>
                </a:solidFill>
                <a:latin typeface="Arial"/>
              </a:rPr>
              <a:t>Elisabeth ESTIGNARD – Directrice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8712360" y="196920"/>
            <a:ext cx="2374920" cy="24912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700" spc="-1" strike="noStrike">
                <a:solidFill>
                  <a:srgbClr val="de6422"/>
                </a:solidFill>
                <a:latin typeface="Arial"/>
              </a:rPr>
              <a:t>Direction Ressource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14"/>
          <p:cNvSpPr/>
          <p:nvPr/>
        </p:nvSpPr>
        <p:spPr>
          <a:xfrm>
            <a:off x="8764560" y="653400"/>
            <a:ext cx="2251080" cy="39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de642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Magali CHABANIS – Responsable du pôle Ressources Humaines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Catherine MELICINE – </a:t>
            </a: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Adjointe au responsable RH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Guilhaine PREPONT </a:t>
            </a: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– Chargée de mission développement RH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Magali LELIEVRE </a:t>
            </a: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– Chargée de mission développement des compétences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14"/>
          <p:cNvSpPr/>
          <p:nvPr/>
        </p:nvSpPr>
        <p:spPr>
          <a:xfrm>
            <a:off x="8759880" y="1113120"/>
            <a:ext cx="2251080" cy="39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de642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Alexandra BOULIE </a:t>
            </a: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– </a:t>
            </a: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Responsable du pôle des Affaires Juridiques et des Achats PAJA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Shenbagame RAMAKICHENIN</a:t>
            </a: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 – Juriste droit public des affaires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Noëllie GOUDALT </a:t>
            </a: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– Juriste droit public des affaires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8764560" y="1921680"/>
            <a:ext cx="2251080" cy="169920"/>
          </a:xfrm>
          <a:prstGeom prst="rect">
            <a:avLst/>
          </a:prstGeom>
          <a:solidFill>
            <a:srgbClr val="ffffff"/>
          </a:solidFill>
          <a:ln w="12600">
            <a:solidFill>
              <a:srgbClr val="de642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Magali LELIEVRE </a:t>
            </a: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– Chargée de mission Conseil d’administration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14"/>
          <p:cNvSpPr/>
          <p:nvPr/>
        </p:nvSpPr>
        <p:spPr>
          <a:xfrm>
            <a:off x="8759880" y="1538640"/>
            <a:ext cx="2251080" cy="321840"/>
          </a:xfrm>
          <a:prstGeom prst="rect">
            <a:avLst/>
          </a:prstGeom>
          <a:solidFill>
            <a:srgbClr val="ffffff"/>
          </a:solidFill>
          <a:ln w="12600">
            <a:solidFill>
              <a:srgbClr val="de642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Sandra TITA-FARINELLA - Responsable  du pôle des moyens généraux et de la communication et évènementiel interne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Sully RODRIDE </a:t>
            </a: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– Assistant Moyens Généraux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1406520" y="2682720"/>
            <a:ext cx="1874880" cy="33840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700" spc="-1" strike="noStrike">
                <a:solidFill>
                  <a:srgbClr val="de6422"/>
                </a:solidFill>
                <a:latin typeface="Arial"/>
              </a:rPr>
              <a:t>Direction Opérationnell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Connecteur droit 32"/>
          <p:cNvSpPr/>
          <p:nvPr/>
        </p:nvSpPr>
        <p:spPr>
          <a:xfrm>
            <a:off x="4238640" y="1197000"/>
            <a:ext cx="792000" cy="0"/>
          </a:xfrm>
          <a:prstGeom prst="line">
            <a:avLst/>
          </a:prstGeom>
          <a:ln w="12600">
            <a:solidFill>
              <a:srgbClr val="ed7d31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Connecteur droit 54"/>
          <p:cNvSpPr/>
          <p:nvPr/>
        </p:nvSpPr>
        <p:spPr>
          <a:xfrm>
            <a:off x="4584600" y="1197000"/>
            <a:ext cx="0" cy="539640"/>
          </a:xfrm>
          <a:prstGeom prst="line">
            <a:avLst/>
          </a:prstGeom>
          <a:ln w="12600">
            <a:solidFill>
              <a:srgbClr val="ed7d31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Connecteur droit 56"/>
          <p:cNvSpPr/>
          <p:nvPr/>
        </p:nvSpPr>
        <p:spPr>
          <a:xfrm>
            <a:off x="6149880" y="2112840"/>
            <a:ext cx="257400" cy="6480"/>
          </a:xfrm>
          <a:prstGeom prst="line">
            <a:avLst/>
          </a:prstGeom>
          <a:ln w="12600">
            <a:solidFill>
              <a:srgbClr val="004494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Connecteur droit 1"/>
          <p:cNvSpPr/>
          <p:nvPr/>
        </p:nvSpPr>
        <p:spPr>
          <a:xfrm>
            <a:off x="9975960" y="6043680"/>
            <a:ext cx="468360" cy="0"/>
          </a:xfrm>
          <a:prstGeom prst="line">
            <a:avLst/>
          </a:prstGeom>
          <a:ln w="12600">
            <a:solidFill>
              <a:srgbClr val="004494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Connecteur droit 2"/>
          <p:cNvSpPr/>
          <p:nvPr/>
        </p:nvSpPr>
        <p:spPr>
          <a:xfrm>
            <a:off x="9975960" y="6257880"/>
            <a:ext cx="468360" cy="0"/>
          </a:xfrm>
          <a:prstGeom prst="line">
            <a:avLst/>
          </a:prstGeom>
          <a:ln w="12600">
            <a:solidFill>
              <a:srgbClr val="ed7d31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ZoneTexte 3"/>
          <p:cNvSpPr/>
          <p:nvPr/>
        </p:nvSpPr>
        <p:spPr>
          <a:xfrm>
            <a:off x="10421280" y="5916600"/>
            <a:ext cx="117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alibri"/>
              </a:rPr>
              <a:t>Directrice général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ZoneTexte 8"/>
          <p:cNvSpPr/>
          <p:nvPr/>
        </p:nvSpPr>
        <p:spPr>
          <a:xfrm>
            <a:off x="10422360" y="6135840"/>
            <a:ext cx="150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alibri"/>
              </a:rPr>
              <a:t>Directeur général adjoi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ZoneTexte 8"/>
          <p:cNvSpPr/>
          <p:nvPr/>
        </p:nvSpPr>
        <p:spPr>
          <a:xfrm>
            <a:off x="6721560" y="3268800"/>
            <a:ext cx="29941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Fanny BILLARD ALEKSEEV </a:t>
            </a: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– Directrice adjointe</a:t>
            </a:r>
            <a:r>
              <a:rPr b="0" lang="mr-IN" sz="500" spc="-1" strike="noStrike">
                <a:solidFill>
                  <a:srgbClr val="004494"/>
                </a:solidFill>
                <a:latin typeface="Arial"/>
                <a:ea typeface="Mangal"/>
              </a:rPr>
              <a:t>–</a:t>
            </a: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 pilotage financier et qualité comptable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00" spc="-1" strike="noStrike">
                <a:solidFill>
                  <a:srgbClr val="004494"/>
                </a:solidFill>
                <a:latin typeface="Arial"/>
              </a:rPr>
              <a:t>Meguy NANA </a:t>
            </a:r>
            <a:r>
              <a:rPr b="0" lang="fr-FR" sz="500" spc="-1" strike="noStrike">
                <a:solidFill>
                  <a:srgbClr val="004494"/>
                </a:solidFill>
                <a:latin typeface="Arial"/>
              </a:rPr>
              <a:t>- Chargée de mission contrôle interne et gestion des risques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Rectangle 14" descr=""/>
          <p:cNvPicPr/>
          <p:nvPr/>
        </p:nvPicPr>
        <p:blipFill>
          <a:blip r:embed="rId1"/>
          <a:stretch/>
        </p:blipFill>
        <p:spPr>
          <a:xfrm>
            <a:off x="1463760" y="3322800"/>
            <a:ext cx="1743120" cy="579240"/>
          </a:xfrm>
          <a:prstGeom prst="rect">
            <a:avLst/>
          </a:prstGeom>
          <a:ln w="0">
            <a:noFill/>
          </a:ln>
        </p:spPr>
      </p:pic>
      <p:pic>
        <p:nvPicPr>
          <p:cNvPr id="131" name="Rectangle 14" descr=""/>
          <p:cNvPicPr/>
          <p:nvPr/>
        </p:nvPicPr>
        <p:blipFill>
          <a:blip r:embed="rId2"/>
          <a:stretch/>
        </p:blipFill>
        <p:spPr>
          <a:xfrm>
            <a:off x="1463760" y="4011480"/>
            <a:ext cx="1743120" cy="1438560"/>
          </a:xfrm>
          <a:prstGeom prst="rect">
            <a:avLst/>
          </a:prstGeom>
          <a:ln w="0">
            <a:noFill/>
          </a:ln>
        </p:spPr>
      </p:pic>
      <p:pic>
        <p:nvPicPr>
          <p:cNvPr id="132" name="Rectangle 30" descr=""/>
          <p:cNvPicPr/>
          <p:nvPr/>
        </p:nvPicPr>
        <p:blipFill>
          <a:blip r:embed="rId3"/>
          <a:stretch/>
        </p:blipFill>
        <p:spPr>
          <a:xfrm>
            <a:off x="9882360" y="2981160"/>
            <a:ext cx="1828800" cy="13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13:48:29Z</dcterms:created>
  <dc:creator>Walter PRIBAC</dc:creator>
  <dc:description/>
  <dc:language>en-US</dc:language>
  <cp:lastModifiedBy>Magali Chabanis</cp:lastModifiedBy>
  <cp:lastPrinted>2025-03-24T13:00:00Z</cp:lastPrinted>
  <dcterms:modified xsi:type="dcterms:W3CDTF">2025-05-23T07:24:08Z</dcterms:modified>
  <cp:revision>829</cp:revision>
  <dc:subject/>
  <dc:title>Diapositive 1</dc:title>
</cp:coreProperties>
</file>