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9038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058E-64EF-400F-8950-F071E294AC6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E82F-1D7C-46D7-80DA-DE5E94CE825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41400" y="749160"/>
            <a:ext cx="5010120" cy="37594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9080" y="4757400"/>
            <a:ext cx="5050080" cy="45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057320"/>
            <a:ext cx="9144000" cy="33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Montserrat SemiBold"/>
                <a:ea typeface="Open Sans"/>
              </a:rPr>
              <a:t>PRESENTATION DES REFERENCES DU OU DES ARCHITEC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ZoneTexte 1"/>
          <p:cNvSpPr/>
          <p:nvPr/>
        </p:nvSpPr>
        <p:spPr>
          <a:xfrm>
            <a:off x="0" y="17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Montserrat"/>
                <a:ea typeface="Times New Roman"/>
              </a:rPr>
              <a:t>Réhabilitation bâtiment FF2 - binôm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Montserrat"/>
                <a:ea typeface="Times New Roman"/>
              </a:rPr>
              <a:t>UFERDOCH / CME / D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f0"/>
                </a:solidFill>
                <a:latin typeface="Montserrat"/>
                <a:ea typeface="Times New Roman"/>
              </a:rPr>
              <a:t>La Candélie 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Montserrat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ZoneTexte 2"/>
          <p:cNvSpPr/>
          <p:nvPr/>
        </p:nvSpPr>
        <p:spPr>
          <a:xfrm>
            <a:off x="324000" y="1844640"/>
            <a:ext cx="84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Montserrat Light"/>
              </a:rPr>
              <a:t>Nom du mandataire du groupement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ableau 2" descr=""/>
          <p:cNvPicPr/>
          <p:nvPr/>
        </p:nvPicPr>
        <p:blipFill>
          <a:blip r:embed="rId1"/>
          <a:stretch/>
        </p:blipFill>
        <p:spPr>
          <a:xfrm>
            <a:off x="390600" y="5645160"/>
            <a:ext cx="8192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ableau 2" descr=""/>
          <p:cNvPicPr/>
          <p:nvPr/>
        </p:nvPicPr>
        <p:blipFill>
          <a:blip r:embed="rId1"/>
          <a:stretch/>
        </p:blipFill>
        <p:spPr>
          <a:xfrm>
            <a:off x="390600" y="5657760"/>
            <a:ext cx="81928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ableau 2" descr=""/>
          <p:cNvPicPr/>
          <p:nvPr/>
        </p:nvPicPr>
        <p:blipFill>
          <a:blip r:embed="rId1"/>
          <a:stretch/>
        </p:blipFill>
        <p:spPr>
          <a:xfrm>
            <a:off x="390600" y="5657760"/>
            <a:ext cx="81928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8:09:44Z</dcterms:created>
  <dc:creator/>
  <dc:description/>
  <dc:language>en-US</dc:language>
  <cp:lastModifiedBy/>
  <dcterms:modified xsi:type="dcterms:W3CDTF">2025-05-22T08:43:59Z</dcterms:modified>
  <cp:revision>1</cp:revision>
  <dc:subject/>
  <dc:title/>
</cp:coreProperties>
</file>