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4920" y="739800"/>
            <a:ext cx="4927680" cy="3695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681080"/>
            <a:ext cx="543888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BCC0A-19B2-4D3F-8E03-C4B808A807E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9349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79320" y="4681080"/>
            <a:ext cx="54388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Espace réservé du numéro de diapositiv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BBB40-DF0A-4046-94FC-B761377A112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9349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79320" y="4681080"/>
            <a:ext cx="54388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Espace réservé du numéro de diapositiv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9C570-F190-4C1F-8E52-2D2477C38B5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9349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9320" y="4681080"/>
            <a:ext cx="54388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Espace réservé du numéro de diapositiv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6B2E1-610B-4D28-AE0F-6A77115C8A9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F930-C9E8-4415-8482-E3A87F1EE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D482-0466-4D4A-B9F0-88B2656E2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0067-3A76-4619-88B6-9790702EF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6593-46A8-4117-9A84-D156F8828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D234-DACE-4136-84CA-01ECFA923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5542-3256-4D61-AB3C-3D9608861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4815-AEDF-49D5-BBA0-56D65D730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F283-D084-4373-84D2-2438D2DFD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D93D-49F5-424F-A61C-75D607D7C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9857-1087-402E-BC8B-CF2454470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2B3D-C8D4-459A-8822-34F1EEC1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6B86-6E7C-4D5B-9E3E-5C1A45149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BE991-EBE1-48F1-A033-BE1CA5A36D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2920" y="1628280"/>
            <a:ext cx="8786880" cy="50403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Opération 1 : Présenter 2 photographies si réhabilitation (avant et après, sous le même angle ou montrant une même partie de bâtiment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ZoneTexte 6"/>
          <p:cNvSpPr/>
          <p:nvPr/>
        </p:nvSpPr>
        <p:spPr>
          <a:xfrm>
            <a:off x="0" y="189000"/>
            <a:ext cx="914400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oneTexte 1"/>
          <p:cNvSpPr/>
          <p:nvPr/>
        </p:nvSpPr>
        <p:spPr>
          <a:xfrm>
            <a:off x="249120" y="96840"/>
            <a:ext cx="8572680" cy="12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om de l’opération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aître d’ouvrage :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ission candidat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nnée de livraison ou état avancement de la mission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ontant travaux :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€ HT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□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Neuf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□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Réhabili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2920" y="1628280"/>
            <a:ext cx="8786880" cy="50403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Opération 2 : Présenter 2 photographies si réhabilitation (avant et après, sous le même angle ou montrant une même partie de bâtiment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ZoneTexte 6"/>
          <p:cNvSpPr/>
          <p:nvPr/>
        </p:nvSpPr>
        <p:spPr>
          <a:xfrm>
            <a:off x="0" y="189000"/>
            <a:ext cx="914400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ZoneTexte 1"/>
          <p:cNvSpPr/>
          <p:nvPr/>
        </p:nvSpPr>
        <p:spPr>
          <a:xfrm>
            <a:off x="249120" y="96840"/>
            <a:ext cx="8572680" cy="12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om de l’opération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aître d’ouvrage :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ission candidat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nnée de livraison ou état avancement de la mission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ontant travaux :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€ HT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□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Neuf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□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Réhabili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2920" y="1628280"/>
            <a:ext cx="8786880" cy="50403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Opération 3 : Présenter 2 photographies si réhabilitation (avant et après, sous le même angle ou montrant une même partie de bâtiment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ZoneTexte 6"/>
          <p:cNvSpPr/>
          <p:nvPr/>
        </p:nvSpPr>
        <p:spPr>
          <a:xfrm>
            <a:off x="0" y="189000"/>
            <a:ext cx="914400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ZoneTexte 1"/>
          <p:cNvSpPr/>
          <p:nvPr/>
        </p:nvSpPr>
        <p:spPr>
          <a:xfrm>
            <a:off x="249120" y="96840"/>
            <a:ext cx="8572680" cy="12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om de l’opération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aître d’ouvrage :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ission candidat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nnée de livraison ou état avancement de la mission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ontant travaux :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€ HT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□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Neuf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□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Réhabili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1T17:10:29Z</dcterms:created>
  <dc:creator>PALLEY Carole</dc:creator>
  <dc:description/>
  <dc:language>en-US</dc:language>
  <cp:lastModifiedBy>DAZAMBUJA Xavier</cp:lastModifiedBy>
  <dcterms:modified xsi:type="dcterms:W3CDTF">2021-02-10T08:36:28Z</dcterms:modified>
  <cp:revision>28</cp:revision>
  <dc:subject/>
  <dc:title>opération 1:</dc:title>
</cp:coreProperties>
</file>