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9038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90384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A800-B8C4-4946-B083-F1AA7DEAB7F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AE4E-CD7A-4995-B851-CA5ADF48249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941400" y="749160"/>
            <a:ext cx="5010120" cy="37594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9080" y="4757400"/>
            <a:ext cx="5050080" cy="45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1560600"/>
            <a:ext cx="8496000" cy="33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Montserrat SemiBold"/>
                <a:ea typeface="Open Sans"/>
              </a:rPr>
              <a:t>PRESENTATION DES REFERENCES DU OU DES ARCHITEC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ZoneTexte 2"/>
          <p:cNvSpPr/>
          <p:nvPr/>
        </p:nvSpPr>
        <p:spPr>
          <a:xfrm>
            <a:off x="324000" y="2060640"/>
            <a:ext cx="84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Montserrat Light"/>
              </a:rPr>
              <a:t>Nom du mandataire du groupement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ZoneTexte 1"/>
          <p:cNvSpPr/>
          <p:nvPr/>
        </p:nvSpPr>
        <p:spPr>
          <a:xfrm>
            <a:off x="179280" y="260280"/>
            <a:ext cx="84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tserrat Black"/>
              </a:rPr>
              <a:t>Consultation n°2500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tserrat Black"/>
              </a:rPr>
              <a:t>Réhabilitation de l’accueil des urgences et de son pôle tertiaire, d’une unité post Urgences et d’une UHCD au Centre Hospitalier Agen-Né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ableau 2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ableau 3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ableau 3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ableau 3" descr=""/>
          <p:cNvPicPr/>
          <p:nvPr/>
        </p:nvPicPr>
        <p:blipFill>
          <a:blip r:embed="rId1"/>
          <a:stretch/>
        </p:blipFill>
        <p:spPr>
          <a:xfrm>
            <a:off x="390600" y="5572080"/>
            <a:ext cx="8192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8:09:44Z</dcterms:created>
  <dc:creator/>
  <dc:description/>
  <dc:language>en-US</dc:language>
  <cp:lastModifiedBy/>
  <dcterms:modified xsi:type="dcterms:W3CDTF">2025-04-14T13:07:57Z</dcterms:modified>
  <cp:revision>1</cp:revision>
  <dc:subject/>
  <dc:title/>
</cp:coreProperties>
</file>