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A92-F55D-45DA-AE87-389B9742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E3B-197E-4FC6-B1AF-3BE4612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909-4452-4D84-A12A-7F6B4DDF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AF7-58F0-4EB4-9D8B-C071A970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EAF-82C3-43DF-A3C9-8EF7ED1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948-8AC8-4D86-98E6-3D70A83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95A-1A05-4F7A-B707-3253831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2ED-C742-42E0-9EBD-BB56C1F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3EB-FEE7-4859-A50C-A11E420A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593-44B1-461C-9C1C-E1A8E2E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FA4-FFD4-438D-87FC-E233A24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4C7-58CF-4A95-B43B-F8B5947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38580-5E2B-4C96-A1B7-59E667B24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6059520" y="6521400"/>
            <a:ext cx="5757840" cy="90360"/>
          </a:xfrm>
          <a:prstGeom prst="rect">
            <a:avLst/>
          </a:prstGeom>
          <a:solidFill>
            <a:srgbClr val="0042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949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6059520" y="6521400"/>
            <a:ext cx="5757840" cy="90360"/>
          </a:xfrm>
          <a:prstGeom prst="rect">
            <a:avLst/>
          </a:prstGeom>
          <a:solidFill>
            <a:srgbClr val="0042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949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necteur droit 38"/>
          <p:cNvSpPr/>
          <p:nvPr/>
        </p:nvSpPr>
        <p:spPr>
          <a:xfrm>
            <a:off x="10345680" y="2565360"/>
            <a:ext cx="0" cy="2160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025960" y="723960"/>
            <a:ext cx="2436840" cy="97632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rice Généra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eur Général Adjoi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nseillère spéciale – Cheffe de cabine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Attachée de Direc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775880" y="6459480"/>
            <a:ext cx="11667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4494"/>
                </a:solidFill>
                <a:latin typeface="Calibri"/>
              </a:rPr>
              <a:t>7 Mars 20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cteur droit 103"/>
          <p:cNvSpPr/>
          <p:nvPr/>
        </p:nvSpPr>
        <p:spPr>
          <a:xfrm>
            <a:off x="3114720" y="-480960"/>
            <a:ext cx="106200" cy="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7"/>
          <p:cNvSpPr/>
          <p:nvPr/>
        </p:nvSpPr>
        <p:spPr>
          <a:xfrm>
            <a:off x="6523200" y="2979720"/>
            <a:ext cx="3232080" cy="3460680"/>
          </a:xfrm>
          <a:prstGeom prst="rect">
            <a:avLst/>
          </a:prstGeom>
          <a:noFill/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6672240" y="3278160"/>
            <a:ext cx="2994120" cy="830160"/>
          </a:xfrm>
          <a:prstGeom prst="rect">
            <a:avLst/>
          </a:prstGeom>
          <a:noFill/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029200" y="388800"/>
            <a:ext cx="24400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de6422"/>
                </a:solidFill>
                <a:latin typeface="Arial"/>
              </a:rPr>
              <a:t>Direction Généra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264520" y="4199040"/>
            <a:ext cx="1398600" cy="14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irecteur adjoint</a:t>
            </a:r>
            <a:r>
              <a:rPr b="1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irection des systèmes d’inform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ion des Systèmes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’Information DS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infrastructure, exploita° et sécurité du SI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1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Technicien S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1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ef de projet reporting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Appui Equipes suppor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2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nseillers Suppor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4 Chefs de projet informat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406520" y="3014640"/>
            <a:ext cx="1874880" cy="2500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irectrice adjoint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2135160" y="1084320"/>
            <a:ext cx="2082960" cy="52056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du pôle Presse et Communic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oordinateur Éditoria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 de communic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135160" y="774720"/>
            <a:ext cx="2082960" cy="3128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des relations Publiqu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Et de la Communication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672240" y="4208040"/>
            <a:ext cx="1433520" cy="138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irecteur adjoint </a:t>
            </a:r>
            <a:r>
              <a:rPr b="1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tratégie et réglementation financièr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Financier PF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0 Chargés de Miss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Sécurisa° Paiements-recouvrements - PSP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7 Chargés de mission financièr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2 Chargés d’instruct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PIA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4 Chargés de miss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534000" y="2687760"/>
            <a:ext cx="3232440" cy="3110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AFSIC – Direction de l’Administration, des Finance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es Systèmes d’Information et de la Comptabilité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9874080" y="2995560"/>
            <a:ext cx="1374840" cy="122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ric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Administratif et financie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éveloppement et gestion d’actif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Directeur des acquisitions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Directeur de la gestion des actif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Asset Manager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Sourcing &amp; Développ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Responsable investiss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9874080" y="2714760"/>
            <a:ext cx="1374840" cy="2728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Fonds d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Co-Investisse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5033880" y="52560"/>
            <a:ext cx="2435400" cy="233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de6422"/>
                </a:solidFill>
                <a:latin typeface="Arial"/>
              </a:rPr>
              <a:t>Conseil d’Administ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004494"/>
                </a:solidFill>
                <a:latin typeface="Arial"/>
              </a:rPr>
              <a:t>Présid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51400" y="3021120"/>
            <a:ext cx="2736720" cy="3589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ric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Assistante de direc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coord° budget, achats et partenariat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Extranet &amp; outillage interactif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543480" y="2700360"/>
            <a:ext cx="273672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S2A – Direction de la Stratégi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et de l’Accompagnement des Acteur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cteur droit 9"/>
          <p:cNvSpPr/>
          <p:nvPr/>
        </p:nvSpPr>
        <p:spPr>
          <a:xfrm>
            <a:off x="2828880" y="2519280"/>
            <a:ext cx="7516800" cy="270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necteur droit 47"/>
          <p:cNvSpPr/>
          <p:nvPr/>
        </p:nvSpPr>
        <p:spPr>
          <a:xfrm>
            <a:off x="5664240" y="2519280"/>
            <a:ext cx="0" cy="16848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necteur droit 52"/>
          <p:cNvSpPr/>
          <p:nvPr/>
        </p:nvSpPr>
        <p:spPr>
          <a:xfrm>
            <a:off x="8121600" y="2538360"/>
            <a:ext cx="0" cy="14436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6408720" y="1793880"/>
            <a:ext cx="2220840" cy="179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Pôle Maîtrise des risqu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407280" y="1974960"/>
            <a:ext cx="2208240" cy="27288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 Audi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ontrôleur inter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necteur droit 40"/>
          <p:cNvSpPr/>
          <p:nvPr/>
        </p:nvSpPr>
        <p:spPr>
          <a:xfrm flipH="1">
            <a:off x="6149880" y="1692360"/>
            <a:ext cx="7920" cy="8334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8"/>
          <p:cNvSpPr/>
          <p:nvPr/>
        </p:nvSpPr>
        <p:spPr>
          <a:xfrm>
            <a:off x="6594480" y="3000240"/>
            <a:ext cx="2994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 formation et animation du réseau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1"/>
          <p:cNvSpPr/>
          <p:nvPr/>
        </p:nvSpPr>
        <p:spPr>
          <a:xfrm>
            <a:off x="6721560" y="3524400"/>
            <a:ext cx="12808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Service Facturie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5 Chargés de miss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visa des dépenses de fonctionn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2"/>
          <p:cNvSpPr/>
          <p:nvPr/>
        </p:nvSpPr>
        <p:spPr>
          <a:xfrm>
            <a:off x="8169120" y="3505320"/>
            <a:ext cx="15195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Service Compt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2 comptabl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Contrôle de gestion et synthèse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ontrôleur de ges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3382920" y="1978200"/>
            <a:ext cx="2109960" cy="38088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ef de projet MOA transformation numér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ef de projet MOA transformation numér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3382920" y="1763640"/>
            <a:ext cx="21099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Pôle MOA transformation numériqu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678120" y="3449520"/>
            <a:ext cx="2468520" cy="170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rice adjointe Expertises Thématiques et Innov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Chargé de gestion administrative &amp;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Responsable de projets « innovation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Responsable de projets « Cohésions sociale 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Chargé de Mission Cohésion Sociale et co-construction CIF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Aménagement-Habitat-Transition écolog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 de mission Innovation et Transition Ecologiqu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Habit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Habitat Ancien&amp;Copro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 de mission Transition Ecolog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Aménag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Développement économique/Emploi/Inser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Agriculture Urbai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 Chargé de mission Dvpt Econom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Agriculture Urbai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686040" y="5256360"/>
            <a:ext cx="2467080" cy="12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eur Adjoint Pilotage et Accompagn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Formation et Animation des Réseaux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Conduite du changemen</a:t>
            </a:r>
            <a:r>
              <a:rPr b="0" i="1" lang="fr-FR" sz="500" spc="-1" strike="noStrike">
                <a:solidFill>
                  <a:srgbClr val="004494"/>
                </a:solidFill>
                <a:latin typeface="Arial"/>
              </a:rPr>
              <a:t>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 de mission animat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événementi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événementiel-animat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Réglementation-Evaluation – Prospectiv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Responsable de projets « évaluation 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 de mission évalu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 Chargée de mission Réglement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1 Chargée de mission Coordination de la réglement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necteur droit 6"/>
          <p:cNvSpPr/>
          <p:nvPr/>
        </p:nvSpPr>
        <p:spPr>
          <a:xfrm>
            <a:off x="7462800" y="1212840"/>
            <a:ext cx="124956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necteur droit 4"/>
          <p:cNvSpPr/>
          <p:nvPr/>
        </p:nvSpPr>
        <p:spPr>
          <a:xfrm>
            <a:off x="2828880" y="2519280"/>
            <a:ext cx="0" cy="19548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712360" y="434880"/>
            <a:ext cx="2357280" cy="1708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Directric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8712360" y="196920"/>
            <a:ext cx="2374920" cy="2491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Ressourc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764560" y="615600"/>
            <a:ext cx="2251080" cy="47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du pôle Ressources Humain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Adjointe au responsable RH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développement RH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développement des compétences*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Chargée de mission RH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8758080" y="1162800"/>
            <a:ext cx="2251080" cy="24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du pôle des Affaires Juridiques et des Achats PAJA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2 Juristes droit public des affair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8764560" y="1883520"/>
            <a:ext cx="2251080" cy="24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500" spc="-1" strike="noStrike">
                <a:solidFill>
                  <a:srgbClr val="004494"/>
                </a:solidFill>
                <a:latin typeface="Arial"/>
              </a:rPr>
              <a:t>* La Chargée de mission  développement des compétences est aussi Chargée de mission Conseil d’administr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758080" y="1506600"/>
            <a:ext cx="2251080" cy="32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 du pôle des moyens généraux et de la communication et évènementiel inter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1 Assistant Moyens Généraux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420920" y="2682720"/>
            <a:ext cx="1849320" cy="3384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Opérationnel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onnecteur droit 32"/>
          <p:cNvSpPr/>
          <p:nvPr/>
        </p:nvSpPr>
        <p:spPr>
          <a:xfrm>
            <a:off x="4238640" y="1197000"/>
            <a:ext cx="79200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cteur droit 54"/>
          <p:cNvSpPr/>
          <p:nvPr/>
        </p:nvSpPr>
        <p:spPr>
          <a:xfrm>
            <a:off x="4584600" y="1197000"/>
            <a:ext cx="0" cy="53964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onnecteur droit 56"/>
          <p:cNvSpPr/>
          <p:nvPr/>
        </p:nvSpPr>
        <p:spPr>
          <a:xfrm flipV="1">
            <a:off x="6149880" y="2111400"/>
            <a:ext cx="257400" cy="144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cteur droit 1"/>
          <p:cNvSpPr/>
          <p:nvPr/>
        </p:nvSpPr>
        <p:spPr>
          <a:xfrm>
            <a:off x="9975960" y="6043680"/>
            <a:ext cx="468360" cy="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necteur droit 2"/>
          <p:cNvSpPr/>
          <p:nvPr/>
        </p:nvSpPr>
        <p:spPr>
          <a:xfrm>
            <a:off x="9975960" y="6257880"/>
            <a:ext cx="46836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3"/>
          <p:cNvSpPr/>
          <p:nvPr/>
        </p:nvSpPr>
        <p:spPr>
          <a:xfrm>
            <a:off x="10421280" y="59166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Directrice génér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oneTexte 8"/>
          <p:cNvSpPr/>
          <p:nvPr/>
        </p:nvSpPr>
        <p:spPr>
          <a:xfrm>
            <a:off x="10422360" y="6135840"/>
            <a:ext cx="150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Directeur général adjoi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6721560" y="3268800"/>
            <a:ext cx="29941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Directrice adjointe</a:t>
            </a:r>
            <a:r>
              <a:rPr b="0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pilotage financier et qualité compt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contrôle interne et gestion des risqu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467000" y="3330720"/>
            <a:ext cx="1733400" cy="56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d’Appui à la Gestion Opérationnel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 </a:t>
            </a: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AGO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4 Assistantes CM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Rectangle 14" descr=""/>
          <p:cNvPicPr/>
          <p:nvPr/>
        </p:nvPicPr>
        <p:blipFill>
          <a:blip r:embed="rId1"/>
          <a:stretch/>
        </p:blipFill>
        <p:spPr>
          <a:xfrm>
            <a:off x="1463760" y="4011480"/>
            <a:ext cx="17431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3:48:29Z</dcterms:created>
  <dc:creator>Walter PRIBAC</dc:creator>
  <dc:description/>
  <dc:language>en-US</dc:language>
  <cp:lastModifiedBy>Alexandra Boulie</cp:lastModifiedBy>
  <cp:lastPrinted>2024-06-20T09:45:44Z</cp:lastPrinted>
  <dcterms:modified xsi:type="dcterms:W3CDTF">2025-03-17T10:55:30Z</dcterms:modified>
  <cp:revision>810</cp:revision>
  <dc:subject/>
  <dc:title>Diapositive 1</dc:title>
</cp:coreProperties>
</file>