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1BA-114B-4F41-A4CA-4E0545AF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9376-A2DC-4218-AEE6-57B230B9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8BEB-0837-48C0-B2B8-F3CD1152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258A-460E-4BBD-AB96-AD13F666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5FA-4876-4660-88D1-AD6853F7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220-6FDE-4F39-942F-6E55AFD8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3939-A66A-498D-8E32-8EE01956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539-DA7A-42B9-A2DF-BF441131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981-1364-476A-A999-6378A665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9D6F-692C-4A0A-856F-B68557FE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763-66B2-4550-A54F-DAD8C9F6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138-09C0-4871-92B7-6C875A93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67F6-8018-4A05-98F6-27629B49EC2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ez de chaussee"/>
          <p:cNvPicPr/>
          <p:nvPr/>
        </p:nvPicPr>
        <p:blipFill>
          <a:blip r:embed="rId1"/>
          <a:stretch/>
        </p:blipFill>
        <p:spPr>
          <a:xfrm>
            <a:off x="-612720" y="-603360"/>
            <a:ext cx="10058400" cy="775332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 rot="20577600">
            <a:off x="-28080" y="3431880"/>
            <a:ext cx="763560" cy="431640"/>
          </a:xfrm>
          <a:prstGeom prst="wedgeEllipseCallout">
            <a:avLst>
              <a:gd name="adj1" fmla="val -18657"/>
              <a:gd name="adj2" fmla="val 88634"/>
            </a:avLst>
          </a:prstGeom>
          <a:solidFill>
            <a:srgbClr val="ff5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 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Bureau AEC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4572000" y="1557360"/>
            <a:ext cx="863640" cy="431640"/>
          </a:xfrm>
          <a:prstGeom prst="wedgeEllipseCallout">
            <a:avLst>
              <a:gd name="adj1" fmla="val 40439"/>
              <a:gd name="adj2" fmla="val 59189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ESPACE PR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(Cuisin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-612720" y="115920"/>
            <a:ext cx="3097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203640" y="-387360"/>
            <a:ext cx="7207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-468360" y="-366840"/>
            <a:ext cx="2664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0" y="981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REZ-DE-CHAUSS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 rot="10672200">
            <a:off x="4572000" y="3790800"/>
            <a:ext cx="790560" cy="432000"/>
          </a:xfrm>
          <a:prstGeom prst="wedgeEllipseCallout">
            <a:avLst>
              <a:gd name="adj1" fmla="val 35393"/>
              <a:gd name="adj2" fmla="val 84828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ACCUEI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MC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3"/>
          <p:cNvSpPr/>
          <p:nvPr/>
        </p:nvSpPr>
        <p:spPr>
          <a:xfrm rot="20671200">
            <a:off x="2046240" y="4983120"/>
            <a:ext cx="754200" cy="480960"/>
          </a:xfrm>
          <a:prstGeom prst="wedgeEllipseCallout">
            <a:avLst>
              <a:gd name="adj1" fmla="val 55314"/>
              <a:gd name="adj2" fmla="val 52125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 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ADIE</a:t>
            </a: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4"/>
          <p:cNvSpPr/>
          <p:nvPr/>
        </p:nvSpPr>
        <p:spPr>
          <a:xfrm rot="20671200">
            <a:off x="2839680" y="4770360"/>
            <a:ext cx="727200" cy="480960"/>
          </a:xfrm>
          <a:prstGeom prst="wedgeEllipseCallout">
            <a:avLst>
              <a:gd name="adj1" fmla="val 40453"/>
              <a:gd name="adj2" fmla="val 54861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ADIE</a:t>
            </a:r>
            <a:r>
              <a:rPr b="1" lang="fr-FR" sz="5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5"/>
          <p:cNvSpPr/>
          <p:nvPr/>
        </p:nvSpPr>
        <p:spPr>
          <a:xfrm rot="20671200">
            <a:off x="1616040" y="3184200"/>
            <a:ext cx="736560" cy="480960"/>
          </a:xfrm>
          <a:prstGeom prst="wedgeEllipseCallout">
            <a:avLst>
              <a:gd name="adj1" fmla="val -8962"/>
              <a:gd name="adj2" fmla="val 69254"/>
            </a:avLst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 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ADIE</a:t>
            </a:r>
            <a:r>
              <a:rPr b="1" lang="fr-FR" sz="5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6"/>
          <p:cNvSpPr/>
          <p:nvPr/>
        </p:nvSpPr>
        <p:spPr>
          <a:xfrm rot="20671200">
            <a:off x="608040" y="5422680"/>
            <a:ext cx="693720" cy="480960"/>
          </a:xfrm>
          <a:prstGeom prst="wedgeEllipseCallout">
            <a:avLst>
              <a:gd name="adj1" fmla="val 55902"/>
              <a:gd name="adj2" fmla="val 48865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 4 BGA</a:t>
            </a:r>
            <a:r>
              <a:rPr b="1" lang="fr-FR" sz="5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7"/>
          <p:cNvSpPr/>
          <p:nvPr/>
        </p:nvSpPr>
        <p:spPr>
          <a:xfrm rot="723600">
            <a:off x="5219280" y="4797360"/>
            <a:ext cx="716040" cy="504720"/>
          </a:xfrm>
          <a:prstGeom prst="wedgeEllipseCallout">
            <a:avLst>
              <a:gd name="adj1" fmla="val 30240"/>
              <a:gd name="adj2" fmla="val 53990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 1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MCT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D. BAZANT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8"/>
          <p:cNvSpPr/>
          <p:nvPr/>
        </p:nvSpPr>
        <p:spPr>
          <a:xfrm rot="896400">
            <a:off x="5579640" y="2924280"/>
            <a:ext cx="739800" cy="439560"/>
          </a:xfrm>
          <a:prstGeom prst="wedgeEllipseCallout">
            <a:avLst>
              <a:gd name="adj1" fmla="val 53916"/>
              <a:gd name="adj2" fmla="val 89666"/>
            </a:avLst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 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FONDES</a:t>
            </a: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9"/>
          <p:cNvSpPr/>
          <p:nvPr/>
        </p:nvSpPr>
        <p:spPr>
          <a:xfrm rot="871800">
            <a:off x="6315120" y="3205080"/>
            <a:ext cx="711000" cy="439920"/>
          </a:xfrm>
          <a:prstGeom prst="wedgeEllipseCallout">
            <a:avLst>
              <a:gd name="adj1" fmla="val 39370"/>
              <a:gd name="adj2" fmla="val 66055"/>
            </a:avLst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 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FONDES</a:t>
            </a: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0"/>
          <p:cNvSpPr/>
          <p:nvPr/>
        </p:nvSpPr>
        <p:spPr>
          <a:xfrm rot="871800">
            <a:off x="6009840" y="4951080"/>
            <a:ext cx="727200" cy="439560"/>
          </a:xfrm>
          <a:prstGeom prst="wedgeEllipseCallout">
            <a:avLst>
              <a:gd name="adj1" fmla="val 39370"/>
              <a:gd name="adj2" fmla="val 66055"/>
            </a:avLst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 14 </a:t>
            </a: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FONDES</a:t>
            </a: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1"/>
          <p:cNvSpPr/>
          <p:nvPr/>
        </p:nvSpPr>
        <p:spPr>
          <a:xfrm rot="871800">
            <a:off x="7525800" y="4038480"/>
            <a:ext cx="930600" cy="511200"/>
          </a:xfrm>
          <a:prstGeom prst="wedgeEllipseCallout">
            <a:avLst>
              <a:gd name="adj1" fmla="val -66777"/>
              <a:gd name="adj2" fmla="val 14421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N° 12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Réseau entreprend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3"/>
          <p:cNvSpPr/>
          <p:nvPr/>
        </p:nvSpPr>
        <p:spPr>
          <a:xfrm rot="10672200">
            <a:off x="6732000" y="5157360"/>
            <a:ext cx="1368360" cy="576360"/>
          </a:xfrm>
          <a:prstGeom prst="wedgeEllipseCallout">
            <a:avLst>
              <a:gd name="adj1" fmla="val -33578"/>
              <a:gd name="adj2" fmla="val -80504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N° 1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Salle de Réunion Rd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(18 pers.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5"/>
          <p:cNvSpPr/>
          <p:nvPr/>
        </p:nvSpPr>
        <p:spPr>
          <a:xfrm rot="10672200">
            <a:off x="7092720" y="3208320"/>
            <a:ext cx="1582560" cy="579600"/>
          </a:xfrm>
          <a:prstGeom prst="wedgeEllipseCallout">
            <a:avLst>
              <a:gd name="adj1" fmla="val -32166"/>
              <a:gd name="adj2" fmla="val -64939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N° 1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Réseau entreprend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6"/>
          <p:cNvSpPr/>
          <p:nvPr/>
        </p:nvSpPr>
        <p:spPr>
          <a:xfrm rot="20671200">
            <a:off x="1328400" y="5354280"/>
            <a:ext cx="666720" cy="480960"/>
          </a:xfrm>
          <a:prstGeom prst="wedgeEllipseCallout">
            <a:avLst>
              <a:gd name="adj1" fmla="val 51597"/>
              <a:gd name="adj2" fmla="val 46300"/>
            </a:avLst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 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BGA</a:t>
            </a:r>
            <a:r>
              <a:rPr b="1" lang="fr-FR" sz="5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6156360" y="476280"/>
            <a:ext cx="25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Mise à jour septembr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8"/>
          <p:cNvSpPr/>
          <p:nvPr/>
        </p:nvSpPr>
        <p:spPr>
          <a:xfrm rot="20677800">
            <a:off x="763560" y="3342960"/>
            <a:ext cx="927000" cy="506520"/>
          </a:xfrm>
          <a:prstGeom prst="wedgeEllipseCallout">
            <a:avLst>
              <a:gd name="adj1" fmla="val 39773"/>
              <a:gd name="adj2" fmla="val -5810"/>
            </a:avLst>
          </a:pr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 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Bureau des associatio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1"/>
          <p:cNvSpPr/>
          <p:nvPr/>
        </p:nvSpPr>
        <p:spPr>
          <a:xfrm rot="747600">
            <a:off x="2324160" y="2951280"/>
            <a:ext cx="930240" cy="511200"/>
          </a:xfrm>
          <a:prstGeom prst="wedgeEllipseCallout">
            <a:avLst>
              <a:gd name="adj1" fmla="val -66777"/>
              <a:gd name="adj2" fmla="val 14421"/>
            </a:avLst>
          </a:prstGeom>
          <a:solidFill>
            <a:srgbClr val="ff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fr-FR" sz="700" spc="-1" strike="noStrike">
                <a:solidFill>
                  <a:srgbClr val="000000"/>
                </a:solidFill>
                <a:latin typeface="Tahoma"/>
              </a:rPr>
              <a:t>N°8 </a:t>
            </a:r>
            <a:r>
              <a:rPr b="1" lang="fr-FR" sz="600" spc="-1" strike="noStrike">
                <a:solidFill>
                  <a:srgbClr val="000000"/>
                </a:solidFill>
                <a:latin typeface="Tahoma"/>
              </a:rPr>
              <a:t>Réseau entreprend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er etage"/>
          <p:cNvPicPr/>
          <p:nvPr/>
        </p:nvPicPr>
        <p:blipFill>
          <a:blip r:embed="rId1"/>
          <a:stretch/>
        </p:blipFill>
        <p:spPr>
          <a:xfrm>
            <a:off x="-468360" y="0"/>
            <a:ext cx="10058400" cy="7753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0"/>
          <p:cNvSpPr/>
          <p:nvPr/>
        </p:nvSpPr>
        <p:spPr>
          <a:xfrm>
            <a:off x="-324000" y="476280"/>
            <a:ext cx="10083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2700360" y="549360"/>
            <a:ext cx="2872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2"/>
          <p:cNvSpPr/>
          <p:nvPr/>
        </p:nvSpPr>
        <p:spPr>
          <a:xfrm>
            <a:off x="5796000" y="333360"/>
            <a:ext cx="187164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5867280" y="549360"/>
            <a:ext cx="86544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4859280" y="5157720"/>
            <a:ext cx="2737080" cy="237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-181080" y="3284640"/>
            <a:ext cx="4320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6"/>
          <p:cNvSpPr/>
          <p:nvPr/>
        </p:nvSpPr>
        <p:spPr>
          <a:xfrm>
            <a:off x="8748720" y="3933720"/>
            <a:ext cx="792000" cy="93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7"/>
          <p:cNvSpPr/>
          <p:nvPr/>
        </p:nvSpPr>
        <p:spPr>
          <a:xfrm>
            <a:off x="-181080" y="5877000"/>
            <a:ext cx="2737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fr-FR" sz="1800" spc="-1" strike="noStrike" baseline="30000">
                <a:solidFill>
                  <a:srgbClr val="000000"/>
                </a:solidFill>
                <a:latin typeface="Tahoma"/>
              </a:rPr>
              <a:t>er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ahoma"/>
                <a:ea typeface="Tahoma"/>
              </a:rPr>
              <a:t>É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0"/>
          <p:cNvSpPr/>
          <p:nvPr/>
        </p:nvSpPr>
        <p:spPr>
          <a:xfrm rot="10800000">
            <a:off x="468000" y="2781000"/>
            <a:ext cx="1368360" cy="576360"/>
          </a:xfrm>
          <a:prstGeom prst="wedgeEllipseCallout">
            <a:avLst>
              <a:gd name="adj1" fmla="val -52902"/>
              <a:gd name="adj2" fmla="val -56064"/>
            </a:avLst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Tahoma"/>
              </a:rPr>
              <a:t>Salle ROU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Tahoma"/>
              </a:rPr>
              <a:t>(Réunion 24 pers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Tahoma"/>
              </a:rPr>
              <a:t>Formation 22 pers.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2"/>
          <p:cNvSpPr/>
          <p:nvPr/>
        </p:nvSpPr>
        <p:spPr>
          <a:xfrm rot="10800000">
            <a:off x="7164000" y="2274840"/>
            <a:ext cx="1446120" cy="936720"/>
          </a:xfrm>
          <a:prstGeom prst="wedgeEllipseCallout">
            <a:avLst>
              <a:gd name="adj1" fmla="val 47694"/>
              <a:gd name="adj2" fmla="val -52884"/>
            </a:avLst>
          </a:prstGeom>
          <a:solidFill>
            <a:srgbClr val="008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Tahoma"/>
              </a:rPr>
              <a:t>Salle VER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ffff"/>
                </a:solidFill>
                <a:latin typeface="Tahoma"/>
              </a:rPr>
              <a:t>(Conférence 64 pers.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4"/>
          <p:cNvSpPr/>
          <p:nvPr/>
        </p:nvSpPr>
        <p:spPr>
          <a:xfrm rot="10555200">
            <a:off x="4874760" y="1270080"/>
            <a:ext cx="925560" cy="495360"/>
          </a:xfrm>
          <a:prstGeom prst="wedgeEllipseCallout">
            <a:avLst>
              <a:gd name="adj1" fmla="val 59231"/>
              <a:gd name="adj2" fmla="val -63259"/>
            </a:avLst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RESERVE Cf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6"/>
          <p:cNvSpPr/>
          <p:nvPr/>
        </p:nvSpPr>
        <p:spPr>
          <a:xfrm rot="20942400">
            <a:off x="1547640" y="1413000"/>
            <a:ext cx="792360" cy="493560"/>
          </a:xfrm>
          <a:prstGeom prst="wedgeEllipseCallout">
            <a:avLst>
              <a:gd name="adj1" fmla="val 39189"/>
              <a:gd name="adj2" fmla="val 58513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1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CC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P. GOUPILL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1"/>
          <p:cNvSpPr/>
          <p:nvPr/>
        </p:nvSpPr>
        <p:spPr>
          <a:xfrm rot="20942400">
            <a:off x="2916360" y="3141360"/>
            <a:ext cx="741240" cy="503280"/>
          </a:xfrm>
          <a:prstGeom prst="wedgeEllipseCallout">
            <a:avLst>
              <a:gd name="adj1" fmla="val 37990"/>
              <a:gd name="adj2" fmla="val 58925"/>
            </a:avLst>
          </a:prstGeom>
          <a:solidFill>
            <a:srgbClr val="cccc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19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CCI/ B.Ousse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2"/>
          <p:cNvSpPr/>
          <p:nvPr/>
        </p:nvSpPr>
        <p:spPr>
          <a:xfrm>
            <a:off x="3851280" y="2997360"/>
            <a:ext cx="1244520" cy="792000"/>
          </a:xfrm>
          <a:prstGeom prst="wedgeEllipseCallout">
            <a:avLst>
              <a:gd name="adj1" fmla="val 43240"/>
              <a:gd name="adj2" fmla="val 47393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CCI - Accuei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CF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M.COURTIN/E.BRIQUE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3"/>
          <p:cNvSpPr/>
          <p:nvPr/>
        </p:nvSpPr>
        <p:spPr>
          <a:xfrm rot="20942400">
            <a:off x="2411280" y="1557360"/>
            <a:ext cx="792360" cy="493560"/>
          </a:xfrm>
          <a:prstGeom prst="wedgeEllipseCallout">
            <a:avLst>
              <a:gd name="adj1" fmla="val -40601"/>
              <a:gd name="adj2" fmla="val 59439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CCI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E. Maille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4"/>
          <p:cNvSpPr/>
          <p:nvPr/>
        </p:nvSpPr>
        <p:spPr>
          <a:xfrm rot="832200">
            <a:off x="5292720" y="3141720"/>
            <a:ext cx="741240" cy="503280"/>
          </a:xfrm>
          <a:prstGeom prst="wedgeEllipseCallout">
            <a:avLst>
              <a:gd name="adj1" fmla="val 35870"/>
              <a:gd name="adj2" fmla="val 60837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2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CCI</a:t>
            </a:r>
            <a:r>
              <a:rPr b="1" lang="fr-FR" sz="5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L. Bout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5"/>
          <p:cNvSpPr/>
          <p:nvPr/>
        </p:nvSpPr>
        <p:spPr>
          <a:xfrm rot="832200">
            <a:off x="6012000" y="3500280"/>
            <a:ext cx="741240" cy="503280"/>
          </a:xfrm>
          <a:prstGeom prst="wedgeEllipseCallout">
            <a:avLst>
              <a:gd name="adj1" fmla="val 35699"/>
              <a:gd name="adj2" fmla="val 62828"/>
            </a:avLst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2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CCI</a:t>
            </a:r>
            <a:r>
              <a:rPr b="1" lang="fr-FR" sz="5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S. Chevé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7"/>
          <p:cNvSpPr/>
          <p:nvPr/>
        </p:nvSpPr>
        <p:spPr>
          <a:xfrm rot="895200">
            <a:off x="6362280" y="1552320"/>
            <a:ext cx="879480" cy="360360"/>
          </a:xfrm>
          <a:prstGeom prst="wedgeEllipseCallout">
            <a:avLst>
              <a:gd name="adj1" fmla="val -19328"/>
              <a:gd name="adj2" fmla="val 11577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2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Bureau CF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8"/>
          <p:cNvSpPr/>
          <p:nvPr/>
        </p:nvSpPr>
        <p:spPr>
          <a:xfrm flipH="1">
            <a:off x="5651640" y="1052640"/>
            <a:ext cx="288720" cy="1152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9"/>
          <p:cNvSpPr/>
          <p:nvPr/>
        </p:nvSpPr>
        <p:spPr>
          <a:xfrm flipH="1">
            <a:off x="6227280" y="1239840"/>
            <a:ext cx="257400" cy="965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0"/>
          <p:cNvSpPr/>
          <p:nvPr/>
        </p:nvSpPr>
        <p:spPr>
          <a:xfrm rot="797400">
            <a:off x="5835240" y="1060560"/>
            <a:ext cx="936720" cy="452160"/>
          </a:xfrm>
          <a:prstGeom prst="wedgeEllipseCallout">
            <a:avLst>
              <a:gd name="adj1" fmla="val -26587"/>
              <a:gd name="adj2" fmla="val 95587"/>
            </a:avLst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Bureau CF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5"/>
          <p:cNvSpPr/>
          <p:nvPr/>
        </p:nvSpPr>
        <p:spPr>
          <a:xfrm>
            <a:off x="611280" y="630864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ahoma"/>
              </a:rPr>
              <a:t>Mise à jour  janvier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 rot="20671200">
            <a:off x="2080800" y="3261960"/>
            <a:ext cx="717480" cy="439560"/>
          </a:xfrm>
          <a:prstGeom prst="wedgeEllipseCallout">
            <a:avLst>
              <a:gd name="adj1" fmla="val -38671"/>
              <a:gd name="adj2" fmla="val 70018"/>
            </a:avLst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fr-FR" sz="700" spc="-1" strike="noStrike">
                <a:solidFill>
                  <a:srgbClr val="ff0000"/>
                </a:solidFill>
                <a:latin typeface="Tahoma"/>
              </a:rPr>
              <a:t>N° 18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00" spc="-1" strike="noStrike">
                <a:solidFill>
                  <a:srgbClr val="000000"/>
                </a:solidFill>
                <a:latin typeface="Tahoma"/>
              </a:rPr>
              <a:t>IDEAA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3:37:24Z</dcterms:created>
  <dc:creator>cteyssier</dc:creator>
  <dc:description/>
  <dc:language>en-US</dc:language>
  <cp:lastModifiedBy>Rondouin Rémy</cp:lastModifiedBy>
  <dcterms:modified xsi:type="dcterms:W3CDTF">2014-05-20T05:23:22Z</dcterms:modified>
  <cp:revision>51</cp:revision>
  <dc:subject/>
  <dc:title>Diapositive 1</dc:title>
</cp:coreProperties>
</file>