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5596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006640" y="746280"/>
            <a:ext cx="279720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5C5C-546C-4736-B0F4-6174B5491F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5960" y="944244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28B6-C767-483E-8946-A9DB16E019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006640" y="746280"/>
            <a:ext cx="279720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11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664-7CC0-452A-B82C-A1930410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560" y="57434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2F7C-86C2-44F9-B0CA-A9DF5279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8560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808-D9E1-4888-85D9-AD271948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797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309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5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5797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5309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813-EF7A-4C20-ABAF-FD7BC1F7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2D3C-AE0C-4B4A-866F-7B1E6A8F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C85-C529-4537-BBF3-9D08A51F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3607-FB5B-44DA-BEB1-D37B4A9E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B8FB-069D-42D0-B015-6494DDF4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B4EF-A7B6-4183-B7A5-71418000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68160" y="1112400"/>
            <a:ext cx="57506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46D1-4531-4433-8656-B62447C2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289B-EABF-474F-93F0-042D745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D34A-AD83-4ED6-B271-30E6F2E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8560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8D2-9F1C-43E3-8FE5-63D5F94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4842-3B74-4CA9-A9CE-4573F5A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28560" y="57434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AF8B-24DB-4AC9-86C4-DED4068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58560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C642-B92C-4D61-94D6-DF37992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5797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30960" y="31496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85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5797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4530960" y="5743440"/>
            <a:ext cx="185796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47D4-BA8F-448D-B3EF-C871F4F7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17A-9A38-4C24-8855-AA0BFB12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FBC-D797-4279-8663-925EF829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CD9F-4EBE-49FB-8375-F9E42CE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68160" y="1112400"/>
            <a:ext cx="57506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0293-8F9C-4A08-8962-5268BE9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C3C-EE71-48E9-AF8E-37AF2FCF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85600" y="57434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79B-6950-4424-9B89-E694A4F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85600" y="3149640"/>
            <a:ext cx="281592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5743440"/>
            <a:ext cx="5770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23B-057D-4AB2-8001-87F50F2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714640" cy="9143280"/>
            <a:chOff x="0" y="0"/>
            <a:chExt cx="5714640" cy="914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2399760" cy="9143280"/>
              <a:chOff x="0" y="0"/>
              <a:chExt cx="2399760" cy="914328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571320" cy="9143280"/>
              </a:xfrm>
              <a:prstGeom prst="rect">
                <a:avLst/>
              </a:pr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2720" y="0"/>
                <a:ext cx="2057040" cy="15555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171360" y="2641320"/>
              <a:ext cx="5543280" cy="425160"/>
              <a:chOff x="171360" y="2641320"/>
              <a:chExt cx="5543280" cy="42516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456840" y="2641320"/>
                <a:ext cx="5257800" cy="423000"/>
              </a:xfrm>
              <a:prstGeom prst="roundRect">
                <a:avLst>
                  <a:gd name="adj" fmla="val 0"/>
                </a:avLst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171360" y="2641320"/>
                <a:ext cx="295200" cy="425160"/>
              </a:xfrm>
              <a:prstGeom prst="flowChartDelay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3360" y="8323200"/>
            <a:ext cx="43992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FEC4-2091-4BDA-9383-69FCC3603F20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4400280" cy="9143640"/>
            <a:chOff x="0" y="0"/>
            <a:chExt cx="4400280" cy="914364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3429000" cy="914364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514080" y="1320840"/>
              <a:ext cx="3886200" cy="2539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2723760" y="6519960"/>
            <a:ext cx="3657960" cy="425160"/>
            <a:chOff x="2723760" y="6519960"/>
            <a:chExt cx="3657960" cy="425160"/>
          </a:xfrm>
        </p:grpSpPr>
        <p:sp>
          <p:nvSpPr>
            <p:cNvPr id="52" name="AutoShape 6"/>
            <p:cNvSpPr/>
            <p:nvPr/>
          </p:nvSpPr>
          <p:spPr>
            <a:xfrm flipH="1">
              <a:off x="2723400" y="6519960"/>
              <a:ext cx="3470760" cy="423360"/>
            </a:xfrm>
            <a:prstGeom prst="roundRect">
              <a:avLst>
                <a:gd name="adj" fmla="val 0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6186600" y="6519960"/>
              <a:ext cx="195120" cy="425160"/>
            </a:xfrm>
            <a:prstGeom prst="flowChartDelay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8160" y="1112400"/>
            <a:ext cx="5750640" cy="13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28560" y="3149640"/>
            <a:ext cx="57708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828440" y="8331120"/>
            <a:ext cx="15987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343040" y="8331120"/>
            <a:ext cx="21733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57240" y="8330760"/>
            <a:ext cx="44136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E817-272E-4645-9BF1-596004F856A2}" type="slidenum">
              <a:rPr b="1" lang="fr-F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9360" y="3492000"/>
            <a:ext cx="6308640" cy="56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iste d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te de calc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antation du C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antation armoires et coffrets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D salle Micro-Dif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D salle Ondu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mplantation Eclairage + Arrêt d’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Not de calcul Eclai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héma électrique 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héma électrique T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héma électrique TFL22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noptique Distribution AGL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ynoptique Fonctionnel Arrêt d’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chéma électrique TD2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che Technique BA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che Technique Tube Fl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36640" y="3132000"/>
            <a:ext cx="511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15360" indent="-3153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OMM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394000" y="0"/>
            <a:ext cx="185400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773360" y="1042920"/>
            <a:ext cx="3313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16E Avenue Montai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S 50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7198 Dammarie-les-Lys Ce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16120" y="539640"/>
            <a:ext cx="1854360" cy="720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773360" y="1042920"/>
            <a:ext cx="3313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16E Avenue Montaig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S 503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7198 Dammarie-les-Lys Ce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28560" y="3149280"/>
            <a:ext cx="6221520" cy="59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 startAt="1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che Technique Arrêt d’urgence sur fond ja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 startAt="1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che Technique Arrêt d’urgence sur fond ro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 startAt="1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iche D’autocontrô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19:02Z</dcterms:created>
  <dc:creator>dechadirac</dc:creator>
  <dc:description/>
  <dc:language>en-US</dc:language>
  <cp:lastModifiedBy>MSOTTOZ</cp:lastModifiedBy>
  <cp:lastPrinted>2016-11-22T13:48:49Z</cp:lastPrinted>
  <dcterms:modified xsi:type="dcterms:W3CDTF">2017-03-28T12:24:35Z</dcterms:modified>
  <cp:revision>42</cp:revision>
  <dc:subject/>
  <dc:title>ECOLE REGIONALE DU PREMIER DEGRE 13 RUE</dc:title>
</cp:coreProperties>
</file>