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PI Emile Ma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dt" idx="5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ftr" idx="5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 type="sldNum" idx="6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047-3C23-40E7-8FDF-DD0211FD3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PI Emile Mathi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17C-46DC-41D8-8B3D-4C0FEC017C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PI Emile Mathi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022-C769-4CC5-8B50-6C35A4DA83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PI Emile Mathi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387A-3888-4131-BFAD-E9AC99FC37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PI Emile Mathi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014A-698D-4C0E-AE2E-FEC2AB0269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1B7-519F-439A-9AFE-8477B05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380-42A0-4040-BB0C-A1BA2F24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7089-9F71-4578-9F33-AF7BDF5C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9071-6861-499A-8A89-1DA40B7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9952-942A-49E0-83F5-2E23067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CADF-86D0-44FF-B9C8-A69CDF25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AD20-FFBE-4D84-A329-676FDD1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07D4-AE1B-433B-BBC8-E9A8131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F946-450D-45F5-8C14-CA85009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3233-833F-497E-9AB5-403A1DA8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FBA3-FCC6-47C4-94E0-D9FE77D6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C805F-4C63-4092-A3A5-F6A41E8D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42D-C8EE-46AC-BD88-D2F2C90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09CC1-938D-4BA3-A1A4-F1BDB21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1162F-5566-4DE4-8624-E77EE3E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05ED7-21EC-455B-A860-EEA63A7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51D74-499A-4B82-AED2-4AD98C1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239ED-771A-422B-A0A6-4800928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C2124-D661-4D06-9453-E509523C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BD70A-F3DB-46AC-8648-F6AE00B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CECC-6AB2-44A5-B227-58A8F4E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587BA-149B-403D-8002-F973E2F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87FC4-8350-4625-99E5-F5910CD6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6A0-F3D6-431B-A6B8-FD32D044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B151-66A2-42A8-B023-47E7B972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EB9ED-BA68-44F2-836B-6377DADC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6420D-F3C8-475C-BED9-9F0CE3C3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4714C-A9BD-4206-9266-C01059E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CA867-187B-480D-99EF-B655C5B4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4DE6B-793A-4CC4-A9E2-F8DE104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50B34-186C-4A31-95EE-19383CF0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CFFE-D6C0-4664-99CA-8F9FD478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E1028-9C0D-4E2B-A801-855831B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2693-9E1C-4F0A-952D-385AE7E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95A-CF4E-4CDF-8593-D1DB0F9F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1E8F-0A95-40F0-878D-3CA3BC0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E7545-D4F2-4279-9245-20F9BE48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26FA5-378D-4889-8AB6-17820A37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FFC80-18DA-433A-BAA3-C821255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48926-E167-4575-A8FC-B60E784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81B9E-040B-4A17-A872-4D0E14B4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CD541-B57A-4A52-A5F6-0A09C53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FDD4A-FA8B-4D6A-B811-4823C118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CBABE-15F2-4BFB-81E5-B8871EF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B7163-E343-44E7-9202-2CCCC0B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0F6-9E59-4BF2-B089-569CBB0A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7EB95-D0A7-4ED0-B743-B21D3BD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32B8-8B56-48EF-B30C-B92A208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5333-BDB2-46FB-974B-69952789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66196-9D6F-4F17-B3EF-C31FA8C3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4DA3F-1D4C-4909-BA05-E61FD1FA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53FD5-CF20-4DBE-871B-5D463B94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745F8-7F11-49C6-A2CC-D8F87AF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B51EA-AD19-489C-975C-646BBAFB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72A4A-C18E-4A34-ACE4-7840625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327E3-198A-4D00-9D31-88DEC59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A3E4-F316-4FAA-8DA6-CEE67984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0D09-0AAE-4E4A-B338-C06EF49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B59FE-1EDE-4302-9CBB-0847257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0D7B9-D3E0-41E5-BDCF-98581BC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CAB06-9BAB-4174-AAA0-F064DCBE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99C41-4A01-49B9-B86A-14D7588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C57EA-A8D2-4FC8-9299-D746B544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38E04-F825-4944-A4E2-F5A887BC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007A3-577B-4A8B-8275-E1A85BF4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86417-CC1D-4BBD-9514-C16F65F1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0B3CC-F344-452C-B7CD-3D59B40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CA4-92D3-4574-ABD2-347AC6F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1FB41-CD2B-45B4-AE04-00BDA7F6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BB63F-F839-4E2D-8CE8-1F661D2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E564C-C2B8-4932-883A-4248BB2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45800-E348-42AB-9C84-78ABCA8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BB153-4B88-4304-AE6C-6137DCA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20910-A2E5-4321-80C0-2C99E2C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3CF42-C761-4648-9221-93E2941C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40881-233F-4F1B-9162-0E1D997E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31F8C-D506-4A5F-88C5-EC42A16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8639A-2E52-4BF2-A1EB-446868C9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25C-1536-45C8-8FF1-EDCD43B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73420-E9AD-4957-9741-0B18A17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88458-F59D-44C7-AAB5-B655AF72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A8D16-EEF8-4D26-80F4-79F4A29C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87FA2-2635-4E45-B50C-24FA1FB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50604-179C-4995-B619-68F196F1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4AAE4-A8F6-459F-A188-E6E180C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42BE7-C71B-4864-9C73-FEA7E4F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DF09C-DD9B-4E48-8331-8657C76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8D4FD-36AF-4255-A26C-0CD7D3CB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EE582-2BB6-4886-A2A2-49725203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A54-521C-4712-AC32-53C3275F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6DCF8-D5BE-4172-9B89-3FB7700F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72AC8-EC5B-4F61-BAD6-6449241B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F0C60-53B5-49FB-B916-4C7370C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D826C-1882-4886-9459-5649425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7AF2D-2987-4A07-B66B-D26B92D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15D86-697C-45C8-ADEF-EE47792F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BFA69-BB5F-44D9-9FDF-36099B2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533A2-E2B8-4AC5-AC12-4F1FA44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1FDBA-35A6-4393-898C-EA314D5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612F1-B0F6-4E52-A1AB-CAE1515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1FD-9EA0-4C18-9EC2-6BC3A51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D626B-E636-4617-BAA7-8068D97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B916B-AC1A-43F1-8F2B-A72C0C73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3F0B2-E130-459C-9726-1F1F7143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EA9-483E-4DF5-8768-648A3812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3B4D-0EB5-46D4-BCF7-24149F6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23F7-4B22-4DC0-A2DE-C0B842F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F33-31E7-47E6-8BFD-FE804D4B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9A57A-FBB3-4D36-AB3E-4EF2DB6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F91-ED4C-4A85-A907-3946D620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F56CF-524E-45DC-8E63-32B251C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8D192-FBE8-418B-BE0B-9AC101C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E925D-3BB4-4FC8-9DA8-B021501E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D3956-B41E-4A4E-A910-B2C03E7D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AEF0C-95A1-4FD4-AB50-8EBE43E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883DB-5B37-4811-9EA3-8903AD8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FFDA2-B92A-4380-8660-48CB646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90942-B11B-415A-BD1A-40DF8C0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A5808-0745-438A-9600-578C54B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245BD-54AF-4867-B5EE-CB3AA1B7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110-A707-4755-A395-43658B94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0CCCB-3D6D-40E3-99DB-643B0C66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014F3-850E-4406-8223-528DAA54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612D8-D5DC-4C8F-8068-958689DB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F5D6E-8A9B-4CDB-832F-DC8D1EF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F8D73-287D-44CD-A1AE-44C3C6F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FC17E-8227-4E04-8218-041B9CD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06B4C-BAAE-438D-BC1C-4EC72877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8EFC9-ED62-4FF3-9A9D-361BFD1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70DE8-05DA-45DA-8AF4-D194A98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FB553-85DB-43B6-81C6-CA56DD2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DCACA-E65F-40F3-8177-4EFD1A5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09354-729B-459C-A64C-ECCDB417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C14C7-B2B3-459F-9EF8-A2DAA254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8E25B-A5A9-4659-8E63-9211A37A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E46A9-FD46-4207-8D40-CC2E85B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6A76E-EC02-4809-A627-A380A0E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1E6ED-D019-4235-899D-64D3126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8805A-BC4C-4767-A309-D82521C9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750BA-E064-4498-8E42-2860101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D2CD2-97DD-4747-B2FD-E0912C1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CB2E9-61B6-438F-891C-67FD76A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43E61-ACC7-40FD-AF89-9D9FED1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C04E8-FE82-4717-9E72-90AF0AC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5B945-B9DD-4311-8364-E52C7B20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3559D-9D5B-4EF6-AD0F-39097383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59026-6E54-4D4F-ACE1-EFF79F68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6AAA4-9DBA-4398-A029-AAED5111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26D17-7EE3-47C6-A7B0-09F95F9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60346-6757-4397-AC49-12ED859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314B6-116E-47C5-8482-A99D4C9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49911-E036-4F30-9418-C56B414E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0889B-F82F-464E-BA36-C1F4FA0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44DC7-C478-4D42-9D53-F5BED3F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92B8E-B9D1-4A01-8F10-C4DF014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FBC99-ED08-4347-A2D4-F6A725AD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E427A-2219-461C-85A8-65CE7959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852D7F-9576-474A-8263-18486F16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CE0-1D87-4051-AA05-094B8FE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6A8B-D2A2-4CE9-BEC5-DBA0C2C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9163-9C8C-4FA1-AF09-7DC0364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1BA5-6A1B-4B25-9A2E-7965A60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D8C-BA56-46BC-8576-7CAFAFE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3972-66D6-4D84-B6A3-F764461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EF30-CCD9-4B93-AA59-F1F66A4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7DED-6568-4DD0-B7CF-93330F3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0E6B-1067-4223-954D-895BE43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206C-5857-4B3C-B199-F04CBCA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6B40-812F-4C72-A87C-E476386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151D-E2A6-4469-BA5D-C4C4114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C103-7849-4A80-9F2F-0CEAC16F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81FF-1BA3-441B-A766-D98258B7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95CD-30CB-4C3E-8EB4-BC125955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708-6CDD-47A8-9BD1-F048AE7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7895-35FA-4353-9125-0526AB1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3CC8-650B-4E57-8840-E05A814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12DC-9ABA-48F9-A181-DEF2F88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C2D3-2574-4006-8755-14886965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04FF-AFBF-4907-9BD7-401BFE5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0F3A8-5FEC-4A95-8423-53B0628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CD63-1057-4A7E-A633-7E0AABE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4262-5662-4F3A-877A-192C58A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B120-BB05-40B4-8FB4-0010F09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9765-84B3-43CF-AC51-7A072396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D10-4DF9-4231-AA60-E8A0A34A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7B20-89E1-4645-BE15-1FCD3F40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7A21-6FC4-4BA8-84F8-21E9AED0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3D07-0820-4585-A5B7-55944068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A5A3-B452-4678-B19B-A2762656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797F-E9CC-4621-953E-37752A26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7A95-3961-42AA-966C-50F8BF8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BCFA-4744-4517-93DA-DEB12CA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0EBD-7358-4087-9931-CC4AA2A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BD18-820B-4C87-80D3-866DA78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FF80-E220-466F-8C39-16AAFCC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3A9-10B4-4F1B-A715-599953E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963A4-E8DA-4988-8508-E913CA4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73F2-FBBC-410D-A799-2D919A9E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11C6-98DE-4656-A85B-690C2B0A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2FF1-D13C-4B9C-80CC-CEEBE9FC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C36F-CFAE-4424-B589-55D7C94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8198-8E5F-4B95-B9B1-0896AC4C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8787-4AF0-4002-AD9F-EFBEEA75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03470-4F6B-4B53-9B73-9EF97A46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076D1-8F7F-4D0E-A56D-C2B82A2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2F1E-C05F-4FBD-8619-1C62E68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450-2544-4169-AF52-ABD63124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7F67-4465-416A-9F54-A369E37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7FD9-1CEF-4F47-B3A3-36DC29A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EFF6-DC1B-4135-8D54-879E9C8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2702-890F-4D13-9469-77CC353E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4ECF-6B75-48F6-AFDE-68495162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E19B-1DAC-4FB2-9AD2-0E44C3E7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7215-7D0A-48E7-BD7B-70E02AB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6DE2-7FF2-4FE7-9CE1-5248EEB1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A9F4-D529-4082-857F-4681935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155B-2ECE-4DFD-85BB-02FE6ED6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231-AC29-4621-B5A6-215C9CF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28560" y="574200"/>
            <a:ext cx="78868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FE72-DC65-4A69-BB3E-16297E5C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1312-DEC9-4954-B914-B229046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0CB98-1470-4804-AE54-A591ED0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332A-6F91-4C8E-9E80-AEC6A45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09C3A-3784-46E4-B578-01A36B4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EE25-F1CD-4C35-A5CA-8003B473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EDE7-FAB6-488F-B350-AB96ED62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01422-C639-4BB5-8DDC-4D0AAAF7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55E83-75C3-40BA-BB53-9873256C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F399-92EC-4523-A459-F6C7A6F5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FC2-5CAA-47CD-A3AA-20FBF3F4A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6480" y="0"/>
            <a:ext cx="4581360" cy="4714920"/>
          </a:xfrm>
          <a:prstGeom prst="rect">
            <a:avLst/>
          </a:prstGeom>
          <a:solidFill>
            <a:srgbClr val="e401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grpSp>
        <p:nvGrpSpPr>
          <p:cNvPr id="542" name="Tableau 7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543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5"/>
          </p:nvPr>
        </p:nvSpPr>
        <p:spPr>
          <a:xfrm>
            <a:off x="595440" y="4727160"/>
            <a:ext cx="1000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6"/>
          </p:nvPr>
        </p:nvSpPr>
        <p:spPr>
          <a:xfrm>
            <a:off x="1715760" y="4727160"/>
            <a:ext cx="5210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7"/>
          </p:nvPr>
        </p:nvSpPr>
        <p:spPr>
          <a:xfrm>
            <a:off x="6480" y="4727160"/>
            <a:ext cx="490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40C-DC75-4403-833E-4A969908C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611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5DC-3D8D-436A-B834-050ECFB7F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679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799-C5EE-43DE-9A3A-578FD9B20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747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4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5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6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968-BFA3-42D5-92CE-F394DEB7A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815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37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38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39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8F8-7A88-482B-A528-B0B1A94A5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883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1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2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71A-3849-4FEC-AEF8-CCFE4DB3B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951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43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44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45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D519-9627-41DD-85AB-E586EB336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itre_contact"/>
          <p:cNvSpPr/>
          <p:nvPr/>
        </p:nvSpPr>
        <p:spPr>
          <a:xfrm>
            <a:off x="628560" y="582480"/>
            <a:ext cx="3394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stra A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42" name="Straight Connector 19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3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4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5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6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0" name="Isosceles Triangle 27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51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898989"/>
                </a:solidFill>
                <a:latin typeface="Trebuchet MS"/>
              </a:rPr>
              <a:t>Agence territoriale de Strasbourg_ 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80DF-E3BD-4031-8617-AEE65CE00A1C}" type="slidenum">
              <a:rPr b="0" lang="fr-FR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6"/>
          <p:cNvGrpSpPr/>
          <p:nvPr/>
        </p:nvGrpSpPr>
        <p:grpSpPr>
          <a:xfrm>
            <a:off x="-360" y="-6480"/>
            <a:ext cx="9144360" cy="5150520"/>
            <a:chOff x="-360" y="-6480"/>
            <a:chExt cx="9144360" cy="5150520"/>
          </a:xfrm>
        </p:grpSpPr>
        <p:sp>
          <p:nvSpPr>
            <p:cNvPr id="1134" name="Straight Connector 31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35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36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37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38" name="Isosceles Triangle 26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39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40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41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42" name="Isosceles Triangle 30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43" name="Isosceles Triangle 18"/>
            <p:cNvSpPr/>
            <p:nvPr/>
          </p:nvSpPr>
          <p:spPr>
            <a:xfrm rot="10800000">
              <a:off x="0" y="0"/>
              <a:ext cx="631800" cy="42501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46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47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898989"/>
                </a:solidFill>
                <a:latin typeface="Trebuchet MS"/>
              </a:rPr>
              <a:t>Agence territoriale de Strasbourg_ 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48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BB6-509E-4CD6-A72A-B284A4F9928F}" type="slidenum">
              <a:rPr b="0" lang="fr-FR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186" name="Straight Connector 19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87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88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89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0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1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2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3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4" name="Isosceles Triangle 27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195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49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50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51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144-10CB-4C47-A4D5-5E37DBBFF6B9}" type="slidenum">
              <a:rPr b="0" lang="en-US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238" name="Straight Connector 19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39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0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1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2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3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4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5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6" name="Isosceles Triangle 27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47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248" name="TextBox 19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49" name="TextBox 21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52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53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898989"/>
                </a:solidFill>
                <a:latin typeface="Trebuchet MS"/>
              </a:rPr>
              <a:t>Agence territoriale de Strasbourg_ 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54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E33-AED8-4781-AC7E-3C72C0FBDB96}" type="slidenum">
              <a:rPr b="0" lang="fr-FR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292" name="Straight Connector 19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3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4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5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6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7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8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299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00" name="Isosceles Triangle 27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01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302" name="TextBox 23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03" name="TextBox 24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5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6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898989"/>
                </a:solidFill>
                <a:latin typeface="Trebuchet MS"/>
              </a:rPr>
              <a:t>Agence territoriale de Strasbourg_ 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7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B1D-475C-4787-A196-4E9BB803B106}" type="slidenum">
              <a:rPr b="0" lang="fr-FR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346" name="Straight Connector 19"/>
            <p:cNvSpPr/>
            <p:nvPr/>
          </p:nvSpPr>
          <p:spPr>
            <a:xfrm>
              <a:off x="702792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47" name="Straight Connector 20"/>
            <p:cNvSpPr/>
            <p:nvPr/>
          </p:nvSpPr>
          <p:spPr>
            <a:xfrm flipH="1">
              <a:off x="5568840" y="2760840"/>
              <a:ext cx="3573360" cy="23828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48" name="Rectangle 23"/>
            <p:cNvSpPr/>
            <p:nvPr/>
          </p:nvSpPr>
          <p:spPr>
            <a:xfrm>
              <a:off x="6886800" y="-6480"/>
              <a:ext cx="225576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49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0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1" name="Rectangle 27"/>
            <p:cNvSpPr/>
            <p:nvPr/>
          </p:nvSpPr>
          <p:spPr>
            <a:xfrm>
              <a:off x="7000920" y="-6480"/>
              <a:ext cx="214128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2" name="Rectangle 28"/>
            <p:cNvSpPr/>
            <p:nvPr/>
          </p:nvSpPr>
          <p:spPr>
            <a:xfrm>
              <a:off x="8174160" y="-6480"/>
              <a:ext cx="96660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3" name="Rectangle 29"/>
            <p:cNvSpPr/>
            <p:nvPr/>
          </p:nvSpPr>
          <p:spPr>
            <a:xfrm>
              <a:off x="8204400" y="-6480"/>
              <a:ext cx="93636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4" name="Isosceles Triangle 27"/>
            <p:cNvSpPr/>
            <p:nvPr/>
          </p:nvSpPr>
          <p:spPr>
            <a:xfrm>
              <a:off x="7778880" y="2692440"/>
              <a:ext cx="136368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5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132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158" name="titre_sommaire"/>
          <p:cNvSpPr/>
          <p:nvPr/>
        </p:nvSpPr>
        <p:spPr>
          <a:xfrm>
            <a:off x="628560" y="582480"/>
            <a:ext cx="339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Unistra A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167-FA3B-422A-9BAE-E91753E7F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01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201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D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D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Unistra 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ffffff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1" marL="331200" indent="-331200">
              <a:buClr>
                <a:srgbClr val="ffffff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2" marL="24516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3" marL="42912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4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5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6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595440" y="4714560"/>
            <a:ext cx="10000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1715760" y="4714560"/>
            <a:ext cx="52102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480" y="4714560"/>
            <a:ext cx="4903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6FA-F8CF-4DAE-90A1-CFB4224AC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269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Unistra 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ffffff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1" marL="331200" indent="-331200">
              <a:buClr>
                <a:srgbClr val="ffffff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2" marL="24516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3" marL="42912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4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5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  <a:p>
            <a:pPr lvl="6" marL="551880" indent="-6120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Unistra 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3"/>
          </p:nvPr>
        </p:nvSpPr>
        <p:spPr>
          <a:xfrm>
            <a:off x="595440" y="4714560"/>
            <a:ext cx="10000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4"/>
          </p:nvPr>
        </p:nvSpPr>
        <p:spPr>
          <a:xfrm>
            <a:off x="1715760" y="4714560"/>
            <a:ext cx="52102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5"/>
          </p:nvPr>
        </p:nvSpPr>
        <p:spPr>
          <a:xfrm>
            <a:off x="6480" y="4714560"/>
            <a:ext cx="4903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EF7-3769-4C40-9972-6AD5A5D23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337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6"/>
          </p:nvPr>
        </p:nvSpPr>
        <p:spPr>
          <a:xfrm>
            <a:off x="595440" y="46828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7"/>
          </p:nvPr>
        </p:nvSpPr>
        <p:spPr>
          <a:xfrm>
            <a:off x="1715760" y="4682880"/>
            <a:ext cx="5210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18"/>
          </p:nvPr>
        </p:nvSpPr>
        <p:spPr>
          <a:xfrm>
            <a:off x="6480" y="4682880"/>
            <a:ext cx="5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F8A-ADE2-4F21-8D54-ED72319BB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Tableau 6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405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9"/>
          </p:nvPr>
        </p:nvSpPr>
        <p:spPr>
          <a:xfrm>
            <a:off x="595440" y="4727160"/>
            <a:ext cx="1000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0"/>
          </p:nvPr>
        </p:nvSpPr>
        <p:spPr>
          <a:xfrm>
            <a:off x="1715760" y="4727160"/>
            <a:ext cx="5210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1"/>
          </p:nvPr>
        </p:nvSpPr>
        <p:spPr>
          <a:xfrm>
            <a:off x="6480" y="4727160"/>
            <a:ext cx="490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70B-CC2C-47BF-8E65-516AC0442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6480" y="0"/>
            <a:ext cx="9137520" cy="2693880"/>
          </a:xfrm>
          <a:prstGeom prst="rect">
            <a:avLst/>
          </a:prstGeom>
          <a:solidFill>
            <a:srgbClr val="e401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grpSp>
        <p:nvGrpSpPr>
          <p:cNvPr id="473" name="Tableau 7"/>
          <p:cNvGrpSpPr/>
          <p:nvPr/>
        </p:nvGrpSpPr>
        <p:grpSpPr>
          <a:xfrm>
            <a:off x="6480" y="4714920"/>
            <a:ext cx="9148680" cy="449280"/>
            <a:chOff x="6480" y="4714920"/>
            <a:chExt cx="9148680" cy="449280"/>
          </a:xfrm>
        </p:grpSpPr>
        <p:sp>
          <p:nvSpPr>
            <p:cNvPr id="474" name=""/>
            <p:cNvSpPr/>
            <p:nvPr/>
          </p:nvSpPr>
          <p:spPr>
            <a:xfrm>
              <a:off x="6480" y="4714920"/>
              <a:ext cx="5587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5200" y="4714920"/>
              <a:ext cx="381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3360" y="4714920"/>
              <a:ext cx="10238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2720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8880" y="4714920"/>
              <a:ext cx="93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52480" y="4714920"/>
              <a:ext cx="5415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67600" y="4714920"/>
              <a:ext cx="334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01080" y="4714920"/>
              <a:ext cx="33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4200" y="4714920"/>
              <a:ext cx="1730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21600" bIns="0" anchor="ctr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Université</a:t>
              </a:r>
              <a:r>
                <a:rPr b="0" lang="fr-FR" sz="1400" spc="-1" strike="noStrike">
                  <a:solidFill>
                    <a:srgbClr val="000000"/>
                  </a:solidFill>
                  <a:latin typeface="Unistra A"/>
                  <a:ea typeface="Unistra A"/>
                </a:rPr>
                <a:t> de Strasbourg</a:t>
              </a:r>
              <a:endParaRPr b="0" lang="en-US" sz="14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64720" y="4714920"/>
              <a:ext cx="554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020160" y="4714920"/>
              <a:ext cx="3168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51840" y="4714920"/>
              <a:ext cx="103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80" y="4950000"/>
              <a:ext cx="91486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33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7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588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524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76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108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420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96472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2016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051840" y="4714920"/>
              <a:ext cx="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80" y="495000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80" y="4714920"/>
              <a:ext cx="9148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Unistra A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574200"/>
            <a:ext cx="78868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stra 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1200" indent="-331200">
              <a:buClr>
                <a:srgbClr val="000000"/>
              </a:buClr>
              <a:buSzPct val="3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1" marL="331200" indent="-331200">
              <a:buClr>
                <a:srgbClr val="000000"/>
              </a:buClr>
              <a:buFont typeface="Unistra A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2" marL="2451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3" marL="42912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4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5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  <a:p>
            <a:pPr lvl="6" marL="551880" indent="-61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stra 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2"/>
          </p:nvPr>
        </p:nvSpPr>
        <p:spPr>
          <a:xfrm>
            <a:off x="595440" y="4727160"/>
            <a:ext cx="1000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3"/>
          </p:nvPr>
        </p:nvSpPr>
        <p:spPr>
          <a:xfrm>
            <a:off x="1715760" y="4727160"/>
            <a:ext cx="5210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gence territoriale de Strasbourg_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24"/>
          </p:nvPr>
        </p:nvSpPr>
        <p:spPr>
          <a:xfrm>
            <a:off x="6480" y="4727160"/>
            <a:ext cx="490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0422-5AF1-4F47-BD39-43AB372BA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Google Shape;262;p9"/>
          <p:cNvSpPr/>
          <p:nvPr/>
        </p:nvSpPr>
        <p:spPr>
          <a:xfrm>
            <a:off x="3564000" y="3672000"/>
            <a:ext cx="3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900" spc="-1" strike="noStrike">
                <a:solidFill>
                  <a:srgbClr val="ebebeb"/>
                </a:solidFill>
                <a:latin typeface="Unistra A"/>
                <a:ea typeface="Archivo"/>
              </a:rPr>
              <a:t>1</a:t>
            </a:r>
            <a:endParaRPr b="0" lang="en-US" sz="4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02" name="Google Shape;263;p9"/>
          <p:cNvSpPr/>
          <p:nvPr/>
        </p:nvSpPr>
        <p:spPr>
          <a:xfrm>
            <a:off x="4011480" y="3672000"/>
            <a:ext cx="365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c43"/>
                </a:solidFill>
                <a:latin typeface="Unistra A"/>
                <a:ea typeface="Archivo"/>
              </a:rPr>
              <a:t>Références similaires – compétence architecture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03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Text Box 13"/>
          <p:cNvSpPr/>
          <p:nvPr/>
        </p:nvSpPr>
        <p:spPr>
          <a:xfrm>
            <a:off x="6227640" y="7351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éléments graphiques dont une vue extérieure et une vue intérieure obligatoire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05" name="Rectangle 24"/>
          <p:cNvSpPr/>
          <p:nvPr/>
        </p:nvSpPr>
        <p:spPr>
          <a:xfrm>
            <a:off x="4248000" y="4971960"/>
            <a:ext cx="3753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  <a:ea typeface="Arial"/>
              </a:rPr>
              <a:t>Concours de maîtrise d’œuvre / Construction d’un bâtiment pour la faculté de Médecine - 2025</a:t>
            </a:r>
            <a:endParaRPr b="0" lang="en-US" sz="6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06" name="Text Box 26"/>
          <p:cNvSpPr/>
          <p:nvPr/>
        </p:nvSpPr>
        <p:spPr>
          <a:xfrm>
            <a:off x="0" y="3363840"/>
            <a:ext cx="360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ntitulé de l’opération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ieu de l’opérati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ître d’ouvrage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ase en cours / Année de livrais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ût Travaux en € HT: 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HON :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articularité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8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ypes de mission assurée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8594640" y="23760"/>
            <a:ext cx="511200" cy="357120"/>
          </a:xfrm>
          <a:prstGeom prst="rect">
            <a:avLst/>
          </a:prstGeom>
          <a:solidFill>
            <a:srgbClr val="fdf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N° 1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08" name="Forme en L 1"/>
          <p:cNvSpPr/>
          <p:nvPr/>
        </p:nvSpPr>
        <p:spPr>
          <a:xfrm rot="10800000">
            <a:off x="108000" y="734400"/>
            <a:ext cx="8928000" cy="4236840"/>
          </a:xfrm>
          <a:custGeom>
            <a:avLst/>
            <a:gdLst/>
            <a:ahLst/>
            <a:rect l="l" t="t" r="r" b="b"/>
            <a:pathLst>
              <a:path w="8928100" h="4237037">
                <a:moveTo>
                  <a:pt x="0" y="0"/>
                </a:moveTo>
                <a:lnTo>
                  <a:pt x="5854907" y="0"/>
                </a:lnTo>
                <a:lnTo>
                  <a:pt x="5854907" y="1699476"/>
                </a:lnTo>
                <a:lnTo>
                  <a:pt x="8928100" y="1699476"/>
                </a:lnTo>
                <a:lnTo>
                  <a:pt x="8928100" y="4237037"/>
                </a:lnTo>
                <a:lnTo>
                  <a:pt x="0" y="4237037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09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  <p:sp>
        <p:nvSpPr>
          <p:cNvPr id="1410" name="Rectangle 25"/>
          <p:cNvSpPr/>
          <p:nvPr/>
        </p:nvSpPr>
        <p:spPr>
          <a:xfrm>
            <a:off x="2050920" y="-42840"/>
            <a:ext cx="5616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éférence Architecte d’une opération similair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Arial"/>
              </a:rPr>
              <a:t>:  (renseigner le nom)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Text Box 13"/>
          <p:cNvSpPr/>
          <p:nvPr/>
        </p:nvSpPr>
        <p:spPr>
          <a:xfrm>
            <a:off x="6227640" y="7351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éléments graphiques dont une vue extérieure et une vue intérieure obligatoire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12" name="Rectangle 24"/>
          <p:cNvSpPr/>
          <p:nvPr/>
        </p:nvSpPr>
        <p:spPr>
          <a:xfrm>
            <a:off x="4248000" y="4971960"/>
            <a:ext cx="3753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  <a:ea typeface="Arial"/>
              </a:rPr>
              <a:t>Concours de maîtrise d’œuvre / Construction d’un bâtiment pour la faculté de Médecine - 2025</a:t>
            </a:r>
            <a:endParaRPr b="0" lang="en-US" sz="6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13" name="Rectangle 30"/>
          <p:cNvSpPr/>
          <p:nvPr/>
        </p:nvSpPr>
        <p:spPr>
          <a:xfrm>
            <a:off x="8594640" y="23760"/>
            <a:ext cx="511200" cy="357120"/>
          </a:xfrm>
          <a:prstGeom prst="rect">
            <a:avLst/>
          </a:prstGeom>
          <a:solidFill>
            <a:srgbClr val="fdf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N° 2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14" name="Forme en L 1"/>
          <p:cNvSpPr/>
          <p:nvPr/>
        </p:nvSpPr>
        <p:spPr>
          <a:xfrm rot="10800000">
            <a:off x="108000" y="734400"/>
            <a:ext cx="8928000" cy="4236840"/>
          </a:xfrm>
          <a:custGeom>
            <a:avLst/>
            <a:gdLst/>
            <a:ahLst/>
            <a:rect l="l" t="t" r="r" b="b"/>
            <a:pathLst>
              <a:path w="8928100" h="4237037">
                <a:moveTo>
                  <a:pt x="0" y="0"/>
                </a:moveTo>
                <a:lnTo>
                  <a:pt x="5854907" y="0"/>
                </a:lnTo>
                <a:lnTo>
                  <a:pt x="5854907" y="1699476"/>
                </a:lnTo>
                <a:lnTo>
                  <a:pt x="8928100" y="1699476"/>
                </a:lnTo>
                <a:lnTo>
                  <a:pt x="8928100" y="4237037"/>
                </a:lnTo>
                <a:lnTo>
                  <a:pt x="0" y="4237037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15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  <p:sp>
        <p:nvSpPr>
          <p:cNvPr id="1416" name="Rectangle 25"/>
          <p:cNvSpPr/>
          <p:nvPr/>
        </p:nvSpPr>
        <p:spPr>
          <a:xfrm>
            <a:off x="2055960" y="39600"/>
            <a:ext cx="6188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éférence Architecte (à montant travaux supérieur à 10 000 000€ HT)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Arial"/>
              </a:rPr>
              <a:t>:  (renseigner le nom)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17" name="Text Box 26"/>
          <p:cNvSpPr/>
          <p:nvPr/>
        </p:nvSpPr>
        <p:spPr>
          <a:xfrm>
            <a:off x="0" y="3363840"/>
            <a:ext cx="360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ntitulé de l’opération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ieu de l’opérati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ître d’ouvrage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ase en cours / Année de livrais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ût Travaux en € HT: 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HON :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articularité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8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ypes de mission assurée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Google Shape;262;p9"/>
          <p:cNvSpPr/>
          <p:nvPr/>
        </p:nvSpPr>
        <p:spPr>
          <a:xfrm>
            <a:off x="4067280" y="3672000"/>
            <a:ext cx="339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900" spc="-1" strike="noStrike">
                <a:solidFill>
                  <a:srgbClr val="ebebeb"/>
                </a:solidFill>
                <a:latin typeface="Unistra A"/>
                <a:ea typeface="Archivo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19" name="Google Shape;263;p9"/>
          <p:cNvSpPr/>
          <p:nvPr/>
        </p:nvSpPr>
        <p:spPr>
          <a:xfrm>
            <a:off x="4516560" y="3672000"/>
            <a:ext cx="3651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c43"/>
                </a:solidFill>
                <a:latin typeface="Unistra A"/>
                <a:ea typeface="Archivo"/>
              </a:rPr>
              <a:t>Références similaires – compétence BET</a:t>
            </a: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20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 Box 13"/>
          <p:cNvSpPr/>
          <p:nvPr/>
        </p:nvSpPr>
        <p:spPr>
          <a:xfrm>
            <a:off x="6227640" y="7351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éléments graphiques dont une vue extérieure et une vue intérieure obligatoire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22" name="Rectangle 24"/>
          <p:cNvSpPr/>
          <p:nvPr/>
        </p:nvSpPr>
        <p:spPr>
          <a:xfrm>
            <a:off x="4248000" y="4971960"/>
            <a:ext cx="3753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  <a:ea typeface="Arial"/>
              </a:rPr>
              <a:t>Concours de maîtrise d’œuvre / Construction d’un bâtiment pour la faculté de Médecine - 2025</a:t>
            </a:r>
            <a:endParaRPr b="0" lang="en-US" sz="6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23" name="Rectangle 30"/>
          <p:cNvSpPr/>
          <p:nvPr/>
        </p:nvSpPr>
        <p:spPr>
          <a:xfrm>
            <a:off x="8594640" y="23760"/>
            <a:ext cx="511200" cy="357120"/>
          </a:xfrm>
          <a:prstGeom prst="rect">
            <a:avLst/>
          </a:prstGeom>
          <a:solidFill>
            <a:srgbClr val="fdf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N° 3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24" name="Forme en L 1"/>
          <p:cNvSpPr/>
          <p:nvPr/>
        </p:nvSpPr>
        <p:spPr>
          <a:xfrm rot="10800000">
            <a:off x="108000" y="734400"/>
            <a:ext cx="8928000" cy="4236840"/>
          </a:xfrm>
          <a:custGeom>
            <a:avLst/>
            <a:gdLst/>
            <a:ahLst/>
            <a:rect l="l" t="t" r="r" b="b"/>
            <a:pathLst>
              <a:path w="8928100" h="4237037">
                <a:moveTo>
                  <a:pt x="0" y="0"/>
                </a:moveTo>
                <a:lnTo>
                  <a:pt x="5854907" y="0"/>
                </a:lnTo>
                <a:lnTo>
                  <a:pt x="5854907" y="1699476"/>
                </a:lnTo>
                <a:lnTo>
                  <a:pt x="8928100" y="1699476"/>
                </a:lnTo>
                <a:lnTo>
                  <a:pt x="8928100" y="4237037"/>
                </a:lnTo>
                <a:lnTo>
                  <a:pt x="0" y="4237037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25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  <p:sp>
        <p:nvSpPr>
          <p:cNvPr id="1426" name="Rectangle 25"/>
          <p:cNvSpPr/>
          <p:nvPr/>
        </p:nvSpPr>
        <p:spPr>
          <a:xfrm>
            <a:off x="1800360" y="39600"/>
            <a:ext cx="6769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éférence efficacité énergétique (RE2020 ou bâtiment passif) pour le bureau d’études performance énergétiqu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:  (renseigner le nom 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’une opération livré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27" name="Text Box 26"/>
          <p:cNvSpPr/>
          <p:nvPr/>
        </p:nvSpPr>
        <p:spPr>
          <a:xfrm>
            <a:off x="0" y="3363840"/>
            <a:ext cx="360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ntitulé de l’opération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ieu de l’opérati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ître d’ouvrage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ase en cours / Année de livrais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ût Travaux en € HT: 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HON :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articularité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8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ypes de mission assurée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13"/>
          <p:cNvSpPr/>
          <p:nvPr/>
        </p:nvSpPr>
        <p:spPr>
          <a:xfrm>
            <a:off x="6227640" y="7351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 éléments graphiques dont une vue extérieure et une vue intérieure obligatoires</a:t>
            </a:r>
            <a:endParaRPr b="0" lang="en-US" sz="12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29" name="Rectangle 24"/>
          <p:cNvSpPr/>
          <p:nvPr/>
        </p:nvSpPr>
        <p:spPr>
          <a:xfrm>
            <a:off x="4248000" y="4971960"/>
            <a:ext cx="3753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Tahoma"/>
                <a:ea typeface="Arial"/>
              </a:rPr>
              <a:t>Concours de maîtrise d’œuvre / Construction d’un bâtiment pour la faculté de Médecine - 2025</a:t>
            </a:r>
            <a:endParaRPr b="0" lang="en-US" sz="6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30" name="Rectangle 30"/>
          <p:cNvSpPr/>
          <p:nvPr/>
        </p:nvSpPr>
        <p:spPr>
          <a:xfrm>
            <a:off x="8594640" y="23760"/>
            <a:ext cx="511200" cy="357120"/>
          </a:xfrm>
          <a:prstGeom prst="rect">
            <a:avLst/>
          </a:prstGeom>
          <a:solidFill>
            <a:srgbClr val="fdf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N° 4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31" name="Forme en L 1"/>
          <p:cNvSpPr/>
          <p:nvPr/>
        </p:nvSpPr>
        <p:spPr>
          <a:xfrm rot="10800000">
            <a:off x="108000" y="734400"/>
            <a:ext cx="8928000" cy="4236840"/>
          </a:xfrm>
          <a:custGeom>
            <a:avLst/>
            <a:gdLst/>
            <a:ahLst/>
            <a:rect l="l" t="t" r="r" b="b"/>
            <a:pathLst>
              <a:path w="8928100" h="4237037">
                <a:moveTo>
                  <a:pt x="0" y="0"/>
                </a:moveTo>
                <a:lnTo>
                  <a:pt x="5854907" y="0"/>
                </a:lnTo>
                <a:lnTo>
                  <a:pt x="5854907" y="1699476"/>
                </a:lnTo>
                <a:lnTo>
                  <a:pt x="8928100" y="1699476"/>
                </a:lnTo>
                <a:lnTo>
                  <a:pt x="8928100" y="4237037"/>
                </a:lnTo>
                <a:lnTo>
                  <a:pt x="0" y="4237037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Unistra A"/>
            </a:endParaRPr>
          </a:p>
        </p:txBody>
      </p:sp>
      <p:pic>
        <p:nvPicPr>
          <p:cNvPr id="1432" name="Image 2" descr=""/>
          <p:cNvPicPr/>
          <p:nvPr/>
        </p:nvPicPr>
        <p:blipFill>
          <a:blip r:embed="rId1"/>
          <a:stretch/>
        </p:blipFill>
        <p:spPr>
          <a:xfrm>
            <a:off x="34920" y="23760"/>
            <a:ext cx="1655640" cy="60156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25"/>
          <p:cNvSpPr/>
          <p:nvPr/>
        </p:nvSpPr>
        <p:spPr>
          <a:xfrm>
            <a:off x="1800360" y="23760"/>
            <a:ext cx="6875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éférence d’un bâtiment hospitalier ou à minima d’enseignement supérieur pour le bureau d’études fluides)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:  (renseigner le nom d’une opération livrée)</a:t>
            </a:r>
            <a:endParaRPr b="0" lang="en-US" sz="1000" spc="-1" strike="noStrike">
              <a:solidFill>
                <a:srgbClr val="000000"/>
              </a:solidFill>
              <a:latin typeface="Unistra A"/>
            </a:endParaRPr>
          </a:p>
        </p:txBody>
      </p:sp>
      <p:sp>
        <p:nvSpPr>
          <p:cNvPr id="1434" name="Text Box 26"/>
          <p:cNvSpPr/>
          <p:nvPr/>
        </p:nvSpPr>
        <p:spPr>
          <a:xfrm>
            <a:off x="0" y="3363840"/>
            <a:ext cx="360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ntitulé de l’opération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ieu de l’opérati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ître d’ouvrage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ase en cours / Année de livraison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ût Travaux en € HT: 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HON : 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articularité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8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ypes de mission assurée :</a:t>
            </a: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Unistra 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53:46Z</dcterms:created>
  <dc:creator>PROST</dc:creator>
  <dc:description/>
  <dc:language>en-US</dc:language>
  <cp:lastModifiedBy>SAINT DIZIER Eric</cp:lastModifiedBy>
  <dcterms:modified xsi:type="dcterms:W3CDTF">2025-03-13T14:55:23Z</dcterms:modified>
  <cp:revision>52</cp:revision>
  <dc:subject/>
  <dc:title>Présentation PowerPoint</dc:title>
</cp:coreProperties>
</file>