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55c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00755c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5EF8-C819-4905-A3CF-F7BB210087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7A16-53BB-4E0F-ADCE-D6A827AABB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E0A1-9CE0-40B1-8B82-BAF62947B194}" type="slidenum">
              <a:rPr b="0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8B98B-B9D4-472E-9FCB-7ED93D69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755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2C0B2-12CD-402E-A6D4-D6473596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755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0B8DC-D572-49A6-A396-30E9A0FE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755c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61C41-27FE-42E0-804E-0D9B3FB7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44836-A632-4F2F-B2A2-F3E44C193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755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1CECE-9631-488D-BF93-7817E922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755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2361A-D6CC-42F1-AB20-A21A56DC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755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3F01C-7D05-49F1-BA49-7F1009B0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755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DC225-EB49-44D1-9AEE-2F5195DF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58320"/>
            <a:ext cx="91440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56209-67DD-48DB-8370-0DAC5FF9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755c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9B07D-B241-46F1-8E8E-12607BE5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755c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FAD42-85D4-4A6C-B408-A423F55D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755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29854-C28A-4372-8250-5CAD4119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755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2048A-2A9B-4D51-9851-A5478E4C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755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C7640-E7A1-4FD4-85F8-923142E5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755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C97A9-62E4-47F3-BB1B-2B099688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755c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325D0-F0ED-40CE-BE73-7BDB70C3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755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3F827-5F5A-4D5E-9B65-CE473B81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755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A4F00-DD24-4C54-BCD6-C632A87B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755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8C152-3580-489F-9266-1251D350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58320"/>
            <a:ext cx="91440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BF478-BB84-4FA3-A57C-4852AE03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755c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A4BAB-B62B-4F8A-B5EC-1D1B65B6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755c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7DED1-337B-4B84-86A0-CA034C8B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755c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8A536-9DA4-4ED1-986A-4EBAB7A3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55c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755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9933"/>
              </a:buClr>
              <a:buFont typeface="Wingdings 2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272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4272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272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6b6b9d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272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272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272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272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272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dre de Réponse Techni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Annexe n°1 : Profils du Titula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F7DB-7CDF-43F9-8A1F-0A37D61FA2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ISIRH_TMA CTDSN_2022_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55c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755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9933"/>
              </a:buClr>
              <a:buFont typeface="Wingdings 2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272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4272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272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6b6b9d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272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272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272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272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272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dre de Réponse Techni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Annexe n°1 : Profils du Titula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0673-AE9A-4D32-AB04-B4AEE5D50A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ISIRH_TMA CTDSN_2022_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55c"/>
                </a:solidFill>
                <a:latin typeface="Marianne"/>
                <a:ea typeface="Calibri"/>
              </a:rPr>
              <a:t>Cadre de Réponse Technique – lot 1</a:t>
            </a:r>
            <a:br>
              <a:rPr sz="1800"/>
            </a:br>
            <a:r>
              <a:rPr b="1" lang="fr-FR" sz="1800" spc="-1" strike="noStrike">
                <a:solidFill>
                  <a:srgbClr val="00355c"/>
                </a:solidFill>
                <a:latin typeface="Marianne"/>
                <a:ea typeface="Calibri"/>
              </a:rPr>
              <a:t>Annexe n°1 : Profils du Titulaire</a:t>
            </a:r>
            <a:endParaRPr b="1" lang="en-US" sz="1800" spc="-1" strike="noStrike">
              <a:solidFill>
                <a:srgbClr val="00755c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99640" y="1915920"/>
            <a:ext cx="7488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6760" indent="-266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427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55c"/>
                </a:solidFill>
                <a:latin typeface="Marianne"/>
              </a:rPr>
              <a:t>La structure de ce document ne doit pas être modifiée.</a:t>
            </a:r>
            <a:endParaRPr b="0" lang="en-US" sz="1800" spc="-1" strike="noStrike">
              <a:solidFill>
                <a:srgbClr val="004272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427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55c"/>
                </a:solidFill>
                <a:latin typeface="Marianne"/>
              </a:rPr>
              <a:t>Le candidat duplique la page 2 autant de fois que nécessaire afin d’identifier la totalité des profils de son équipe projet.</a:t>
            </a:r>
            <a:endParaRPr b="0" lang="en-US" sz="1800" spc="-1" strike="noStrike">
              <a:solidFill>
                <a:srgbClr val="004272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427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55c"/>
                </a:solidFill>
                <a:latin typeface="Marianne"/>
              </a:rPr>
              <a:t>Pour chaque profil, le candidat renseigne :</a:t>
            </a:r>
            <a:endParaRPr b="0" lang="en-US" sz="1800" spc="-1" strike="noStrike">
              <a:solidFill>
                <a:srgbClr val="004272"/>
              </a:solidFill>
              <a:latin typeface="Arial"/>
            </a:endParaRPr>
          </a:p>
          <a:p>
            <a:pPr lvl="1" marL="55260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4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55c"/>
                </a:solidFill>
                <a:latin typeface="Marianne"/>
                <a:ea typeface="ＭＳ Ｐゴシック"/>
              </a:rPr>
              <a:t>Le titre du profil ;</a:t>
            </a:r>
            <a:endParaRPr b="0" lang="en-US" sz="1600" spc="-1" strike="noStrike">
              <a:solidFill>
                <a:srgbClr val="004272"/>
              </a:solidFill>
              <a:latin typeface="Arial"/>
            </a:endParaRPr>
          </a:p>
          <a:p>
            <a:pPr lvl="1" marL="55260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4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55c"/>
                </a:solidFill>
                <a:latin typeface="Marianne"/>
                <a:ea typeface="ＭＳ Ｐゴシック"/>
              </a:rPr>
              <a:t>Les diplômes et formations complémentaires ;</a:t>
            </a:r>
            <a:endParaRPr b="0" lang="en-US" sz="1600" spc="-1" strike="noStrike">
              <a:solidFill>
                <a:srgbClr val="004272"/>
              </a:solidFill>
              <a:latin typeface="Arial"/>
            </a:endParaRPr>
          </a:p>
          <a:p>
            <a:pPr lvl="1" marL="55260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4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55c"/>
                </a:solidFill>
                <a:latin typeface="Marianne"/>
                <a:ea typeface="ＭＳ Ｐゴシック"/>
              </a:rPr>
              <a:t>Les domaines de compétences maîtrisées ;</a:t>
            </a:r>
            <a:endParaRPr b="0" lang="en-US" sz="1600" spc="-1" strike="noStrike">
              <a:solidFill>
                <a:srgbClr val="004272"/>
              </a:solidFill>
              <a:latin typeface="Arial"/>
            </a:endParaRPr>
          </a:p>
          <a:p>
            <a:pPr lvl="1" marL="55260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4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55c"/>
                </a:solidFill>
                <a:latin typeface="Marianne"/>
                <a:ea typeface="ＭＳ Ｐゴシック"/>
              </a:rPr>
              <a:t>Les secteurs d’activité maîtrisés ;</a:t>
            </a:r>
            <a:endParaRPr b="0" lang="en-US" sz="1600" spc="-1" strike="noStrike">
              <a:solidFill>
                <a:srgbClr val="004272"/>
              </a:solidFill>
              <a:latin typeface="Arial"/>
            </a:endParaRPr>
          </a:p>
          <a:p>
            <a:pPr lvl="1" marL="55260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4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55c"/>
                </a:solidFill>
                <a:latin typeface="Marianne"/>
                <a:ea typeface="ＭＳ Ｐゴシック"/>
              </a:rPr>
              <a:t>Les expériences et missions les plus significatives au regard du présent marché.</a:t>
            </a:r>
            <a:endParaRPr b="0" lang="en-US" sz="16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91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D630-6AB3-49C4-B2EA-06AD1E951E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space réservé de la date 5"/>
          <p:cNvSpPr/>
          <p:nvPr/>
        </p:nvSpPr>
        <p:spPr>
          <a:xfrm>
            <a:off x="685800" y="6381720"/>
            <a:ext cx="417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Marianne"/>
              </a:rPr>
              <a:t>CISIRH_TRA_2025_CRT_Annexe 1 : profils du collabora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Espace réservé du numéro de diapositive 4"/>
          <p:cNvSpPr/>
          <p:nvPr/>
        </p:nvSpPr>
        <p:spPr>
          <a:xfrm>
            <a:off x="655308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3D72-DBC4-410E-B8B0-0A91616924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e la date 5"/>
          <p:cNvSpPr/>
          <p:nvPr/>
        </p:nvSpPr>
        <p:spPr>
          <a:xfrm>
            <a:off x="457200" y="6337440"/>
            <a:ext cx="476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Marianne"/>
              </a:rPr>
              <a:t>CISIRH_TRA_2025_CRT_Annexe 1 : profils du collabora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55c"/>
                </a:solidFill>
                <a:latin typeface="Marianne"/>
                <a:ea typeface="Calibri"/>
              </a:rPr>
              <a:t>Rôle dans le lot 1 du marché CISIRH_TMA_2024 – Trigramme du collaborateur</a:t>
            </a:r>
            <a:endParaRPr b="1" lang="en-US" sz="1600" spc="-1" strike="noStrike">
              <a:solidFill>
                <a:srgbClr val="00755c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708000" y="1196640"/>
            <a:ext cx="5327640" cy="5040360"/>
          </a:xfrm>
          <a:prstGeom prst="rect">
            <a:avLst/>
          </a:prstGeom>
          <a:noFill/>
          <a:ln w="1260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266760" indent="-266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427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4272"/>
                </a:solidFill>
                <a:latin typeface="Marianne"/>
              </a:rPr>
              <a:t>Missions significatives :</a:t>
            </a:r>
            <a:endParaRPr b="0" lang="en-US" sz="1400" spc="-1" strike="noStrike">
              <a:solidFill>
                <a:srgbClr val="004272"/>
              </a:solidFill>
              <a:latin typeface="Arial"/>
            </a:endParaRPr>
          </a:p>
          <a:p>
            <a:pPr lvl="1" marL="533520" indent="-2653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4272"/>
              </a:buClr>
              <a:buSzPct val="12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4272"/>
                </a:solidFill>
                <a:latin typeface="Marianne"/>
              </a:rPr>
              <a:t>Nom de l’entreprise ou de l’administration,</a:t>
            </a:r>
            <a:endParaRPr b="0" lang="en-US" sz="1200" spc="-1" strike="noStrike">
              <a:solidFill>
                <a:srgbClr val="004272"/>
              </a:solidFill>
              <a:latin typeface="Arial"/>
            </a:endParaRPr>
          </a:p>
          <a:p>
            <a:pPr lvl="1" marL="533520" indent="-2653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4272"/>
              </a:buClr>
              <a:buSzPct val="12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4272"/>
                </a:solidFill>
                <a:latin typeface="Marianne"/>
              </a:rPr>
              <a:t>Rôles,</a:t>
            </a:r>
            <a:endParaRPr b="0" lang="en-US" sz="1200" spc="-1" strike="noStrike">
              <a:solidFill>
                <a:srgbClr val="004272"/>
              </a:solidFill>
              <a:latin typeface="Arial"/>
            </a:endParaRPr>
          </a:p>
          <a:p>
            <a:pPr lvl="1" marL="533520" indent="-2653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4272"/>
              </a:buClr>
              <a:buSzPct val="12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4272"/>
                </a:solidFill>
                <a:latin typeface="Marianne"/>
              </a:rPr>
              <a:t>Activités,</a:t>
            </a:r>
            <a:endParaRPr b="0" lang="en-US" sz="1200" spc="-1" strike="noStrike">
              <a:solidFill>
                <a:srgbClr val="004272"/>
              </a:solidFill>
              <a:latin typeface="Arial"/>
            </a:endParaRPr>
          </a:p>
          <a:p>
            <a:pPr lvl="1" marL="533520" indent="-2653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4272"/>
              </a:buClr>
              <a:buSzPct val="12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4272"/>
                </a:solidFill>
                <a:latin typeface="Marianne"/>
              </a:rPr>
              <a:t>Date de début et date de fin.</a:t>
            </a:r>
            <a:endParaRPr b="0" lang="en-US" sz="1200" spc="-1" strike="noStrike">
              <a:solidFill>
                <a:srgbClr val="004272"/>
              </a:solidFill>
              <a:latin typeface="Arial"/>
            </a:endParaRPr>
          </a:p>
        </p:txBody>
      </p:sp>
      <p:sp>
        <p:nvSpPr>
          <p:cNvPr id="97" name="Text Box 443"/>
          <p:cNvSpPr/>
          <p:nvPr/>
        </p:nvSpPr>
        <p:spPr>
          <a:xfrm>
            <a:off x="3708360" y="692280"/>
            <a:ext cx="5327640" cy="40644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  <a:effectLst>
            <a:outerShdw dist="89604" dir="18900000" blurRad="0" rotWithShape="0">
              <a:srgbClr val="bbe0e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55c"/>
                </a:solidFill>
                <a:latin typeface="Marianne"/>
              </a:rPr>
              <a:t>Expé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44"/>
          <p:cNvSpPr/>
          <p:nvPr/>
        </p:nvSpPr>
        <p:spPr>
          <a:xfrm>
            <a:off x="108000" y="692280"/>
            <a:ext cx="3456000" cy="40644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  <a:effectLst>
            <a:outerShdw dist="89604" dir="18900000" blurRad="0" rotWithShape="0">
              <a:srgbClr val="bbe0e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55c"/>
                </a:solidFill>
                <a:latin typeface="Marianne"/>
              </a:rPr>
              <a:t>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45"/>
          <p:cNvSpPr/>
          <p:nvPr/>
        </p:nvSpPr>
        <p:spPr>
          <a:xfrm>
            <a:off x="108000" y="1197000"/>
            <a:ext cx="3456000" cy="1295280"/>
          </a:xfrm>
          <a:prstGeom prst="rect">
            <a:avLst/>
          </a:prstGeom>
          <a:noFill/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427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4272"/>
                </a:solidFill>
                <a:latin typeface="Marianne"/>
              </a:rPr>
              <a:t>Les trois diplômes ou certifications les plus valorisants et année d’obt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46"/>
          <p:cNvSpPr/>
          <p:nvPr/>
        </p:nvSpPr>
        <p:spPr>
          <a:xfrm>
            <a:off x="108000" y="2662200"/>
            <a:ext cx="3456000" cy="40644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  <a:effectLst>
            <a:outerShdw dist="89604" dir="18900000" blurRad="0" rotWithShape="0">
              <a:srgbClr val="bbe0e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55c"/>
                </a:solidFill>
                <a:latin typeface="Marianne"/>
              </a:rPr>
              <a:t>Compét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47"/>
          <p:cNvSpPr/>
          <p:nvPr/>
        </p:nvSpPr>
        <p:spPr>
          <a:xfrm>
            <a:off x="108000" y="3213000"/>
            <a:ext cx="3456000" cy="3024360"/>
          </a:xfrm>
          <a:prstGeom prst="rect">
            <a:avLst/>
          </a:prstGeom>
          <a:noFill/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427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4272"/>
                </a:solidFill>
                <a:latin typeface="Marianne"/>
              </a:rPr>
              <a:t>Domaines de compétences maîtris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265320" algn="just">
              <a:lnSpc>
                <a:spcPct val="100000"/>
              </a:lnSpc>
              <a:spcBef>
                <a:spcPts val="601"/>
              </a:spcBef>
              <a:buClr>
                <a:srgbClr val="004272"/>
              </a:buClr>
              <a:buSzPct val="12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4272"/>
                </a:solidFill>
                <a:latin typeface="Marianne"/>
              </a:rPr>
              <a:t>Compétences méti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265320" algn="just">
              <a:lnSpc>
                <a:spcPct val="100000"/>
              </a:lnSpc>
              <a:spcBef>
                <a:spcPts val="601"/>
              </a:spcBef>
              <a:buClr>
                <a:srgbClr val="004272"/>
              </a:buClr>
              <a:buSzPct val="12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4272"/>
                </a:solidFill>
                <a:latin typeface="Marianne"/>
              </a:rPr>
              <a:t>Compétences fonctionnel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265320" algn="just">
              <a:lnSpc>
                <a:spcPct val="100000"/>
              </a:lnSpc>
              <a:spcBef>
                <a:spcPts val="601"/>
              </a:spcBef>
              <a:buClr>
                <a:srgbClr val="004272"/>
              </a:buClr>
              <a:buSzPct val="12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4272"/>
                </a:solidFill>
                <a:latin typeface="Marianne"/>
              </a:rPr>
              <a:t>Compétences techniq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2653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4272"/>
              </a:buClr>
              <a:buSzPct val="12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4272"/>
                </a:solidFill>
                <a:latin typeface="Marianne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427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4272"/>
                </a:solidFill>
                <a:latin typeface="Marianne"/>
              </a:rPr>
              <a:t>Secteurs d’interv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2653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4272"/>
              </a:buClr>
              <a:buSzPct val="12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4272"/>
                </a:solidFill>
                <a:latin typeface="Marianne"/>
              </a:rPr>
              <a:t>Secteur d’activité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2653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4272"/>
              </a:buClr>
              <a:buSzPct val="12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4272"/>
                </a:solidFill>
                <a:latin typeface="Marianne"/>
              </a:rPr>
              <a:t>Secteur d’activité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265320" algn="just">
              <a:spcBef>
                <a:spcPts val="601"/>
              </a:spcBef>
              <a:spcAft>
                <a:spcPts val="601"/>
              </a:spcAft>
              <a:buClr>
                <a:srgbClr val="004272"/>
              </a:buClr>
              <a:buSzPct val="12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4272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9:57:53Z</dcterms:created>
  <dc:creator>CISIRH</dc:creator>
  <dc:description/>
  <dc:language>en-US</dc:language>
  <cp:lastModifiedBy>FROMENT Isabelle</cp:lastModifiedBy>
  <dcterms:modified xsi:type="dcterms:W3CDTF">2025-02-11T16:08:08Z</dcterms:modified>
  <cp:revision>53</cp:revision>
  <dc:subject>CRT - Annexe n°1</dc:subject>
  <dc:title>DSN - CRT - A1</dc:title>
</cp:coreProperties>
</file>