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</p:sldIdLst>
  <p:sldSz cx="10691813" cy="7559675"/>
  <p:notesSz cx="9928225" cy="6800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9928800" cy="68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AutoShape 1"/>
          <p:cNvSpPr/>
          <p:nvPr/>
        </p:nvSpPr>
        <p:spPr>
          <a:xfrm>
            <a:off x="0" y="0"/>
            <a:ext cx="9929880" cy="679932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 Box 2"/>
          <p:cNvSpPr/>
          <p:nvPr/>
        </p:nvSpPr>
        <p:spPr>
          <a:xfrm>
            <a:off x="0" y="0"/>
            <a:ext cx="43052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dt" idx="40"/>
          </p:nvPr>
        </p:nvSpPr>
        <p:spPr>
          <a:xfrm>
            <a:off x="5624640" y="0"/>
            <a:ext cx="43034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ldImg"/>
          </p:nvPr>
        </p:nvSpPr>
        <p:spPr>
          <a:xfrm>
            <a:off x="3161880" y="509760"/>
            <a:ext cx="3605400" cy="25495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body"/>
          </p:nvPr>
        </p:nvSpPr>
        <p:spPr>
          <a:xfrm>
            <a:off x="991800" y="3228840"/>
            <a:ext cx="7945560" cy="30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6"/>
          <p:cNvSpPr/>
          <p:nvPr/>
        </p:nvSpPr>
        <p:spPr>
          <a:xfrm>
            <a:off x="0" y="6459480"/>
            <a:ext cx="43052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sldNum" idx="41"/>
          </p:nvPr>
        </p:nvSpPr>
        <p:spPr>
          <a:xfrm>
            <a:off x="5624640" y="6459120"/>
            <a:ext cx="430344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3EC464-ED06-436F-B882-472E475612B8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5624640" y="6459480"/>
            <a:ext cx="43034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C0883A-3319-492C-8E3A-06FDAF101E3A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3162240" y="509760"/>
            <a:ext cx="3606840" cy="2550960"/>
          </a:xfrm>
          <a:prstGeom prst="rect">
            <a:avLst/>
          </a:prstGeom>
          <a:ln w="0">
            <a:noFill/>
          </a:ln>
        </p:spPr>
      </p:sp>
      <p:sp>
        <p:nvSpPr>
          <p:cNvPr id="621" name="Text Box 2"/>
          <p:cNvSpPr/>
          <p:nvPr/>
        </p:nvSpPr>
        <p:spPr>
          <a:xfrm>
            <a:off x="992160" y="3228840"/>
            <a:ext cx="7947000" cy="30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Text Box 3"/>
          <p:cNvSpPr/>
          <p:nvPr/>
        </p:nvSpPr>
        <p:spPr>
          <a:xfrm>
            <a:off x="5624640" y="6459480"/>
            <a:ext cx="43052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C7F86BF-3AEC-4C49-A5CE-802BF19DC427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5624640" y="6459480"/>
            <a:ext cx="43034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C74057-702D-41EC-84AE-5EFE1AE0178D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3162240" y="509760"/>
            <a:ext cx="3606840" cy="2550960"/>
          </a:xfrm>
          <a:prstGeom prst="rect">
            <a:avLst/>
          </a:prstGeom>
          <a:ln w="0">
            <a:noFill/>
          </a:ln>
        </p:spPr>
      </p:sp>
      <p:sp>
        <p:nvSpPr>
          <p:cNvPr id="625" name="Text Box 2"/>
          <p:cNvSpPr/>
          <p:nvPr/>
        </p:nvSpPr>
        <p:spPr>
          <a:xfrm>
            <a:off x="992160" y="3228840"/>
            <a:ext cx="7947000" cy="30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Text Box 3"/>
          <p:cNvSpPr/>
          <p:nvPr/>
        </p:nvSpPr>
        <p:spPr>
          <a:xfrm>
            <a:off x="5624640" y="6459480"/>
            <a:ext cx="43052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74108AA-E92F-496D-A405-F6727EA0B100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5624640" y="6459480"/>
            <a:ext cx="43034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80809D-AF16-4551-B55E-274B69CB559C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3162240" y="509760"/>
            <a:ext cx="3606840" cy="2550960"/>
          </a:xfrm>
          <a:prstGeom prst="rect">
            <a:avLst/>
          </a:prstGeom>
          <a:ln w="0">
            <a:noFill/>
          </a:ln>
        </p:spPr>
      </p:sp>
      <p:sp>
        <p:nvSpPr>
          <p:cNvPr id="629" name="Text Box 2"/>
          <p:cNvSpPr/>
          <p:nvPr/>
        </p:nvSpPr>
        <p:spPr>
          <a:xfrm>
            <a:off x="992160" y="3228840"/>
            <a:ext cx="7947000" cy="30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Text Box 3"/>
          <p:cNvSpPr/>
          <p:nvPr/>
        </p:nvSpPr>
        <p:spPr>
          <a:xfrm>
            <a:off x="5624640" y="6459480"/>
            <a:ext cx="43052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0D422F9-2153-4776-B511-48635955D74A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5624640" y="6459480"/>
            <a:ext cx="43034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BF8FE3-30B5-4A42-902C-1A95A13AD2D4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3162240" y="509760"/>
            <a:ext cx="3606840" cy="2550960"/>
          </a:xfrm>
          <a:prstGeom prst="rect">
            <a:avLst/>
          </a:prstGeom>
          <a:ln w="0">
            <a:noFill/>
          </a:ln>
        </p:spPr>
      </p:sp>
      <p:sp>
        <p:nvSpPr>
          <p:cNvPr id="633" name="Text Box 2"/>
          <p:cNvSpPr/>
          <p:nvPr/>
        </p:nvSpPr>
        <p:spPr>
          <a:xfrm>
            <a:off x="992160" y="3228840"/>
            <a:ext cx="7947000" cy="30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3"/>
          <p:cNvSpPr/>
          <p:nvPr/>
        </p:nvSpPr>
        <p:spPr>
          <a:xfrm>
            <a:off x="5624640" y="6459480"/>
            <a:ext cx="43052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43069F3-2A8E-4850-9768-AEE5B02AF980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5624640" y="6459480"/>
            <a:ext cx="43034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BCE678-4362-4850-AE3F-086709C385E4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3162240" y="509760"/>
            <a:ext cx="3606840" cy="2550960"/>
          </a:xfrm>
          <a:prstGeom prst="rect">
            <a:avLst/>
          </a:prstGeom>
          <a:ln w="0">
            <a:noFill/>
          </a:ln>
        </p:spPr>
      </p:sp>
      <p:sp>
        <p:nvSpPr>
          <p:cNvPr id="637" name="Text Box 2"/>
          <p:cNvSpPr/>
          <p:nvPr/>
        </p:nvSpPr>
        <p:spPr>
          <a:xfrm>
            <a:off x="992160" y="3228840"/>
            <a:ext cx="7947000" cy="30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Text Box 3"/>
          <p:cNvSpPr/>
          <p:nvPr/>
        </p:nvSpPr>
        <p:spPr>
          <a:xfrm>
            <a:off x="5624640" y="6459480"/>
            <a:ext cx="43052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4A2DEFA-D15B-42C7-B21C-87A3F84EE753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5624640" y="6459480"/>
            <a:ext cx="43034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97F9D6-DA28-4584-9210-5775084BB503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3162240" y="509760"/>
            <a:ext cx="3606840" cy="2550960"/>
          </a:xfrm>
          <a:prstGeom prst="rect">
            <a:avLst/>
          </a:prstGeom>
          <a:ln w="0">
            <a:noFill/>
          </a:ln>
        </p:spPr>
      </p:sp>
      <p:sp>
        <p:nvSpPr>
          <p:cNvPr id="641" name="Text Box 2"/>
          <p:cNvSpPr/>
          <p:nvPr/>
        </p:nvSpPr>
        <p:spPr>
          <a:xfrm>
            <a:off x="992160" y="3228840"/>
            <a:ext cx="7947000" cy="30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Text Box 3"/>
          <p:cNvSpPr/>
          <p:nvPr/>
        </p:nvSpPr>
        <p:spPr>
          <a:xfrm>
            <a:off x="5624640" y="6459480"/>
            <a:ext cx="43052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04EE7DA-C9B8-4229-81D5-C3F82A036FDA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22D6-DC05-43C5-A35A-60F5447AA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92217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5120" y="4518000"/>
            <a:ext cx="92217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6216-B909-4287-9254-2C7C6975E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45000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460480" y="2012760"/>
            <a:ext cx="45000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E0ABDF-BE65-49AC-877F-DD9FC823F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E885DD-6A91-4929-9FAA-209A84D73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735120" y="402840"/>
            <a:ext cx="92217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5CF946-BC00-4A2B-A533-E92596582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460480" y="2012760"/>
            <a:ext cx="45000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735120" y="451800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7C77AF-B378-4F8E-808F-56DE5F60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45000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460480" y="201276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460480" y="451800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3CFD86-585C-4BA1-A188-E9BE372B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460480" y="201276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735120" y="4518000"/>
            <a:ext cx="92217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521335-85D4-42F1-BC9C-ADB039F5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92217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735120" y="4518000"/>
            <a:ext cx="92217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34D2A4-90E5-471F-9F18-976BFC5D6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460480" y="201276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35120" y="451800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460480" y="451800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E37F2C-86DA-4491-9263-8F50C713A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2969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853080" y="2012760"/>
            <a:ext cx="2969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971400" y="2012760"/>
            <a:ext cx="2969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735120" y="4518000"/>
            <a:ext cx="2969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853080" y="4518000"/>
            <a:ext cx="2969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971400" y="4518000"/>
            <a:ext cx="2969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43EDF6-FE32-424E-986D-07AF7AFCF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A92958-024B-48DA-AB98-763A57836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0480" y="201276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5120" y="451800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0480" y="451800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060E-74C0-4D59-B945-0C75A4D5F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735120" y="2012760"/>
            <a:ext cx="922176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C6974C-85F9-481C-9F68-5F731BB7D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922176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9323FE-EE4C-4A89-9E0D-F9D63B26A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45000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460480" y="2012760"/>
            <a:ext cx="45000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DE12A8-0F3F-4218-8ACF-792E51F5D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48EDED-907B-4522-A3AE-FE213BEAF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735120" y="402840"/>
            <a:ext cx="92217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B85C94-92A4-48B8-A17E-2EE7BBC29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460480" y="2012760"/>
            <a:ext cx="45000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735120" y="451800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F33034-DB0F-4509-9363-A3352AEB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45000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460480" y="201276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460480" y="451800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1A3ECA-877A-45ED-8516-0EB030CC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460480" y="201276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735120" y="4518000"/>
            <a:ext cx="92217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E49CCF-1F5E-4C76-B3BB-12148974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92217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735120" y="4518000"/>
            <a:ext cx="92217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E10065-2FFA-4E60-8DEB-03A823737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460480" y="201276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735120" y="451800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460480" y="451800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777721-AE84-46ED-AD05-3D1CA91EC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2969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53080" y="2012760"/>
            <a:ext cx="2969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400" y="2012760"/>
            <a:ext cx="2969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5120" y="4518000"/>
            <a:ext cx="2969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53080" y="4518000"/>
            <a:ext cx="2969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400" y="4518000"/>
            <a:ext cx="2969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2C6C-AE30-4E54-A75D-723238981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2969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853080" y="2012760"/>
            <a:ext cx="2969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971400" y="2012760"/>
            <a:ext cx="2969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735120" y="4518000"/>
            <a:ext cx="2969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853080" y="4518000"/>
            <a:ext cx="2969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971400" y="4518000"/>
            <a:ext cx="2969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B6F122-2D59-4E71-B20E-EC54221D9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AB06E5-F243-4C6B-A28D-D7C68F914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735120" y="2012760"/>
            <a:ext cx="922176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ABDE62-429A-4D0B-BA2B-7AFC321FC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922176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12ED71-1C07-47A1-BE58-68658D1AD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45000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460480" y="2012760"/>
            <a:ext cx="45000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83ED0C-6F2E-49B9-847D-50124F42A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3074C6-56CF-4D18-B269-E3B6C945F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735120" y="402840"/>
            <a:ext cx="92217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B95937-E526-4352-A646-560AB0F61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460480" y="2012760"/>
            <a:ext cx="45000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735120" y="451800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7BA329-5C50-4D1A-8E65-04A91749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45000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460480" y="201276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460480" y="451800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9F52BE-6B1D-42CC-A83F-268EAF0B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460480" y="201276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735120" y="4518000"/>
            <a:ext cx="92217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69D896-18F0-406D-874E-2156CF12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B92A3-8589-4091-9EEA-D145AF327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92217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735120" y="4518000"/>
            <a:ext cx="92217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2EF96A-EC40-4824-88FD-44101256A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460480" y="201276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735120" y="451800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460480" y="451800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1F6E03-59E7-4F90-9F7F-DBEA9B153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2969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853080" y="2012760"/>
            <a:ext cx="2969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971400" y="2012760"/>
            <a:ext cx="2969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735120" y="4518000"/>
            <a:ext cx="2969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853080" y="4518000"/>
            <a:ext cx="2969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971400" y="4518000"/>
            <a:ext cx="2969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9C7A11-316E-45FD-BC12-84145B45C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70F621-047A-4491-BB70-1FA588D7B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735120" y="2012760"/>
            <a:ext cx="922176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787309-F2F7-47D6-80D3-AA76BDCC3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922176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F213E3-E960-4589-B406-D69CCBC5A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45000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460480" y="2012760"/>
            <a:ext cx="45000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67F5B7-29CA-4208-B99A-79E281B76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5813B2-5CE6-42B2-9C77-29657C977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735120" y="402840"/>
            <a:ext cx="92217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174712-CCF4-458A-ADC5-8D47C26B8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460480" y="2012760"/>
            <a:ext cx="45000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735120" y="451800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C5ECC7-1EEC-4596-A24A-A7AFAE50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35120" y="2012760"/>
            <a:ext cx="922176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BCD7F-BD37-4C88-9999-ED529E010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45000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460480" y="201276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460480" y="451800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C6D308-0913-48CF-806B-4612EE70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460480" y="201276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735120" y="4518000"/>
            <a:ext cx="92217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2BCC5D-8090-4B3F-96D1-8EF790A8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92217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735120" y="4518000"/>
            <a:ext cx="92217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C883BF-2EE3-4EFC-B915-A6A883BAC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460480" y="201276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735120" y="451800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460480" y="451800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45DDB8-E189-4549-A89A-C983A00DA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2969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853080" y="2012760"/>
            <a:ext cx="2969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971400" y="2012760"/>
            <a:ext cx="2969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735120" y="4518000"/>
            <a:ext cx="2969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853080" y="4518000"/>
            <a:ext cx="2969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971400" y="4518000"/>
            <a:ext cx="2969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81DD92-8591-4BFA-B45E-B8DEA1620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FE466D-6206-4193-B921-463926B69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735120" y="2012760"/>
            <a:ext cx="922176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5398A0-D897-4119-A926-2DDA58E80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922176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E8DDA4-7211-42D4-9AA9-BE477D768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45000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460480" y="2012760"/>
            <a:ext cx="45000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D63715-7C91-4212-9285-09A79AE51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7B9E73-FDD2-4226-9A11-AD4EF40C6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922176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E1856-36CD-4D7C-807C-91D813E93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735120" y="402840"/>
            <a:ext cx="92217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AB886F-295B-41CF-B56A-1DB11081C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460480" y="2012760"/>
            <a:ext cx="45000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735120" y="451800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E5DC37-D81E-468B-BBB2-F1EDAF7C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45000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460480" y="201276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460480" y="451800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8FA74F-FCC9-4332-B381-35DF0F1D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460480" y="201276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735120" y="4518000"/>
            <a:ext cx="92217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ADC71C-3879-42A9-9BE2-E806958B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92217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735120" y="4518000"/>
            <a:ext cx="92217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9B915C-801F-45C5-B55A-4EDA1468E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460480" y="201276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735120" y="451800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5460480" y="451800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6500B1-371E-44B4-B9C0-1D42A456A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2969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853080" y="2012760"/>
            <a:ext cx="2969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971400" y="2012760"/>
            <a:ext cx="2969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735120" y="4518000"/>
            <a:ext cx="2969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853080" y="4518000"/>
            <a:ext cx="2969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971400" y="4518000"/>
            <a:ext cx="2969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C3F249-F8AD-4538-8702-AE1DFD578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45000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60480" y="2012760"/>
            <a:ext cx="45000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4AE47-4D2C-44CD-9804-FFB8C771C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580BD-4454-482E-9D34-64E2E26FE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35120" y="402840"/>
            <a:ext cx="92217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C1E9C-2E62-440D-A1C0-06BE65CF4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60480" y="2012760"/>
            <a:ext cx="45000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35120" y="451800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5AB77-5034-4DE4-9B6B-4F549848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5120" y="2012760"/>
            <a:ext cx="922176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C9CF-F9C2-4B87-B4EC-9AA9B70D0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45000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60480" y="201276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60480" y="451800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E2891-0AD2-4FF6-9309-E075474D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60480" y="201276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35120" y="4518000"/>
            <a:ext cx="92217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EADEC-F359-4E01-9342-84FA8B03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92217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35120" y="4518000"/>
            <a:ext cx="92217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E081F-0700-46F5-A4E7-5DCB0E795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60480" y="201276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35120" y="451800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60480" y="451800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411E8-0636-40FE-AFCB-4B130BB96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2969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53080" y="2012760"/>
            <a:ext cx="2969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71400" y="2012760"/>
            <a:ext cx="2969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35120" y="4518000"/>
            <a:ext cx="2969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53080" y="4518000"/>
            <a:ext cx="2969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71400" y="4518000"/>
            <a:ext cx="2969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F0DD5-3742-4E56-B0AC-9CF8CA4E3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18501-05FF-42AE-B9FE-2F5CD5366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35120" y="2012760"/>
            <a:ext cx="922176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A5DFD-8CEF-4B91-A570-E16AB1ADA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922176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6C8C2-EE18-416C-99FF-1205F576D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45000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460480" y="2012760"/>
            <a:ext cx="45000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8D4C4-A840-4D78-B052-483323F71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4B440-EDFC-492A-978F-032D4AAAF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922176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593F-8649-40E4-9B1C-EF667E10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35120" y="402840"/>
            <a:ext cx="92217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D7E32-086E-4749-98E5-3189D0287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460480" y="2012760"/>
            <a:ext cx="45000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35120" y="451800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52538-CD5A-43DB-8860-939131FD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45000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460480" y="201276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460480" y="451800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968BE-25D0-44D2-A202-7D405A31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460480" y="201276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35120" y="4518000"/>
            <a:ext cx="92217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83B43-EFFA-4B88-9308-09A5B319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92217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35120" y="4518000"/>
            <a:ext cx="92217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AC333-52DA-483F-B77B-A58D6DAA8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460480" y="201276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35120" y="451800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460480" y="451800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2B58A-653D-43DA-9FA9-BE5986552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2969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853080" y="2012760"/>
            <a:ext cx="2969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971400" y="2012760"/>
            <a:ext cx="2969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35120" y="4518000"/>
            <a:ext cx="2969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853080" y="4518000"/>
            <a:ext cx="2969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971400" y="4518000"/>
            <a:ext cx="2969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8FAD3-6C88-481E-B281-5FD19377A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ED3CC-959D-47A7-818E-FEDCA1061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735120" y="2012760"/>
            <a:ext cx="922176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97CE1-749D-439B-8229-2E4D11800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922176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EA419-94F8-4819-B873-E190D5050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45000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0480" y="2012760"/>
            <a:ext cx="45000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7664-256A-4786-85E5-D460D2FDF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45000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60480" y="2012760"/>
            <a:ext cx="45000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FDB00-DE2D-4C3C-830A-BEE2298CE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09CE4-C6FB-4E74-B9E5-3EBF31F30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35120" y="402840"/>
            <a:ext cx="92217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9641B-5498-4CD1-8FE4-72319E373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460480" y="2012760"/>
            <a:ext cx="45000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735120" y="451800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5DB8C-219D-4125-9288-CFA69DD4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45000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460480" y="201276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460480" y="451800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19EEB-69FC-48A7-AAA9-B4580809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460480" y="201276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35120" y="4518000"/>
            <a:ext cx="92217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4C5D5-AEB0-4F48-B507-527EE595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92217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735120" y="4518000"/>
            <a:ext cx="92217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092DA-580F-4737-9B63-03379FA82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460480" y="201276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35120" y="451800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460480" y="451800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B6A24-3885-4FAA-8D3E-A73F7A650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2969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853080" y="2012760"/>
            <a:ext cx="2969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71400" y="2012760"/>
            <a:ext cx="2969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735120" y="4518000"/>
            <a:ext cx="2969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853080" y="4518000"/>
            <a:ext cx="2969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971400" y="4518000"/>
            <a:ext cx="2969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6625F-AEED-49C3-8AC8-C67868BDF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6CE79-2A39-4C30-91BB-B8913C045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5768-E4E2-4B4F-B1B4-FB3A4CB03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735120" y="2012760"/>
            <a:ext cx="922176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1262C3-B5ED-408B-A07E-E8B8FD91D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922176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5B380-EDDB-4EB8-8902-8FF6FBFDC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45000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460480" y="2012760"/>
            <a:ext cx="45000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C53AB9-7B70-417C-B4FB-8C8C451B2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CB54F-3F65-4599-8472-A894C778C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735120" y="402840"/>
            <a:ext cx="92217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F787E-F3F3-4D5B-A3CA-113AF2231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460480" y="2012760"/>
            <a:ext cx="45000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735120" y="451800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6E75D-B04A-44E1-B0B6-ADAAF990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45000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460480" y="201276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460480" y="451800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63A52-C882-461E-88BC-C18E370F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460480" y="201276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35120" y="4518000"/>
            <a:ext cx="92217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7B907-2DD2-4042-A506-3EDFFB06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92217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735120" y="4518000"/>
            <a:ext cx="92217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82AB3-8EF8-446A-8593-D4B07AA49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460480" y="201276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735120" y="451800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460480" y="451800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3FE69-C4FE-407C-9A9A-F180D2699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35120" y="402840"/>
            <a:ext cx="92217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6A2F-DF4C-43AA-A2B8-C5DE9A325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2969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853080" y="2012760"/>
            <a:ext cx="2969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971400" y="2012760"/>
            <a:ext cx="2969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735120" y="4518000"/>
            <a:ext cx="2969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853080" y="4518000"/>
            <a:ext cx="2969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971400" y="4518000"/>
            <a:ext cx="2969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48F17-2FD6-4D70-9433-2024C1A30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CE092C-98A9-45A3-A9C0-668CDBB5A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735120" y="2012760"/>
            <a:ext cx="922176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F47DC-7D34-42A9-9F1C-D43E2497A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922176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84AC3-7319-44B1-B1A9-FB0165007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45000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460480" y="2012760"/>
            <a:ext cx="45000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F5DE76-8125-4AE5-874A-5EC68644A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DF6220-19BC-4D9B-8296-06D1F45F9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735120" y="402840"/>
            <a:ext cx="92217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C60CD-EF26-43AA-B6F1-422E776A6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460480" y="2012760"/>
            <a:ext cx="45000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735120" y="451800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43D59D-905E-4E7E-AF6A-B2259A6F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45000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460480" y="201276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460480" y="451800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94CF8-FF9C-4014-A7BB-CED9B23A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460480" y="201276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735120" y="4518000"/>
            <a:ext cx="92217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4EB92-FC28-4832-BFE7-B0C7F554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0480" y="2012760"/>
            <a:ext cx="45000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5120" y="451800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F55F-59E6-4BFD-A272-1099F7A53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92217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735120" y="4518000"/>
            <a:ext cx="92217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F5B538-C524-4313-ABDB-CB3135E56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460480" y="201276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735120" y="451800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460480" y="451800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2AB94-FCB3-4B89-A6F5-94ABE8993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2969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853080" y="2012760"/>
            <a:ext cx="2969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971400" y="2012760"/>
            <a:ext cx="2969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735120" y="4518000"/>
            <a:ext cx="2969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853080" y="4518000"/>
            <a:ext cx="2969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971400" y="4518000"/>
            <a:ext cx="2969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A8EB6F-CFB8-45BE-AB59-2A9C9F234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B81E36-26BF-4D0D-A972-EE0922E8C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735120" y="2012760"/>
            <a:ext cx="922176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D20A3-B0EA-4BFD-B68D-70B2D2F4F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922176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D6EA05-B25B-44F7-A48C-92264C59A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45000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460480" y="2012760"/>
            <a:ext cx="45000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B05CC8-D732-439A-938D-719AE9475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D8433E-550F-445E-854C-C2699ECF6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735120" y="402840"/>
            <a:ext cx="92217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19C7D6-9B21-4E06-AEC8-2800255EA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460480" y="2012760"/>
            <a:ext cx="45000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735120" y="451800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C4585-EB58-4EEA-9D5B-81531BA5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45000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0480" y="201276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0480" y="451800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DB5D-7442-48CE-9E25-1A98D35D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45000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460480" y="201276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460480" y="451800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3A6F4-5207-4F04-9284-9324986D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460480" y="201276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735120" y="4518000"/>
            <a:ext cx="92217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57DB1-5B6F-4CCF-A2D2-9DBC449B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92217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735120" y="4518000"/>
            <a:ext cx="92217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7DE9D7-CD69-4879-9FD8-149FB5D66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460480" y="201276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735120" y="451800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460480" y="451800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A126FF-6AA4-4724-9373-F219EF3DE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2969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853080" y="2012760"/>
            <a:ext cx="2969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971400" y="2012760"/>
            <a:ext cx="2969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735120" y="4518000"/>
            <a:ext cx="2969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853080" y="4518000"/>
            <a:ext cx="2969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971400" y="4518000"/>
            <a:ext cx="2969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9DCFD0-7CF8-414C-9503-BD5FD1757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129276-95E0-4AA8-9A63-67E10D423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735120" y="2012760"/>
            <a:ext cx="922176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2E908D-9A62-4330-9F90-79E5708FE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922176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EF94C-B356-4A04-A9B2-FDF59DD23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45000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460480" y="2012760"/>
            <a:ext cx="45000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B0C362-DD1F-46F2-A80A-9CBD4D2BE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9C62BA-7F2F-4222-A165-C35DF7EA7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0480" y="201276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5120" y="4518000"/>
            <a:ext cx="92217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0DDF-CD35-43C4-8EC5-158BAC85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735120" y="402840"/>
            <a:ext cx="92217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BB4EF8-BC7A-4F22-BA89-7969AB52A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460480" y="2012760"/>
            <a:ext cx="45000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735120" y="451800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C535AF-E767-4891-989F-7DFFA3EA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45000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460480" y="201276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460480" y="451800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DD428B-EE7D-4918-84B8-CB5BB845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460480" y="201276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735120" y="4518000"/>
            <a:ext cx="92217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C734F6-4AF0-4F3F-BB2D-20280972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92217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735120" y="4518000"/>
            <a:ext cx="92217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C350B9-C68D-4C26-BEF2-90558EAED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460480" y="201276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35120" y="451800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460480" y="451800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9B93A8-35D8-4C50-9400-E0CF1E1F9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2969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853080" y="2012760"/>
            <a:ext cx="2969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971400" y="2012760"/>
            <a:ext cx="2969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735120" y="4518000"/>
            <a:ext cx="2969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853080" y="4518000"/>
            <a:ext cx="2969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971400" y="4518000"/>
            <a:ext cx="2969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F5040C-D6C4-44DC-9A46-699939D14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67B1CE-B371-4387-98A7-77F7C1EAF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735120" y="2012760"/>
            <a:ext cx="922176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5DC73F-C08B-4071-B1B7-722FD6700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922176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800F26-0BED-4394-BA6B-5612B2EBD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962028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93840"/>
                <a:tab algn="l" pos="787320"/>
                <a:tab algn="l" pos="11811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600" y="1763640"/>
            <a:ext cx="962028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9880" indent="0">
              <a:spcBef>
                <a:spcPts val="700"/>
              </a:spcBef>
              <a:tabLst>
                <a:tab algn="l" pos="0"/>
                <a:tab algn="l" pos="393840"/>
                <a:tab algn="l" pos="787320"/>
                <a:tab algn="l" pos="11811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299880" indent="-299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393840"/>
                <a:tab algn="l" pos="787320"/>
                <a:tab algn="l" pos="11811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99880" indent="-299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393840"/>
                <a:tab algn="l" pos="787320"/>
                <a:tab algn="l" pos="11811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299880" indent="-299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393840"/>
                <a:tab algn="l" pos="787320"/>
                <a:tab algn="l" pos="11811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99880" indent="-2998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393840"/>
                <a:tab algn="l" pos="787320"/>
                <a:tab algn="l" pos="11811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99880" indent="-2998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393840"/>
                <a:tab algn="l" pos="787320"/>
                <a:tab algn="l" pos="11811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99880" indent="-2998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393840"/>
                <a:tab algn="l" pos="787320"/>
                <a:tab algn="l" pos="11811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600" y="7007040"/>
            <a:ext cx="249228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93840"/>
                <a:tab algn="l" pos="787320"/>
                <a:tab algn="l" pos="1181160"/>
                <a:tab algn="l" pos="15746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000" spc="-1" strike="noStrike">
                <a:solidFill>
                  <a:srgbClr val="898989"/>
                </a:solidFill>
                <a:latin typeface="Calibr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93840"/>
                <a:tab algn="l" pos="787320"/>
                <a:tab algn="l" pos="1181160"/>
                <a:tab algn="l" pos="15746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000" spc="-1" strike="noStrike">
                <a:solidFill>
                  <a:srgbClr val="898989"/>
                </a:solidFill>
                <a:latin typeface="Calibri"/>
                <a:ea typeface="Segoe UI"/>
              </a:rPr>
              <a:t>25/06/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2560" y="7007040"/>
            <a:ext cx="338436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393840"/>
                <a:tab algn="l" pos="787320"/>
                <a:tab algn="l" pos="1181160"/>
                <a:tab algn="l" pos="1574640"/>
                <a:tab algn="l" pos="1968480"/>
                <a:tab algn="l" pos="236376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000" spc="-1" strike="noStrike">
                <a:solidFill>
                  <a:srgbClr val="898989"/>
                </a:solidFill>
                <a:latin typeface="Calibri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93840"/>
                <a:tab algn="l" pos="787320"/>
                <a:tab algn="l" pos="1181160"/>
                <a:tab algn="l" pos="1574640"/>
                <a:tab algn="l" pos="1968480"/>
                <a:tab algn="l" pos="236376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898989"/>
                </a:solidFill>
                <a:latin typeface="Calibri"/>
                <a:ea typeface="Segoe UI"/>
              </a:rPr>
              <a:t>Concours d'architecture - Lycée polyvalent de Mamoudzou Sud à Kwalé - Candida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62600" y="7007040"/>
            <a:ext cx="249228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393840"/>
                <a:tab algn="l" pos="787320"/>
                <a:tab algn="l" pos="1181160"/>
                <a:tab algn="l" pos="15746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000" spc="-1" strike="noStrike">
                <a:solidFill>
                  <a:srgbClr val="898989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393840"/>
                <a:tab algn="l" pos="787320"/>
                <a:tab algn="l" pos="1181160"/>
                <a:tab algn="l" pos="15746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5E66560-1BB3-407B-AF9E-48B0B28D6940}" type="slidenum">
              <a:rPr b="0" lang="fr-FR" sz="1000" spc="-1" strike="noStrike">
                <a:solidFill>
                  <a:srgbClr val="898989"/>
                </a:solidFill>
                <a:latin typeface="Calibr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35120" y="2012760"/>
            <a:ext cx="922176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300" spc="-1" strike="noStrike">
                <a:solidFill>
                  <a:srgbClr val="898989"/>
                </a:solidFill>
                <a:latin typeface="Times New Roman"/>
              </a:rPr>
              <a:t>Concours d'architecture - Lycée polyvalent de Mamoudzou Sud à Kwalé - Candidatur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0B1C89E-9216-4691-8E16-67971E3D3F13}" type="slidenum">
              <a:rPr b="0" lang="fr-FR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735120" y="2012760"/>
            <a:ext cx="922176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300" spc="-1" strike="noStrike">
                <a:solidFill>
                  <a:srgbClr val="898989"/>
                </a:solidFill>
                <a:latin typeface="Times New Roman"/>
              </a:rPr>
              <a:t>Concours d'architecture - Lycée polyvalent de Mamoudzou Sud à Kwalé - Candidatur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D04653A-227E-41FB-8989-ADD6DEF9F380}" type="slidenum">
              <a:rPr b="0" lang="fr-FR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35120" y="2012760"/>
            <a:ext cx="922176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300" spc="-1" strike="noStrike">
                <a:solidFill>
                  <a:srgbClr val="898989"/>
                </a:solidFill>
                <a:latin typeface="Times New Roman"/>
              </a:rPr>
              <a:t>Concours d'architecture - Lycée polyvalent de Mamoudzou Sud à Kwalé - Candidatur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3BDC522-1EC9-44A4-A080-CB723CF9F72A}" type="slidenum">
              <a:rPr b="0" lang="fr-FR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735120" y="2012760"/>
            <a:ext cx="922176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300" spc="-1" strike="noStrike">
                <a:solidFill>
                  <a:srgbClr val="898989"/>
                </a:solidFill>
                <a:latin typeface="Times New Roman"/>
              </a:rPr>
              <a:t>Concours d'architecture - Lycée polyvalent de Mamoudzou Sud à Kwalé - Candidatur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5EBDFC8-5278-42C3-8B44-E62FB62CC2B7}" type="slidenum">
              <a:rPr b="0" lang="fr-FR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35120" y="2012760"/>
            <a:ext cx="922176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300" spc="-1" strike="noStrike">
                <a:solidFill>
                  <a:srgbClr val="898989"/>
                </a:solidFill>
                <a:latin typeface="Times New Roman"/>
              </a:rPr>
              <a:t>25/06/1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300" spc="-1" strike="noStrike">
                <a:solidFill>
                  <a:srgbClr val="898989"/>
                </a:solidFill>
                <a:latin typeface="Times New Roman"/>
              </a:rPr>
              <a:t>Concours d'architecture - Lycée polyvalent de Mamoudzou Sud à Kwalé - Candidatur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D3274B4-B93B-4028-B361-9154AA157B72}" type="slidenum">
              <a:rPr b="0" lang="fr-FR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35120" y="2012760"/>
            <a:ext cx="922176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300" spc="-1" strike="noStrike">
                <a:solidFill>
                  <a:srgbClr val="898989"/>
                </a:solidFill>
                <a:latin typeface="Times New Roman"/>
              </a:rPr>
              <a:t>Concours d'architecture - Lycée polyvalent de Mamoudzou Sud à Kwalé - Candidatur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6A8AA27-3ED7-4C9A-A259-11EDD788051D}" type="slidenum">
              <a:rPr b="0" lang="fr-FR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35120" y="2012760"/>
            <a:ext cx="922176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300" spc="-1" strike="noStrike">
                <a:solidFill>
                  <a:srgbClr val="898989"/>
                </a:solidFill>
                <a:latin typeface="Times New Roman"/>
              </a:rPr>
              <a:t>Concours d'architecture - Lycée polyvalent de Mamoudzou Sud à Kwalé - Candidatur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0D1002B-5846-4C76-9659-2E00B2892567}" type="slidenum">
              <a:rPr b="0" lang="fr-FR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35120" y="2012760"/>
            <a:ext cx="922176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300" spc="-1" strike="noStrike">
                <a:solidFill>
                  <a:srgbClr val="898989"/>
                </a:solidFill>
                <a:latin typeface="Times New Roman"/>
              </a:rPr>
              <a:t>Concours d'architecture - Lycée polyvalent de Mamoudzou Sud à Kwalé - Candidatur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B9CFA69-8F89-43F5-B7C0-760A0B42A6F8}" type="slidenum">
              <a:rPr b="0" lang="fr-FR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35120" y="2012760"/>
            <a:ext cx="922176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300" spc="-1" strike="noStrike">
                <a:solidFill>
                  <a:srgbClr val="898989"/>
                </a:solidFill>
                <a:latin typeface="Times New Roman"/>
              </a:rPr>
              <a:t>Concours d'architecture - Lycée polyvalent de Mamoudzou Sud à Kwalé - Candidatur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3CF696F-B716-4D49-BBDF-E6DF2C95B323}" type="slidenum">
              <a:rPr b="0" lang="fr-FR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35120" y="2012760"/>
            <a:ext cx="922176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300" spc="-1" strike="noStrike">
                <a:solidFill>
                  <a:srgbClr val="898989"/>
                </a:solidFill>
                <a:latin typeface="Times New Roman"/>
              </a:rPr>
              <a:t>Concours d'architecture - Lycée polyvalent de Mamoudzou Sud à Kwalé - Candidatur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6167FA3-931A-4B11-9BBC-A7BC9A6D76DE}" type="slidenum">
              <a:rPr b="0" lang="fr-FR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35120" y="2012760"/>
            <a:ext cx="922176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300" spc="-1" strike="noStrike">
                <a:solidFill>
                  <a:srgbClr val="898989"/>
                </a:solidFill>
                <a:latin typeface="Times New Roman"/>
              </a:rPr>
              <a:t>Concours d'architecture - Lycée polyvalent de Mamoudzou Sud à Kwalé - Candidatur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B026CB2-C9D4-4C4F-924D-7D8F82515EBF}" type="slidenum">
              <a:rPr b="0" lang="fr-FR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35120" y="2012760"/>
            <a:ext cx="922176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300" spc="-1" strike="noStrike">
                <a:solidFill>
                  <a:srgbClr val="898989"/>
                </a:solidFill>
                <a:latin typeface="Times New Roman"/>
              </a:rPr>
              <a:t>Concours d'architecture - Lycée polyvalent de Mamoudzou Sud à Kwalé - Candidatur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7B45358-C78C-4A46-9B11-F39A5869884B}" type="slidenum">
              <a:rPr b="0" lang="fr-FR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 Box 2"/>
          <p:cNvSpPr/>
          <p:nvPr/>
        </p:nvSpPr>
        <p:spPr>
          <a:xfrm>
            <a:off x="299880" y="237960"/>
            <a:ext cx="4897440" cy="50040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41040" bIns="41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Lato"/>
                <a:ea typeface="Lato"/>
              </a:rPr>
              <a:t>CADRE TYPE 2 : REFERENCE ILLUSTR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304920" y="835200"/>
          <a:ext cx="4897440" cy="3438360"/>
        </p:xfrm>
        <a:graphic>
          <a:graphicData uri="http://schemas.openxmlformats.org/drawingml/2006/table">
            <a:tbl>
              <a:tblPr/>
              <a:tblGrid>
                <a:gridCol w="1800000"/>
                <a:gridCol w="3097440"/>
              </a:tblGrid>
              <a:tr h="318240">
                <a:tc>
                  <a:txBody>
                    <a:bodyPr lIns="80280" rIns="80280" tIns="6660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Lato"/>
                          <a:ea typeface="Lato"/>
                        </a:rPr>
                        <a:t>Nom de l’opération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595a"/>
                    </a:solidFill>
                  </a:tcPr>
                </a:tc>
                <a:tc>
                  <a:txBody>
                    <a:bodyPr lIns="80280" rIns="80280" tIns="7056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595a"/>
                    </a:solidFill>
                  </a:tcPr>
                </a:tc>
              </a:tr>
              <a:tr h="283320">
                <a:tc>
                  <a:txBody>
                    <a:bodyPr lIns="80280" rIns="80280" tIns="6660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100" spc="-1" strike="noStrike">
                          <a:solidFill>
                            <a:srgbClr val="7f7f7f"/>
                          </a:solidFill>
                          <a:latin typeface="Lato"/>
                          <a:ea typeface="Lato"/>
                        </a:rPr>
                        <a:t>Architecte mandatair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0280" rIns="80280" tIns="7056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320">
                <a:tc>
                  <a:txBody>
                    <a:bodyPr lIns="80280" rIns="80280" tIns="6660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100" spc="-1" strike="noStrike">
                          <a:solidFill>
                            <a:srgbClr val="7f7f7f"/>
                          </a:solidFill>
                          <a:latin typeface="Lato"/>
                          <a:ea typeface="Lato"/>
                        </a:rPr>
                        <a:t>Architecte associé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0280" rIns="80280" tIns="7056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320">
                <a:tc>
                  <a:txBody>
                    <a:bodyPr lIns="80280" rIns="80280" tIns="6660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100" spc="-1" strike="noStrike">
                          <a:solidFill>
                            <a:srgbClr val="7f7f7f"/>
                          </a:solidFill>
                          <a:latin typeface="Lato"/>
                          <a:ea typeface="Lato"/>
                        </a:rPr>
                        <a:t>Maitrise d’ouvrag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0280" rIns="80280" tIns="7056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320">
                <a:tc>
                  <a:txBody>
                    <a:bodyPr lIns="80280" rIns="80280" tIns="6660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100" spc="-1" strike="noStrike">
                          <a:solidFill>
                            <a:srgbClr val="7f7f7f"/>
                          </a:solidFill>
                          <a:latin typeface="Lato"/>
                          <a:ea typeface="Lato"/>
                        </a:rPr>
                        <a:t>Lieu d’exécutio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0280" rIns="80280" tIns="7056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320">
                <a:tc>
                  <a:txBody>
                    <a:bodyPr lIns="80280" rIns="80280" tIns="6660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100" spc="-1" strike="noStrike">
                          <a:solidFill>
                            <a:srgbClr val="7f7f7f"/>
                          </a:solidFill>
                          <a:latin typeface="Lato"/>
                          <a:ea typeface="Lato"/>
                        </a:rPr>
                        <a:t>Coûts des travaux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0280" rIns="80280" tIns="7056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320">
                <a:tc>
                  <a:txBody>
                    <a:bodyPr lIns="80280" rIns="80280" tIns="6660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100" spc="-1" strike="noStrike">
                          <a:solidFill>
                            <a:srgbClr val="7f7f7f"/>
                          </a:solidFill>
                          <a:latin typeface="Lato"/>
                          <a:ea typeface="Lato"/>
                        </a:rPr>
                        <a:t>Surface bâtiment (m²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0280" rIns="80280" tIns="7056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320">
                <a:tc>
                  <a:txBody>
                    <a:bodyPr lIns="80280" rIns="80280" tIns="6660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100" spc="-1" strike="noStrike">
                          <a:solidFill>
                            <a:srgbClr val="7f7f7f"/>
                          </a:solidFill>
                          <a:latin typeface="Lato"/>
                          <a:ea typeface="Lato"/>
                        </a:rPr>
                        <a:t>Surface extérieur (m²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0280" rIns="80280" tIns="7056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320">
                <a:tc>
                  <a:txBody>
                    <a:bodyPr lIns="80280" rIns="80280" tIns="6660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100" spc="-1" strike="noStrike">
                          <a:solidFill>
                            <a:srgbClr val="7f7f7f"/>
                          </a:solidFill>
                          <a:latin typeface="Lato"/>
                          <a:ea typeface="Lato"/>
                        </a:rPr>
                        <a:t>Mission MO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0280" rIns="80280" tIns="7056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320">
                <a:tc>
                  <a:txBody>
                    <a:bodyPr lIns="80280" rIns="80280" tIns="6660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100" spc="-1" strike="noStrike">
                          <a:solidFill>
                            <a:srgbClr val="7f7f7f"/>
                          </a:solidFill>
                          <a:latin typeface="Lato"/>
                          <a:ea typeface="Lato"/>
                        </a:rPr>
                        <a:t>Date de livraison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0280" rIns="80280" tIns="7056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320">
                <a:tc>
                  <a:txBody>
                    <a:bodyPr lIns="80280" rIns="80280" tIns="6660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100" spc="-1" strike="noStrike">
                          <a:solidFill>
                            <a:srgbClr val="7f7f7f"/>
                          </a:solidFill>
                          <a:latin typeface="Lato"/>
                          <a:ea typeface="Lato"/>
                        </a:rPr>
                        <a:t>Explication synthétique du projet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0280" rIns="80280" tIns="7056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3" name="Rectangle 60"/>
          <p:cNvSpPr/>
          <p:nvPr/>
        </p:nvSpPr>
        <p:spPr>
          <a:xfrm>
            <a:off x="5481720" y="1187280"/>
            <a:ext cx="4859280" cy="28800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Text Box 64"/>
          <p:cNvSpPr/>
          <p:nvPr/>
        </p:nvSpPr>
        <p:spPr>
          <a:xfrm>
            <a:off x="4689360" y="125280"/>
            <a:ext cx="61200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Lato"/>
                <a:ea typeface="Lato"/>
              </a:rPr>
              <a:t>Nom de l’équipe candidate / </a:t>
            </a:r>
            <a:br>
              <a:rPr sz="1400"/>
            </a:br>
            <a:r>
              <a:rPr b="1" lang="fr-FR" sz="1400" spc="-1" strike="noStrike">
                <a:solidFill>
                  <a:srgbClr val="000000"/>
                </a:solidFill>
                <a:latin typeface="Lato"/>
                <a:ea typeface="Lato"/>
              </a:rPr>
              <a:t>Références du mandatai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Text Box 62"/>
          <p:cNvSpPr/>
          <p:nvPr/>
        </p:nvSpPr>
        <p:spPr>
          <a:xfrm>
            <a:off x="6661080" y="2027160"/>
            <a:ext cx="2602080" cy="14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41040" bIns="41040" anchor="t">
            <a:spAutoFit/>
          </a:bodyPr>
          <a:p>
            <a:pPr algn="ctr"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929292"/>
                </a:solidFill>
                <a:latin typeface="Lato"/>
                <a:ea typeface="Lato"/>
              </a:rPr>
              <a:t>Image permettant d’apprécier l’architecture extérieure du bâtiment (photo, façade, etc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929292"/>
                </a:solidFill>
                <a:latin typeface="Lato"/>
                <a:ea typeface="Lato"/>
              </a:rPr>
              <a:t>NE PAS ÉCRI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ZoneTexte 1"/>
          <p:cNvSpPr/>
          <p:nvPr/>
        </p:nvSpPr>
        <p:spPr>
          <a:xfrm>
            <a:off x="5381640" y="932040"/>
            <a:ext cx="473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Lato"/>
                <a:ea typeface="Lato"/>
              </a:rPr>
              <a:t>L’écriture architecturale extérieure 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Rectangle 60"/>
          <p:cNvSpPr/>
          <p:nvPr/>
        </p:nvSpPr>
        <p:spPr>
          <a:xfrm>
            <a:off x="5489640" y="4540320"/>
            <a:ext cx="4860720" cy="287964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Text Box 62"/>
          <p:cNvSpPr/>
          <p:nvPr/>
        </p:nvSpPr>
        <p:spPr>
          <a:xfrm>
            <a:off x="6618240" y="5138640"/>
            <a:ext cx="2603520" cy="14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41040" bIns="41040" anchor="t">
            <a:spAutoFit/>
          </a:bodyPr>
          <a:p>
            <a:pPr algn="ctr"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929292"/>
                </a:solidFill>
                <a:latin typeface="Lato"/>
                <a:ea typeface="Lato"/>
              </a:rPr>
              <a:t>Image permettant d’apprécier l’architecture intérieure du bâtiment (photo, hall des bassins, etc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929292"/>
                </a:solidFill>
                <a:latin typeface="Lato"/>
                <a:ea typeface="Lato"/>
              </a:rPr>
              <a:t>NE PAS ÉCRI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ZoneTexte 4"/>
          <p:cNvSpPr/>
          <p:nvPr/>
        </p:nvSpPr>
        <p:spPr>
          <a:xfrm>
            <a:off x="5381640" y="4284720"/>
            <a:ext cx="473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Lato"/>
                <a:ea typeface="Lato"/>
              </a:rPr>
              <a:t>L’écriture architecturale intérieure 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Rectangle 60"/>
          <p:cNvSpPr/>
          <p:nvPr/>
        </p:nvSpPr>
        <p:spPr>
          <a:xfrm>
            <a:off x="299880" y="4540320"/>
            <a:ext cx="4861080" cy="287964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ZoneTexte 6"/>
          <p:cNvSpPr/>
          <p:nvPr/>
        </p:nvSpPr>
        <p:spPr>
          <a:xfrm>
            <a:off x="214200" y="4297320"/>
            <a:ext cx="473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Lato"/>
                <a:ea typeface="Lato"/>
              </a:rPr>
              <a:t>L’insertion dans le site 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Text Box 62"/>
          <p:cNvSpPr/>
          <p:nvPr/>
        </p:nvSpPr>
        <p:spPr>
          <a:xfrm>
            <a:off x="1330200" y="5359320"/>
            <a:ext cx="2603520" cy="188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41040" bIns="41040" anchor="t">
            <a:spAutoFit/>
          </a:bodyPr>
          <a:p>
            <a:pPr algn="ctr"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929292"/>
                </a:solidFill>
                <a:latin typeface="Lato"/>
                <a:ea typeface="Lato"/>
              </a:rPr>
              <a:t>Image permettant d’apprécier l’insertion du bâtiment dans son site (photo, plan masse paysager, image de synthèse, etc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929292"/>
                </a:solidFill>
                <a:latin typeface="Lato"/>
                <a:ea typeface="Lato"/>
              </a:rPr>
              <a:t>NE PAS ÉCRI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3" name="Image 2" descr=""/>
          <p:cNvPicPr/>
          <p:nvPr/>
        </p:nvPicPr>
        <p:blipFill>
          <a:blip r:embed="rId1"/>
          <a:stretch/>
        </p:blipFill>
        <p:spPr>
          <a:xfrm>
            <a:off x="9669600" y="139680"/>
            <a:ext cx="682560" cy="72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 Box 2"/>
          <p:cNvSpPr/>
          <p:nvPr/>
        </p:nvSpPr>
        <p:spPr>
          <a:xfrm>
            <a:off x="299880" y="237960"/>
            <a:ext cx="4897440" cy="50040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41040" bIns="41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Lato"/>
                <a:ea typeface="Lato"/>
              </a:rPr>
              <a:t>CADRE TYPE 2 : REFERENCE ILLUSTR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304920" y="835200"/>
          <a:ext cx="4897440" cy="3438360"/>
        </p:xfrm>
        <a:graphic>
          <a:graphicData uri="http://schemas.openxmlformats.org/drawingml/2006/table">
            <a:tbl>
              <a:tblPr/>
              <a:tblGrid>
                <a:gridCol w="1800000"/>
                <a:gridCol w="3097440"/>
              </a:tblGrid>
              <a:tr h="293400">
                <a:tc>
                  <a:txBody>
                    <a:bodyPr lIns="80280" rIns="80280" tIns="6660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Lato"/>
                          <a:ea typeface="Lato"/>
                        </a:rPr>
                        <a:t>Nom de l’opération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595a"/>
                    </a:solidFill>
                  </a:tcPr>
                </a:tc>
                <a:tc>
                  <a:txBody>
                    <a:bodyPr lIns="80280" rIns="80280" tIns="7056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595a"/>
                    </a:solidFill>
                  </a:tcPr>
                </a:tc>
              </a:tr>
              <a:tr h="273600">
                <a:tc>
                  <a:txBody>
                    <a:bodyPr lIns="80280" rIns="80280" tIns="6660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100" spc="-1" strike="noStrike">
                          <a:solidFill>
                            <a:srgbClr val="7f7f7f"/>
                          </a:solidFill>
                          <a:latin typeface="Lato"/>
                          <a:ea typeface="Lato"/>
                        </a:rPr>
                        <a:t>Architecte mandatair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0280" rIns="80280" tIns="7056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lIns="80280" rIns="80280" tIns="6660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100" spc="-1" strike="noStrike">
                          <a:solidFill>
                            <a:srgbClr val="7f7f7f"/>
                          </a:solidFill>
                          <a:latin typeface="Lato"/>
                          <a:ea typeface="Lato"/>
                        </a:rPr>
                        <a:t>Architecte associé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0280" rIns="80280" tIns="7056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200">
                <a:tc>
                  <a:txBody>
                    <a:bodyPr lIns="80280" rIns="80280" tIns="6660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100" spc="-1" strike="noStrike">
                          <a:solidFill>
                            <a:srgbClr val="7f7f7f"/>
                          </a:solidFill>
                          <a:latin typeface="Lato"/>
                          <a:ea typeface="Lato"/>
                        </a:rPr>
                        <a:t>Maitrise d’ouvrag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0280" rIns="80280" tIns="7056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000">
                <a:tc>
                  <a:txBody>
                    <a:bodyPr lIns="80280" rIns="80280" tIns="6660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100" spc="-1" strike="noStrike">
                          <a:solidFill>
                            <a:srgbClr val="7f7f7f"/>
                          </a:solidFill>
                          <a:latin typeface="Lato"/>
                          <a:ea typeface="Lato"/>
                        </a:rPr>
                        <a:t>Lieu d’exécutio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0280" rIns="80280" tIns="7056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200">
                <a:tc>
                  <a:txBody>
                    <a:bodyPr lIns="80280" rIns="80280" tIns="6660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100" spc="-1" strike="noStrike">
                          <a:solidFill>
                            <a:srgbClr val="7f7f7f"/>
                          </a:solidFill>
                          <a:latin typeface="Lato"/>
                          <a:ea typeface="Lato"/>
                        </a:rPr>
                        <a:t>Coûts des travaux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0280" rIns="80280" tIns="7056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000">
                <a:tc>
                  <a:txBody>
                    <a:bodyPr lIns="80280" rIns="80280" tIns="6660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100" spc="-1" strike="noStrike">
                          <a:solidFill>
                            <a:srgbClr val="7f7f7f"/>
                          </a:solidFill>
                          <a:latin typeface="Lato"/>
                          <a:ea typeface="Lato"/>
                        </a:rPr>
                        <a:t>Surface bâtiment (m²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0280" rIns="80280" tIns="7056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200">
                <a:tc>
                  <a:txBody>
                    <a:bodyPr lIns="80280" rIns="80280" tIns="6660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100" spc="-1" strike="noStrike">
                          <a:solidFill>
                            <a:srgbClr val="7f7f7f"/>
                          </a:solidFill>
                          <a:latin typeface="Lato"/>
                          <a:ea typeface="Lato"/>
                        </a:rPr>
                        <a:t>Surface extérieur (m²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0280" rIns="80280" tIns="7056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lIns="80280" rIns="80280" tIns="6660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100" spc="-1" strike="noStrike">
                          <a:solidFill>
                            <a:srgbClr val="7f7f7f"/>
                          </a:solidFill>
                          <a:latin typeface="Lato"/>
                          <a:ea typeface="Lato"/>
                        </a:rPr>
                        <a:t>Mission MO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0280" rIns="80280" tIns="7056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200">
                <a:tc>
                  <a:txBody>
                    <a:bodyPr lIns="80280" rIns="80280" tIns="6660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100" spc="-1" strike="noStrike">
                          <a:solidFill>
                            <a:srgbClr val="7f7f7f"/>
                          </a:solidFill>
                          <a:latin typeface="Lato"/>
                          <a:ea typeface="Lato"/>
                        </a:rPr>
                        <a:t>Date de livraison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0280" rIns="80280" tIns="7056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80280" rIns="80280" tIns="6660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100" spc="-1" strike="noStrike">
                          <a:solidFill>
                            <a:srgbClr val="7f7f7f"/>
                          </a:solidFill>
                          <a:latin typeface="Lato"/>
                          <a:ea typeface="Lato"/>
                        </a:rPr>
                        <a:t>Explication synthétique du projet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0280" rIns="80280" tIns="7056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6" name="Rectangle 60"/>
          <p:cNvSpPr/>
          <p:nvPr/>
        </p:nvSpPr>
        <p:spPr>
          <a:xfrm>
            <a:off x="5481720" y="1187280"/>
            <a:ext cx="4859280" cy="28800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Text Box 64"/>
          <p:cNvSpPr/>
          <p:nvPr/>
        </p:nvSpPr>
        <p:spPr>
          <a:xfrm>
            <a:off x="4689360" y="125280"/>
            <a:ext cx="61200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Lato"/>
                <a:ea typeface="Lato"/>
              </a:rPr>
              <a:t>Nom de l’équipe candidate / </a:t>
            </a:r>
            <a:br>
              <a:rPr sz="1400"/>
            </a:br>
            <a:r>
              <a:rPr b="1" lang="fr-FR" sz="1400" spc="-1" strike="noStrike">
                <a:solidFill>
                  <a:srgbClr val="000000"/>
                </a:solidFill>
                <a:latin typeface="Lato"/>
                <a:ea typeface="Lato"/>
              </a:rPr>
              <a:t>Références du mandatai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Text Box 62"/>
          <p:cNvSpPr/>
          <p:nvPr/>
        </p:nvSpPr>
        <p:spPr>
          <a:xfrm>
            <a:off x="6661080" y="2027160"/>
            <a:ext cx="2602080" cy="14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41040" bIns="41040" anchor="t">
            <a:spAutoFit/>
          </a:bodyPr>
          <a:p>
            <a:pPr algn="ctr"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929292"/>
                </a:solidFill>
                <a:latin typeface="Lato"/>
                <a:ea typeface="Lato"/>
              </a:rPr>
              <a:t>Image permettant d’apprécier l’architecture extérieure du bâtiment (photo, façade, etc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929292"/>
                </a:solidFill>
                <a:latin typeface="Lato"/>
                <a:ea typeface="Lato"/>
              </a:rPr>
              <a:t>NE PAS ÉCRI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ZoneTexte 1"/>
          <p:cNvSpPr/>
          <p:nvPr/>
        </p:nvSpPr>
        <p:spPr>
          <a:xfrm>
            <a:off x="5381640" y="932040"/>
            <a:ext cx="473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Lato"/>
                <a:ea typeface="Lato"/>
              </a:rPr>
              <a:t>L’écriture architecturale extérieure 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Rectangle 60"/>
          <p:cNvSpPr/>
          <p:nvPr/>
        </p:nvSpPr>
        <p:spPr>
          <a:xfrm>
            <a:off x="5489640" y="4540320"/>
            <a:ext cx="4860720" cy="287964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Text Box 62"/>
          <p:cNvSpPr/>
          <p:nvPr/>
        </p:nvSpPr>
        <p:spPr>
          <a:xfrm>
            <a:off x="6618240" y="5138640"/>
            <a:ext cx="2603520" cy="14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41040" bIns="41040" anchor="t">
            <a:spAutoFit/>
          </a:bodyPr>
          <a:p>
            <a:pPr algn="ctr"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929292"/>
                </a:solidFill>
                <a:latin typeface="Lato"/>
                <a:ea typeface="Lato"/>
              </a:rPr>
              <a:t>Image permettant d’apprécier l’architecture intérieure du bâtiment (photo, hall des bassins, etc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929292"/>
                </a:solidFill>
                <a:latin typeface="Lato"/>
                <a:ea typeface="Lato"/>
              </a:rPr>
              <a:t>NE PAS ÉCRI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ZoneTexte 4"/>
          <p:cNvSpPr/>
          <p:nvPr/>
        </p:nvSpPr>
        <p:spPr>
          <a:xfrm>
            <a:off x="5381640" y="4284720"/>
            <a:ext cx="473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Lato"/>
                <a:ea typeface="Lato"/>
              </a:rPr>
              <a:t>L’écriture architecturale intérieure 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Rectangle 60"/>
          <p:cNvSpPr/>
          <p:nvPr/>
        </p:nvSpPr>
        <p:spPr>
          <a:xfrm>
            <a:off x="299880" y="4540320"/>
            <a:ext cx="4861080" cy="287964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ZoneTexte 6"/>
          <p:cNvSpPr/>
          <p:nvPr/>
        </p:nvSpPr>
        <p:spPr>
          <a:xfrm>
            <a:off x="214200" y="4297320"/>
            <a:ext cx="473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Lato"/>
                <a:ea typeface="Lato"/>
              </a:rPr>
              <a:t>L’insertion dans le site 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Text Box 62"/>
          <p:cNvSpPr/>
          <p:nvPr/>
        </p:nvSpPr>
        <p:spPr>
          <a:xfrm>
            <a:off x="1330200" y="5359320"/>
            <a:ext cx="2603520" cy="188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41040" bIns="41040" anchor="t">
            <a:spAutoFit/>
          </a:bodyPr>
          <a:p>
            <a:pPr algn="ctr"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929292"/>
                </a:solidFill>
                <a:latin typeface="Lato"/>
                <a:ea typeface="Lato"/>
              </a:rPr>
              <a:t>Image permettant d’apprécier l’insertion du bâtiment dans son site (photo, plan masse paysager, image de synthèse, etc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929292"/>
                </a:solidFill>
                <a:latin typeface="Lato"/>
                <a:ea typeface="Lato"/>
              </a:rPr>
              <a:t>NE PAS ÉCRI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6" name="Image 15" descr=""/>
          <p:cNvPicPr/>
          <p:nvPr/>
        </p:nvPicPr>
        <p:blipFill>
          <a:blip r:embed="rId1"/>
          <a:stretch/>
        </p:blipFill>
        <p:spPr>
          <a:xfrm>
            <a:off x="9669600" y="139680"/>
            <a:ext cx="682560" cy="72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299880" y="237960"/>
            <a:ext cx="4897440" cy="50040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41040" bIns="41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Lato"/>
                <a:ea typeface="Lato"/>
              </a:rPr>
              <a:t>CADRE TYPE 2 : REFERENCE ILLUSTR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304920" y="835200"/>
          <a:ext cx="4897440" cy="3438360"/>
        </p:xfrm>
        <a:graphic>
          <a:graphicData uri="http://schemas.openxmlformats.org/drawingml/2006/table">
            <a:tbl>
              <a:tblPr/>
              <a:tblGrid>
                <a:gridCol w="1800000"/>
                <a:gridCol w="3097440"/>
              </a:tblGrid>
              <a:tr h="293400">
                <a:tc>
                  <a:txBody>
                    <a:bodyPr lIns="80280" rIns="80280" tIns="6660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Lato"/>
                          <a:ea typeface="Lato"/>
                        </a:rPr>
                        <a:t>Nom de l’opération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595a"/>
                    </a:solidFill>
                  </a:tcPr>
                </a:tc>
                <a:tc>
                  <a:txBody>
                    <a:bodyPr lIns="80280" rIns="80280" tIns="7056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595a"/>
                    </a:solidFill>
                  </a:tcPr>
                </a:tc>
              </a:tr>
              <a:tr h="273600">
                <a:tc>
                  <a:txBody>
                    <a:bodyPr lIns="80280" rIns="80280" tIns="6660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100" spc="-1" strike="noStrike">
                          <a:solidFill>
                            <a:srgbClr val="7f7f7f"/>
                          </a:solidFill>
                          <a:latin typeface="Lato"/>
                          <a:ea typeface="Lato"/>
                        </a:rPr>
                        <a:t>Architecte mandatair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0280" rIns="80280" tIns="7056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lIns="80280" rIns="80280" tIns="6660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100" spc="-1" strike="noStrike">
                          <a:solidFill>
                            <a:srgbClr val="7f7f7f"/>
                          </a:solidFill>
                          <a:latin typeface="Lato"/>
                          <a:ea typeface="Lato"/>
                        </a:rPr>
                        <a:t>Architecte associé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0280" rIns="80280" tIns="7056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200">
                <a:tc>
                  <a:txBody>
                    <a:bodyPr lIns="80280" rIns="80280" tIns="6660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100" spc="-1" strike="noStrike">
                          <a:solidFill>
                            <a:srgbClr val="7f7f7f"/>
                          </a:solidFill>
                          <a:latin typeface="Lato"/>
                          <a:ea typeface="Lato"/>
                        </a:rPr>
                        <a:t>Maitrise d’ouvrag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0280" rIns="80280" tIns="7056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000">
                <a:tc>
                  <a:txBody>
                    <a:bodyPr lIns="80280" rIns="80280" tIns="6660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100" spc="-1" strike="noStrike">
                          <a:solidFill>
                            <a:srgbClr val="7f7f7f"/>
                          </a:solidFill>
                          <a:latin typeface="Lato"/>
                          <a:ea typeface="Lato"/>
                        </a:rPr>
                        <a:t>Lieu d’exécutio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0280" rIns="80280" tIns="7056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200">
                <a:tc>
                  <a:txBody>
                    <a:bodyPr lIns="80280" rIns="80280" tIns="6660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100" spc="-1" strike="noStrike">
                          <a:solidFill>
                            <a:srgbClr val="7f7f7f"/>
                          </a:solidFill>
                          <a:latin typeface="Lato"/>
                          <a:ea typeface="Lato"/>
                        </a:rPr>
                        <a:t>Coûts des travaux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0280" rIns="80280" tIns="7056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000">
                <a:tc>
                  <a:txBody>
                    <a:bodyPr lIns="80280" rIns="80280" tIns="6660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100" spc="-1" strike="noStrike">
                          <a:solidFill>
                            <a:srgbClr val="7f7f7f"/>
                          </a:solidFill>
                          <a:latin typeface="Lato"/>
                          <a:ea typeface="Lato"/>
                        </a:rPr>
                        <a:t>Surface bâtiment (m²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0280" rIns="80280" tIns="7056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200">
                <a:tc>
                  <a:txBody>
                    <a:bodyPr lIns="80280" rIns="80280" tIns="6660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100" spc="-1" strike="noStrike">
                          <a:solidFill>
                            <a:srgbClr val="7f7f7f"/>
                          </a:solidFill>
                          <a:latin typeface="Lato"/>
                          <a:ea typeface="Lato"/>
                        </a:rPr>
                        <a:t>Surface extérieur (m²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0280" rIns="80280" tIns="7056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lIns="80280" rIns="80280" tIns="6660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100" spc="-1" strike="noStrike">
                          <a:solidFill>
                            <a:srgbClr val="7f7f7f"/>
                          </a:solidFill>
                          <a:latin typeface="Lato"/>
                          <a:ea typeface="Lato"/>
                        </a:rPr>
                        <a:t>Mission MO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0280" rIns="80280" tIns="7056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200">
                <a:tc>
                  <a:txBody>
                    <a:bodyPr lIns="80280" rIns="80280" tIns="6660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100" spc="-1" strike="noStrike">
                          <a:solidFill>
                            <a:srgbClr val="7f7f7f"/>
                          </a:solidFill>
                          <a:latin typeface="Lato"/>
                          <a:ea typeface="Lato"/>
                        </a:rPr>
                        <a:t>Date de livraison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0280" rIns="80280" tIns="7056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80280" rIns="80280" tIns="6660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100" spc="-1" strike="noStrike">
                          <a:solidFill>
                            <a:srgbClr val="7f7f7f"/>
                          </a:solidFill>
                          <a:latin typeface="Lato"/>
                          <a:ea typeface="Lato"/>
                        </a:rPr>
                        <a:t>Explication synthétique du projet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0280" rIns="80280" tIns="7056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9" name="Rectangle 60"/>
          <p:cNvSpPr/>
          <p:nvPr/>
        </p:nvSpPr>
        <p:spPr>
          <a:xfrm>
            <a:off x="5481720" y="1187280"/>
            <a:ext cx="4859280" cy="28800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 Box 64"/>
          <p:cNvSpPr/>
          <p:nvPr/>
        </p:nvSpPr>
        <p:spPr>
          <a:xfrm>
            <a:off x="4689360" y="125280"/>
            <a:ext cx="61200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Lato"/>
                <a:ea typeface="Lato"/>
              </a:rPr>
              <a:t>Nom de l’équipe candidate / </a:t>
            </a:r>
            <a:br>
              <a:rPr sz="1400"/>
            </a:br>
            <a:r>
              <a:rPr b="1" lang="fr-FR" sz="1400" spc="-1" strike="noStrike">
                <a:solidFill>
                  <a:srgbClr val="000000"/>
                </a:solidFill>
                <a:latin typeface="Lato"/>
                <a:ea typeface="Lato"/>
              </a:rPr>
              <a:t>Références du mandatai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Text Box 62"/>
          <p:cNvSpPr/>
          <p:nvPr/>
        </p:nvSpPr>
        <p:spPr>
          <a:xfrm>
            <a:off x="6661080" y="2027160"/>
            <a:ext cx="2602080" cy="14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41040" bIns="41040" anchor="t">
            <a:spAutoFit/>
          </a:bodyPr>
          <a:p>
            <a:pPr algn="ctr"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929292"/>
                </a:solidFill>
                <a:latin typeface="Lato"/>
                <a:ea typeface="Lato"/>
              </a:rPr>
              <a:t>Image permettant d’apprécier l’architecture extérieure du bâtiment (photo, façade, etc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929292"/>
                </a:solidFill>
                <a:latin typeface="Lato"/>
                <a:ea typeface="Lato"/>
              </a:rPr>
              <a:t>NE PAS ÉCRI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ZoneTexte 1"/>
          <p:cNvSpPr/>
          <p:nvPr/>
        </p:nvSpPr>
        <p:spPr>
          <a:xfrm>
            <a:off x="5381640" y="932040"/>
            <a:ext cx="473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Lato"/>
                <a:ea typeface="Lato"/>
              </a:rPr>
              <a:t>L’écriture architecturale extérieure 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Rectangle 60"/>
          <p:cNvSpPr/>
          <p:nvPr/>
        </p:nvSpPr>
        <p:spPr>
          <a:xfrm>
            <a:off x="5489640" y="4540320"/>
            <a:ext cx="4860720" cy="287964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Text Box 62"/>
          <p:cNvSpPr/>
          <p:nvPr/>
        </p:nvSpPr>
        <p:spPr>
          <a:xfrm>
            <a:off x="6618240" y="5138640"/>
            <a:ext cx="2603520" cy="14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41040" bIns="41040" anchor="t">
            <a:spAutoFit/>
          </a:bodyPr>
          <a:p>
            <a:pPr algn="ctr"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929292"/>
                </a:solidFill>
                <a:latin typeface="Lato"/>
                <a:ea typeface="Lato"/>
              </a:rPr>
              <a:t>Image permettant d’apprécier l’architecture intérieure du bâtiment (photo, hall des bassins, etc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929292"/>
                </a:solidFill>
                <a:latin typeface="Lato"/>
                <a:ea typeface="Lato"/>
              </a:rPr>
              <a:t>NE PAS ÉCRI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ZoneTexte 4"/>
          <p:cNvSpPr/>
          <p:nvPr/>
        </p:nvSpPr>
        <p:spPr>
          <a:xfrm>
            <a:off x="5381640" y="4284720"/>
            <a:ext cx="473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Lato"/>
                <a:ea typeface="Lato"/>
              </a:rPr>
              <a:t>L’écriture architecturale intérieure 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Rectangle 60"/>
          <p:cNvSpPr/>
          <p:nvPr/>
        </p:nvSpPr>
        <p:spPr>
          <a:xfrm>
            <a:off x="299880" y="4540320"/>
            <a:ext cx="4861080" cy="287964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ZoneTexte 6"/>
          <p:cNvSpPr/>
          <p:nvPr/>
        </p:nvSpPr>
        <p:spPr>
          <a:xfrm>
            <a:off x="214200" y="4297320"/>
            <a:ext cx="473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Lato"/>
                <a:ea typeface="Lato"/>
              </a:rPr>
              <a:t>L’insertion dans le site 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Text Box 62"/>
          <p:cNvSpPr/>
          <p:nvPr/>
        </p:nvSpPr>
        <p:spPr>
          <a:xfrm>
            <a:off x="1330200" y="5359320"/>
            <a:ext cx="2603520" cy="188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41040" bIns="41040" anchor="t">
            <a:spAutoFit/>
          </a:bodyPr>
          <a:p>
            <a:pPr algn="ctr"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929292"/>
                </a:solidFill>
                <a:latin typeface="Lato"/>
                <a:ea typeface="Lato"/>
              </a:rPr>
              <a:t>Image permettant d’apprécier l’insertion du bâtiment dans son site (photo, plan masse paysager, image de synthèse, etc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929292"/>
                </a:solidFill>
                <a:latin typeface="Lato"/>
                <a:ea typeface="Lato"/>
              </a:rPr>
              <a:t>NE PAS ÉCRI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9" name="Image 15" descr=""/>
          <p:cNvPicPr/>
          <p:nvPr/>
        </p:nvPicPr>
        <p:blipFill>
          <a:blip r:embed="rId1"/>
          <a:stretch/>
        </p:blipFill>
        <p:spPr>
          <a:xfrm>
            <a:off x="9669600" y="139680"/>
            <a:ext cx="682560" cy="72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Text Box 2"/>
          <p:cNvSpPr/>
          <p:nvPr/>
        </p:nvSpPr>
        <p:spPr>
          <a:xfrm>
            <a:off x="299880" y="237960"/>
            <a:ext cx="4897440" cy="50040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41040" bIns="41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Lato"/>
                <a:ea typeface="Lato"/>
              </a:rPr>
              <a:t>CADRE TYPE 2 : REFERENCE ILLUSTR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304920" y="835200"/>
          <a:ext cx="4897440" cy="3438360"/>
        </p:xfrm>
        <a:graphic>
          <a:graphicData uri="http://schemas.openxmlformats.org/drawingml/2006/table">
            <a:tbl>
              <a:tblPr/>
              <a:tblGrid>
                <a:gridCol w="1800000"/>
                <a:gridCol w="3097440"/>
              </a:tblGrid>
              <a:tr h="293400">
                <a:tc>
                  <a:txBody>
                    <a:bodyPr lIns="80280" rIns="80280" tIns="6660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Lato"/>
                          <a:ea typeface="Lato"/>
                        </a:rPr>
                        <a:t>Nom de l’opération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595a"/>
                    </a:solidFill>
                  </a:tcPr>
                </a:tc>
                <a:tc>
                  <a:txBody>
                    <a:bodyPr lIns="80280" rIns="80280" tIns="7056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595a"/>
                    </a:solidFill>
                  </a:tcPr>
                </a:tc>
              </a:tr>
              <a:tr h="273600">
                <a:tc>
                  <a:txBody>
                    <a:bodyPr lIns="80280" rIns="80280" tIns="6660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100" spc="-1" strike="noStrike">
                          <a:solidFill>
                            <a:srgbClr val="7f7f7f"/>
                          </a:solidFill>
                          <a:latin typeface="Lato"/>
                          <a:ea typeface="Lato"/>
                        </a:rPr>
                        <a:t>Architecte mandatair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0280" rIns="80280" tIns="7056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lIns="80280" rIns="80280" tIns="6660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100" spc="-1" strike="noStrike">
                          <a:solidFill>
                            <a:srgbClr val="7f7f7f"/>
                          </a:solidFill>
                          <a:latin typeface="Lato"/>
                          <a:ea typeface="Lato"/>
                        </a:rPr>
                        <a:t>Architecte associé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0280" rIns="80280" tIns="7056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200">
                <a:tc>
                  <a:txBody>
                    <a:bodyPr lIns="80280" rIns="80280" tIns="6660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100" spc="-1" strike="noStrike">
                          <a:solidFill>
                            <a:srgbClr val="7f7f7f"/>
                          </a:solidFill>
                          <a:latin typeface="Lato"/>
                          <a:ea typeface="Lato"/>
                        </a:rPr>
                        <a:t>Maitrise d’ouvrag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0280" rIns="80280" tIns="7056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000">
                <a:tc>
                  <a:txBody>
                    <a:bodyPr lIns="80280" rIns="80280" tIns="6660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100" spc="-1" strike="noStrike">
                          <a:solidFill>
                            <a:srgbClr val="7f7f7f"/>
                          </a:solidFill>
                          <a:latin typeface="Lato"/>
                          <a:ea typeface="Lato"/>
                        </a:rPr>
                        <a:t>Lieu d’exécutio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0280" rIns="80280" tIns="7056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200">
                <a:tc>
                  <a:txBody>
                    <a:bodyPr lIns="80280" rIns="80280" tIns="6660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100" spc="-1" strike="noStrike">
                          <a:solidFill>
                            <a:srgbClr val="7f7f7f"/>
                          </a:solidFill>
                          <a:latin typeface="Lato"/>
                          <a:ea typeface="Lato"/>
                        </a:rPr>
                        <a:t>Coûts des travaux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0280" rIns="80280" tIns="7056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000">
                <a:tc>
                  <a:txBody>
                    <a:bodyPr lIns="80280" rIns="80280" tIns="6660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100" spc="-1" strike="noStrike">
                          <a:solidFill>
                            <a:srgbClr val="7f7f7f"/>
                          </a:solidFill>
                          <a:latin typeface="Lato"/>
                          <a:ea typeface="Lato"/>
                        </a:rPr>
                        <a:t>Surface bâtiment (m²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0280" rIns="80280" tIns="7056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200">
                <a:tc>
                  <a:txBody>
                    <a:bodyPr lIns="80280" rIns="80280" tIns="6660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100" spc="-1" strike="noStrike">
                          <a:solidFill>
                            <a:srgbClr val="7f7f7f"/>
                          </a:solidFill>
                          <a:latin typeface="Lato"/>
                          <a:ea typeface="Lato"/>
                        </a:rPr>
                        <a:t>Surface extérieur (m²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0280" rIns="80280" tIns="7056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lIns="80280" rIns="80280" tIns="6660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100" spc="-1" strike="noStrike">
                          <a:solidFill>
                            <a:srgbClr val="7f7f7f"/>
                          </a:solidFill>
                          <a:latin typeface="Lato"/>
                          <a:ea typeface="Lato"/>
                        </a:rPr>
                        <a:t>Mission MO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0280" rIns="80280" tIns="7056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200">
                <a:tc>
                  <a:txBody>
                    <a:bodyPr lIns="80280" rIns="80280" tIns="6660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100" spc="-1" strike="noStrike">
                          <a:solidFill>
                            <a:srgbClr val="7f7f7f"/>
                          </a:solidFill>
                          <a:latin typeface="Lato"/>
                          <a:ea typeface="Lato"/>
                        </a:rPr>
                        <a:t>Date de livraison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0280" rIns="80280" tIns="7056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80280" rIns="80280" tIns="6660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100" spc="-1" strike="noStrike">
                          <a:solidFill>
                            <a:srgbClr val="7f7f7f"/>
                          </a:solidFill>
                          <a:latin typeface="Lato"/>
                          <a:ea typeface="Lato"/>
                        </a:rPr>
                        <a:t>Explication synthétique du projet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0280" rIns="80280" tIns="7056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2" name="Rectangle 60"/>
          <p:cNvSpPr/>
          <p:nvPr/>
        </p:nvSpPr>
        <p:spPr>
          <a:xfrm>
            <a:off x="5481720" y="1187280"/>
            <a:ext cx="4859280" cy="28800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Text Box 64"/>
          <p:cNvSpPr/>
          <p:nvPr/>
        </p:nvSpPr>
        <p:spPr>
          <a:xfrm>
            <a:off x="4689360" y="125280"/>
            <a:ext cx="61200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Lato"/>
                <a:ea typeface="Lato"/>
              </a:rPr>
              <a:t>Nom de l’équipe candidate / </a:t>
            </a:r>
            <a:br>
              <a:rPr sz="1400"/>
            </a:br>
            <a:r>
              <a:rPr b="1" lang="fr-FR" sz="1400" spc="-1" strike="noStrike">
                <a:solidFill>
                  <a:srgbClr val="000000"/>
                </a:solidFill>
                <a:latin typeface="Lato"/>
                <a:ea typeface="Lato"/>
              </a:rPr>
              <a:t>Références de l’architecte associé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 Box 62"/>
          <p:cNvSpPr/>
          <p:nvPr/>
        </p:nvSpPr>
        <p:spPr>
          <a:xfrm>
            <a:off x="6661080" y="2027160"/>
            <a:ext cx="2602080" cy="14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41040" bIns="41040" anchor="t">
            <a:spAutoFit/>
          </a:bodyPr>
          <a:p>
            <a:pPr algn="ctr"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929292"/>
                </a:solidFill>
                <a:latin typeface="Lato"/>
                <a:ea typeface="Lato"/>
              </a:rPr>
              <a:t>Image permettant d’apprécier l’architecture extérieure du bâtiment (photo, façade, etc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929292"/>
                </a:solidFill>
                <a:latin typeface="Lato"/>
                <a:ea typeface="Lato"/>
              </a:rPr>
              <a:t>NE PAS ÉCRI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ZoneTexte 1"/>
          <p:cNvSpPr/>
          <p:nvPr/>
        </p:nvSpPr>
        <p:spPr>
          <a:xfrm>
            <a:off x="5381640" y="932040"/>
            <a:ext cx="473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Lato"/>
                <a:ea typeface="Lato"/>
              </a:rPr>
              <a:t>L’écriture architecturale extérieure 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Rectangle 60"/>
          <p:cNvSpPr/>
          <p:nvPr/>
        </p:nvSpPr>
        <p:spPr>
          <a:xfrm>
            <a:off x="5489640" y="4540320"/>
            <a:ext cx="4860720" cy="287964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Text Box 62"/>
          <p:cNvSpPr/>
          <p:nvPr/>
        </p:nvSpPr>
        <p:spPr>
          <a:xfrm>
            <a:off x="6618240" y="5138640"/>
            <a:ext cx="2603520" cy="14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41040" bIns="41040" anchor="t">
            <a:spAutoFit/>
          </a:bodyPr>
          <a:p>
            <a:pPr algn="ctr"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929292"/>
                </a:solidFill>
                <a:latin typeface="Lato"/>
                <a:ea typeface="Lato"/>
              </a:rPr>
              <a:t>Image permettant d’apprécier l’architecture intérieure du bâtiment (photo, hall des bassins, etc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929292"/>
                </a:solidFill>
                <a:latin typeface="Lato"/>
                <a:ea typeface="Lato"/>
              </a:rPr>
              <a:t>NE PAS ÉCRI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ZoneTexte 4"/>
          <p:cNvSpPr/>
          <p:nvPr/>
        </p:nvSpPr>
        <p:spPr>
          <a:xfrm>
            <a:off x="5381640" y="4284720"/>
            <a:ext cx="473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Lato"/>
                <a:ea typeface="Lato"/>
              </a:rPr>
              <a:t>L’écriture architecturale intérieure 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Rectangle 60"/>
          <p:cNvSpPr/>
          <p:nvPr/>
        </p:nvSpPr>
        <p:spPr>
          <a:xfrm>
            <a:off x="299880" y="4540320"/>
            <a:ext cx="4861080" cy="287964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ZoneTexte 6"/>
          <p:cNvSpPr/>
          <p:nvPr/>
        </p:nvSpPr>
        <p:spPr>
          <a:xfrm>
            <a:off x="214200" y="4297320"/>
            <a:ext cx="473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Lato"/>
                <a:ea typeface="Lato"/>
              </a:rPr>
              <a:t>L’insertion dans le site 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Text Box 62"/>
          <p:cNvSpPr/>
          <p:nvPr/>
        </p:nvSpPr>
        <p:spPr>
          <a:xfrm>
            <a:off x="1330200" y="5359320"/>
            <a:ext cx="2603520" cy="188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41040" bIns="41040" anchor="t">
            <a:spAutoFit/>
          </a:bodyPr>
          <a:p>
            <a:pPr algn="ctr"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929292"/>
                </a:solidFill>
                <a:latin typeface="Lato"/>
                <a:ea typeface="Lato"/>
              </a:rPr>
              <a:t>Image permettant d’apprécier l’insertion du bâtiment dans son site (photo, plan masse paysager, image de synthèse, etc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929292"/>
                </a:solidFill>
                <a:latin typeface="Lato"/>
                <a:ea typeface="Lato"/>
              </a:rPr>
              <a:t>NE PAS ÉCRI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2" name="Image 14" descr=""/>
          <p:cNvPicPr/>
          <p:nvPr/>
        </p:nvPicPr>
        <p:blipFill>
          <a:blip r:embed="rId1"/>
          <a:stretch/>
        </p:blipFill>
        <p:spPr>
          <a:xfrm>
            <a:off x="9669600" y="139680"/>
            <a:ext cx="682560" cy="72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Text Box 2"/>
          <p:cNvSpPr/>
          <p:nvPr/>
        </p:nvSpPr>
        <p:spPr>
          <a:xfrm>
            <a:off x="299880" y="237960"/>
            <a:ext cx="4897440" cy="50040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41040" bIns="41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Lato"/>
                <a:ea typeface="Lato"/>
              </a:rPr>
              <a:t>CADRE TYPE 2 : REFERENCE ILLUSTR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94" name=""/>
          <p:cNvGraphicFramePr/>
          <p:nvPr/>
        </p:nvGraphicFramePr>
        <p:xfrm>
          <a:off x="304920" y="835200"/>
          <a:ext cx="4897440" cy="3243240"/>
        </p:xfrm>
        <a:graphic>
          <a:graphicData uri="http://schemas.openxmlformats.org/drawingml/2006/table">
            <a:tbl>
              <a:tblPr/>
              <a:tblGrid>
                <a:gridCol w="1800000"/>
                <a:gridCol w="3097440"/>
              </a:tblGrid>
              <a:tr h="293400">
                <a:tc>
                  <a:txBody>
                    <a:bodyPr lIns="80280" rIns="80280" tIns="6660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Lato"/>
                          <a:ea typeface="Lato"/>
                        </a:rPr>
                        <a:t>Nom de l’opération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595a"/>
                    </a:solidFill>
                  </a:tcPr>
                </a:tc>
                <a:tc>
                  <a:txBody>
                    <a:bodyPr lIns="80280" rIns="80280" tIns="7056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595a"/>
                    </a:solidFill>
                  </a:tcPr>
                </a:tc>
              </a:tr>
              <a:tr h="271800">
                <a:tc>
                  <a:txBody>
                    <a:bodyPr lIns="80280" rIns="80280" tIns="6660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100" spc="-1" strike="noStrike">
                          <a:solidFill>
                            <a:srgbClr val="7f7f7f"/>
                          </a:solidFill>
                          <a:latin typeface="Lato"/>
                          <a:ea typeface="Lato"/>
                        </a:rPr>
                        <a:t>Architecte mandatair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0280" rIns="80280" tIns="7056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80280" rIns="80280" tIns="6660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100" spc="-1" strike="noStrike">
                          <a:solidFill>
                            <a:srgbClr val="7f7f7f"/>
                          </a:solidFill>
                          <a:latin typeface="Lato"/>
                          <a:ea typeface="Lato"/>
                        </a:rPr>
                        <a:t>Architecte associé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0280" rIns="80280" tIns="7056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80280" rIns="80280" tIns="6660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100" spc="-1" strike="noStrike">
                          <a:solidFill>
                            <a:srgbClr val="7f7f7f"/>
                          </a:solidFill>
                          <a:latin typeface="Lato"/>
                          <a:ea typeface="Lato"/>
                        </a:rPr>
                        <a:t>Maitrise d’ouvrag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0280" rIns="80280" tIns="7056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80280" rIns="80280" tIns="6660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100" spc="-1" strike="noStrike">
                          <a:solidFill>
                            <a:srgbClr val="7f7f7f"/>
                          </a:solidFill>
                          <a:latin typeface="Lato"/>
                          <a:ea typeface="Lato"/>
                        </a:rPr>
                        <a:t>Lieu d’exécutio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0280" rIns="80280" tIns="7056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200">
                <a:tc>
                  <a:txBody>
                    <a:bodyPr lIns="80280" rIns="80280" tIns="6660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100" spc="-1" strike="noStrike">
                          <a:solidFill>
                            <a:srgbClr val="7f7f7f"/>
                          </a:solidFill>
                          <a:latin typeface="Lato"/>
                          <a:ea typeface="Lato"/>
                        </a:rPr>
                        <a:t>Coûts des travaux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0280" rIns="80280" tIns="7056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80280" rIns="80280" tIns="6660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100" spc="-1" strike="noStrike">
                          <a:solidFill>
                            <a:srgbClr val="7f7f7f"/>
                          </a:solidFill>
                          <a:latin typeface="Lato"/>
                          <a:ea typeface="Lato"/>
                        </a:rPr>
                        <a:t>Surface bâtiment (m²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0280" rIns="80280" tIns="7056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200">
                <a:tc>
                  <a:txBody>
                    <a:bodyPr lIns="80280" rIns="80280" tIns="6660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100" spc="-1" strike="noStrike">
                          <a:solidFill>
                            <a:srgbClr val="7f7f7f"/>
                          </a:solidFill>
                          <a:latin typeface="Lato"/>
                          <a:ea typeface="Lato"/>
                        </a:rPr>
                        <a:t>Surface extérieur (m²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0280" rIns="80280" tIns="7056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80280" rIns="80280" tIns="6660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100" spc="-1" strike="noStrike">
                          <a:solidFill>
                            <a:srgbClr val="7f7f7f"/>
                          </a:solidFill>
                          <a:latin typeface="Lato"/>
                          <a:ea typeface="Lato"/>
                        </a:rPr>
                        <a:t>Mission MO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0280" rIns="80280" tIns="7056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80280" rIns="80280" tIns="6660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100" spc="-1" strike="noStrike">
                          <a:solidFill>
                            <a:srgbClr val="7f7f7f"/>
                          </a:solidFill>
                          <a:latin typeface="Lato"/>
                          <a:ea typeface="Lato"/>
                        </a:rPr>
                        <a:t>Date de livraison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0280" rIns="80280" tIns="7056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80280" rIns="80280" tIns="6660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100" spc="-1" strike="noStrike">
                          <a:solidFill>
                            <a:srgbClr val="7f7f7f"/>
                          </a:solidFill>
                          <a:latin typeface="Lato"/>
                          <a:ea typeface="Lato"/>
                        </a:rPr>
                        <a:t>Explication synthétique du projet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0280" rIns="80280" tIns="7056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5" name="Rectangle 60"/>
          <p:cNvSpPr/>
          <p:nvPr/>
        </p:nvSpPr>
        <p:spPr>
          <a:xfrm>
            <a:off x="5481720" y="1187280"/>
            <a:ext cx="4859280" cy="28800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Text Box 64"/>
          <p:cNvSpPr/>
          <p:nvPr/>
        </p:nvSpPr>
        <p:spPr>
          <a:xfrm>
            <a:off x="4689360" y="125280"/>
            <a:ext cx="61200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Lato"/>
                <a:ea typeface="Lato"/>
              </a:rPr>
              <a:t>Nom de l’équipe candidate / </a:t>
            </a:r>
            <a:br>
              <a:rPr sz="1400"/>
            </a:br>
            <a:r>
              <a:rPr b="1" lang="fr-FR" sz="1400" spc="-1" strike="noStrike">
                <a:solidFill>
                  <a:srgbClr val="000000"/>
                </a:solidFill>
                <a:latin typeface="Lato"/>
                <a:ea typeface="Lato"/>
              </a:rPr>
              <a:t>Références de l’architecte associé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Text Box 62"/>
          <p:cNvSpPr/>
          <p:nvPr/>
        </p:nvSpPr>
        <p:spPr>
          <a:xfrm>
            <a:off x="6661080" y="2027160"/>
            <a:ext cx="2602080" cy="14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41040" bIns="41040" anchor="t">
            <a:spAutoFit/>
          </a:bodyPr>
          <a:p>
            <a:pPr algn="ctr"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929292"/>
                </a:solidFill>
                <a:latin typeface="Lato"/>
                <a:ea typeface="Lato"/>
              </a:rPr>
              <a:t>Image permettant d’apprécier l’architecture extérieure du bâtiment (photo, façade, etc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929292"/>
                </a:solidFill>
                <a:latin typeface="Lato"/>
                <a:ea typeface="Lato"/>
              </a:rPr>
              <a:t>NE PAS ÉCRI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ZoneTexte 1"/>
          <p:cNvSpPr/>
          <p:nvPr/>
        </p:nvSpPr>
        <p:spPr>
          <a:xfrm>
            <a:off x="5381640" y="932040"/>
            <a:ext cx="473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Lato"/>
                <a:ea typeface="Lato"/>
              </a:rPr>
              <a:t>L’écriture architecturale extérieure 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Rectangle 60"/>
          <p:cNvSpPr/>
          <p:nvPr/>
        </p:nvSpPr>
        <p:spPr>
          <a:xfrm>
            <a:off x="5489640" y="4408560"/>
            <a:ext cx="4860720" cy="287964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Text Box 62"/>
          <p:cNvSpPr/>
          <p:nvPr/>
        </p:nvSpPr>
        <p:spPr>
          <a:xfrm>
            <a:off x="6618240" y="5138640"/>
            <a:ext cx="2603520" cy="14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41040" bIns="41040" anchor="t">
            <a:spAutoFit/>
          </a:bodyPr>
          <a:p>
            <a:pPr algn="ctr"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929292"/>
                </a:solidFill>
                <a:latin typeface="Lato"/>
                <a:ea typeface="Lato"/>
              </a:rPr>
              <a:t>Image permettant d’apprécier l’architecture intérieure du bâtiment (photo, hall des bassins, etc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929292"/>
                </a:solidFill>
                <a:latin typeface="Lato"/>
                <a:ea typeface="Lato"/>
              </a:rPr>
              <a:t>NE PAS ÉCRI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ZoneTexte 4"/>
          <p:cNvSpPr/>
          <p:nvPr/>
        </p:nvSpPr>
        <p:spPr>
          <a:xfrm>
            <a:off x="5381640" y="4152960"/>
            <a:ext cx="473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Lato"/>
                <a:ea typeface="Lato"/>
              </a:rPr>
              <a:t>L’écriture architecturale intérieure 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Rectangle 60"/>
          <p:cNvSpPr/>
          <p:nvPr/>
        </p:nvSpPr>
        <p:spPr>
          <a:xfrm>
            <a:off x="299880" y="4408560"/>
            <a:ext cx="4861080" cy="287964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ZoneTexte 6"/>
          <p:cNvSpPr/>
          <p:nvPr/>
        </p:nvSpPr>
        <p:spPr>
          <a:xfrm>
            <a:off x="214200" y="4165560"/>
            <a:ext cx="473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Lato"/>
                <a:ea typeface="Lato"/>
              </a:rPr>
              <a:t>L’insertion dans le site 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Text Box 62"/>
          <p:cNvSpPr/>
          <p:nvPr/>
        </p:nvSpPr>
        <p:spPr>
          <a:xfrm>
            <a:off x="1330200" y="5227560"/>
            <a:ext cx="2603520" cy="188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41040" bIns="41040" anchor="t">
            <a:spAutoFit/>
          </a:bodyPr>
          <a:p>
            <a:pPr algn="ctr"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929292"/>
                </a:solidFill>
                <a:latin typeface="Lato"/>
                <a:ea typeface="Lato"/>
              </a:rPr>
              <a:t>Image permettant d’apprécier l’insertion du bâtiment dans son site (photo, plan masse paysager, image de synthèse, etc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929292"/>
                </a:solidFill>
                <a:latin typeface="Lato"/>
                <a:ea typeface="Lato"/>
              </a:rPr>
              <a:t>NE PAS ÉCRI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5" name="Image 14" descr=""/>
          <p:cNvPicPr/>
          <p:nvPr/>
        </p:nvPicPr>
        <p:blipFill>
          <a:blip r:embed="rId1"/>
          <a:stretch/>
        </p:blipFill>
        <p:spPr>
          <a:xfrm>
            <a:off x="9669600" y="139680"/>
            <a:ext cx="682560" cy="72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 Box 2"/>
          <p:cNvSpPr/>
          <p:nvPr/>
        </p:nvSpPr>
        <p:spPr>
          <a:xfrm>
            <a:off x="299880" y="237960"/>
            <a:ext cx="4897440" cy="50040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41040" bIns="41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Lato"/>
                <a:ea typeface="Lato"/>
              </a:rPr>
              <a:t>CADRE TYPE 2 : REFERENCE ILLUSTR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304920" y="835200"/>
          <a:ext cx="4897440" cy="3243240"/>
        </p:xfrm>
        <a:graphic>
          <a:graphicData uri="http://schemas.openxmlformats.org/drawingml/2006/table">
            <a:tbl>
              <a:tblPr/>
              <a:tblGrid>
                <a:gridCol w="1800000"/>
                <a:gridCol w="3097440"/>
              </a:tblGrid>
              <a:tr h="293400">
                <a:tc>
                  <a:txBody>
                    <a:bodyPr lIns="80280" rIns="80280" tIns="6660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Lato"/>
                          <a:ea typeface="Lato"/>
                        </a:rPr>
                        <a:t>Nom de l’opération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595a"/>
                    </a:solidFill>
                  </a:tcPr>
                </a:tc>
                <a:tc>
                  <a:txBody>
                    <a:bodyPr lIns="80280" rIns="80280" tIns="7056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595a"/>
                    </a:solidFill>
                  </a:tcPr>
                </a:tc>
              </a:tr>
              <a:tr h="271800">
                <a:tc>
                  <a:txBody>
                    <a:bodyPr lIns="80280" rIns="80280" tIns="6660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100" spc="-1" strike="noStrike">
                          <a:solidFill>
                            <a:srgbClr val="7f7f7f"/>
                          </a:solidFill>
                          <a:latin typeface="Lato"/>
                          <a:ea typeface="Lato"/>
                        </a:rPr>
                        <a:t>Architecte mandatair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0280" rIns="80280" tIns="7056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80280" rIns="80280" tIns="6660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100" spc="-1" strike="noStrike">
                          <a:solidFill>
                            <a:srgbClr val="7f7f7f"/>
                          </a:solidFill>
                          <a:latin typeface="Lato"/>
                          <a:ea typeface="Lato"/>
                        </a:rPr>
                        <a:t>Architecte associé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0280" rIns="80280" tIns="7056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80280" rIns="80280" tIns="6660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100" spc="-1" strike="noStrike">
                          <a:solidFill>
                            <a:srgbClr val="7f7f7f"/>
                          </a:solidFill>
                          <a:latin typeface="Lato"/>
                          <a:ea typeface="Lato"/>
                        </a:rPr>
                        <a:t>Maitrise d’ouvrag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0280" rIns="80280" tIns="7056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80280" rIns="80280" tIns="6660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100" spc="-1" strike="noStrike">
                          <a:solidFill>
                            <a:srgbClr val="7f7f7f"/>
                          </a:solidFill>
                          <a:latin typeface="Lato"/>
                          <a:ea typeface="Lato"/>
                        </a:rPr>
                        <a:t>Lieu d’exécutio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0280" rIns="80280" tIns="7056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200">
                <a:tc>
                  <a:txBody>
                    <a:bodyPr lIns="80280" rIns="80280" tIns="6660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100" spc="-1" strike="noStrike">
                          <a:solidFill>
                            <a:srgbClr val="7f7f7f"/>
                          </a:solidFill>
                          <a:latin typeface="Lato"/>
                          <a:ea typeface="Lato"/>
                        </a:rPr>
                        <a:t>Coûts des travaux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0280" rIns="80280" tIns="7056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80280" rIns="80280" tIns="6660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100" spc="-1" strike="noStrike">
                          <a:solidFill>
                            <a:srgbClr val="7f7f7f"/>
                          </a:solidFill>
                          <a:latin typeface="Lato"/>
                          <a:ea typeface="Lato"/>
                        </a:rPr>
                        <a:t>Surface bâtiment (m²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0280" rIns="80280" tIns="7056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200">
                <a:tc>
                  <a:txBody>
                    <a:bodyPr lIns="80280" rIns="80280" tIns="6660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100" spc="-1" strike="noStrike">
                          <a:solidFill>
                            <a:srgbClr val="7f7f7f"/>
                          </a:solidFill>
                          <a:latin typeface="Lato"/>
                          <a:ea typeface="Lato"/>
                        </a:rPr>
                        <a:t>Surface extérieur (m²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0280" rIns="80280" tIns="7056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80280" rIns="80280" tIns="6660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100" spc="-1" strike="noStrike">
                          <a:solidFill>
                            <a:srgbClr val="7f7f7f"/>
                          </a:solidFill>
                          <a:latin typeface="Lato"/>
                          <a:ea typeface="Lato"/>
                        </a:rPr>
                        <a:t>Mission MO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0280" rIns="80280" tIns="7056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80280" rIns="80280" tIns="6660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100" spc="-1" strike="noStrike">
                          <a:solidFill>
                            <a:srgbClr val="7f7f7f"/>
                          </a:solidFill>
                          <a:latin typeface="Lato"/>
                          <a:ea typeface="Lato"/>
                        </a:rPr>
                        <a:t>Date de livraison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0280" rIns="80280" tIns="7056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80280" rIns="80280" tIns="6660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100" spc="-1" strike="noStrike">
                          <a:solidFill>
                            <a:srgbClr val="7f7f7f"/>
                          </a:solidFill>
                          <a:latin typeface="Lato"/>
                          <a:ea typeface="Lato"/>
                        </a:rPr>
                        <a:t>Explication synthétique du projet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0280" rIns="80280" tIns="70560" bIns="39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8" name="Rectangle 60"/>
          <p:cNvSpPr/>
          <p:nvPr/>
        </p:nvSpPr>
        <p:spPr>
          <a:xfrm>
            <a:off x="5481720" y="1187280"/>
            <a:ext cx="4859280" cy="28800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Text Box 64"/>
          <p:cNvSpPr/>
          <p:nvPr/>
        </p:nvSpPr>
        <p:spPr>
          <a:xfrm>
            <a:off x="4689360" y="125280"/>
            <a:ext cx="61200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Lato"/>
                <a:ea typeface="Lato"/>
              </a:rPr>
              <a:t>Nom de l’équipe candidate / </a:t>
            </a:r>
            <a:br>
              <a:rPr sz="1400"/>
            </a:br>
            <a:r>
              <a:rPr b="1" lang="fr-FR" sz="1400" spc="-1" strike="noStrike">
                <a:solidFill>
                  <a:srgbClr val="000000"/>
                </a:solidFill>
                <a:latin typeface="Lato"/>
                <a:ea typeface="Lato"/>
              </a:rPr>
              <a:t>Références de l’architecte associé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Text Box 62"/>
          <p:cNvSpPr/>
          <p:nvPr/>
        </p:nvSpPr>
        <p:spPr>
          <a:xfrm>
            <a:off x="6661080" y="2027160"/>
            <a:ext cx="2602080" cy="14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41040" bIns="41040" anchor="t">
            <a:spAutoFit/>
          </a:bodyPr>
          <a:p>
            <a:pPr algn="ctr"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929292"/>
                </a:solidFill>
                <a:latin typeface="Lato"/>
                <a:ea typeface="Lato"/>
              </a:rPr>
              <a:t>Image permettant d’apprécier l’architecture extérieure du bâtiment (photo, façade, etc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929292"/>
                </a:solidFill>
                <a:latin typeface="Lato"/>
                <a:ea typeface="Lato"/>
              </a:rPr>
              <a:t>NE PAS ÉCRI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ZoneTexte 1"/>
          <p:cNvSpPr/>
          <p:nvPr/>
        </p:nvSpPr>
        <p:spPr>
          <a:xfrm>
            <a:off x="5381640" y="932040"/>
            <a:ext cx="473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Lato"/>
                <a:ea typeface="Lato"/>
              </a:rPr>
              <a:t>L’écriture architecturale extérieure 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Rectangle 60"/>
          <p:cNvSpPr/>
          <p:nvPr/>
        </p:nvSpPr>
        <p:spPr>
          <a:xfrm>
            <a:off x="5489640" y="4408560"/>
            <a:ext cx="4860720" cy="287964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Text Box 62"/>
          <p:cNvSpPr/>
          <p:nvPr/>
        </p:nvSpPr>
        <p:spPr>
          <a:xfrm>
            <a:off x="6618240" y="5138640"/>
            <a:ext cx="2603520" cy="14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41040" bIns="41040" anchor="t">
            <a:spAutoFit/>
          </a:bodyPr>
          <a:p>
            <a:pPr algn="ctr"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929292"/>
                </a:solidFill>
                <a:latin typeface="Lato"/>
                <a:ea typeface="Lato"/>
              </a:rPr>
              <a:t>Image permettant d’apprécier l’architecture intérieure du bâtiment (photo, hall des bassins, etc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929292"/>
                </a:solidFill>
                <a:latin typeface="Lato"/>
                <a:ea typeface="Lato"/>
              </a:rPr>
              <a:t>NE PAS ÉCRI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ZoneTexte 4"/>
          <p:cNvSpPr/>
          <p:nvPr/>
        </p:nvSpPr>
        <p:spPr>
          <a:xfrm>
            <a:off x="5381640" y="4152960"/>
            <a:ext cx="473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Lato"/>
                <a:ea typeface="Lato"/>
              </a:rPr>
              <a:t>L’écriture architecturale intérieure 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Rectangle 60"/>
          <p:cNvSpPr/>
          <p:nvPr/>
        </p:nvSpPr>
        <p:spPr>
          <a:xfrm>
            <a:off x="299880" y="4408560"/>
            <a:ext cx="4861080" cy="287964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ZoneTexte 6"/>
          <p:cNvSpPr/>
          <p:nvPr/>
        </p:nvSpPr>
        <p:spPr>
          <a:xfrm>
            <a:off x="214200" y="4165560"/>
            <a:ext cx="473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Lato"/>
                <a:ea typeface="Lato"/>
              </a:rPr>
              <a:t>L’insertion dans le site 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Text Box 62"/>
          <p:cNvSpPr/>
          <p:nvPr/>
        </p:nvSpPr>
        <p:spPr>
          <a:xfrm>
            <a:off x="1330200" y="5227560"/>
            <a:ext cx="2603520" cy="188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41040" bIns="41040" anchor="t">
            <a:spAutoFit/>
          </a:bodyPr>
          <a:p>
            <a:pPr algn="ctr"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929292"/>
                </a:solidFill>
                <a:latin typeface="Lato"/>
                <a:ea typeface="Lato"/>
              </a:rPr>
              <a:t>Image permettant d’apprécier l’insertion du bâtiment dans son site (photo, plan masse paysager, image de synthèse, etc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929292"/>
                </a:solidFill>
                <a:latin typeface="Lato"/>
                <a:ea typeface="Lato"/>
              </a:rPr>
              <a:t>NE PAS ÉCRI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8" name="Image 14" descr=""/>
          <p:cNvPicPr/>
          <p:nvPr/>
        </p:nvPicPr>
        <p:blipFill>
          <a:blip r:embed="rId1"/>
          <a:stretch/>
        </p:blipFill>
        <p:spPr>
          <a:xfrm>
            <a:off x="9669600" y="139680"/>
            <a:ext cx="682560" cy="728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6-25T12:05:26Z</dcterms:created>
  <dc:creator>CONSTAN ANTHONY</dc:creator>
  <dc:description/>
  <dc:language>en-US</dc:language>
  <cp:lastModifiedBy>DI COSTANZO tomohiko ADJ</cp:lastModifiedBy>
  <cp:lastPrinted>2023-03-27T05:06:32Z</cp:lastPrinted>
  <dcterms:modified xsi:type="dcterms:W3CDTF">2025-02-04T10:26:45Z</dcterms:modified>
  <cp:revision>22</cp:revision>
  <dc:subject/>
  <dc:title>Nom du candidat ou de l’équipe candidate</dc:title>
</cp:coreProperties>
</file>