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86800" cy="100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84400" cy="5014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903840" y="-360"/>
            <a:ext cx="2984400" cy="5014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6480" rIns="9648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9080" y="4759200"/>
            <a:ext cx="5050080" cy="45100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0" y="9518400"/>
            <a:ext cx="2984400" cy="5014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903840" y="9518400"/>
            <a:ext cx="2984400" cy="5014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CAE74-5891-4D7A-A8FE-A34654EAA163}" type="slidenum">
              <a:rPr b="0" lang="fr-FR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9080" y="4759200"/>
            <a:ext cx="505008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Espace réservé du numéro de diapositive 3"/>
          <p:cNvSpPr/>
          <p:nvPr/>
        </p:nvSpPr>
        <p:spPr>
          <a:xfrm>
            <a:off x="3903840" y="951876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3F7B8-E7E3-4862-9650-BD84E5EFBA41}" type="slidenum">
              <a:rPr b="0" lang="fr-FR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Fond-socofit-planete-power-"/>
          <p:cNvPicPr/>
          <p:nvPr/>
        </p:nvPicPr>
        <p:blipFill>
          <a:blip r:embed="rId2"/>
          <a:stretch/>
        </p:blipFill>
        <p:spPr>
          <a:xfrm>
            <a:off x="0" y="69840"/>
            <a:ext cx="9144000" cy="6465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26920" y="210960"/>
            <a:ext cx="77724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500" spc="-1" strike="noStrike">
                <a:solidFill>
                  <a:srgbClr val="ff0000"/>
                </a:solidFill>
                <a:latin typeface="Times New Roman"/>
              </a:rPr>
              <a:t>PRESENTATION DES 5 RÉFÉRENCES </a:t>
            </a:r>
            <a:r>
              <a:rPr b="1" lang="fr-FR" sz="2500" spc="-1" strike="noStrike">
                <a:solidFill>
                  <a:srgbClr val="ff0000"/>
                </a:solidFill>
                <a:latin typeface="Times New Roman"/>
              </a:rPr>
              <a:t>DU MANDATAIRE</a:t>
            </a:r>
            <a:br>
              <a:rPr sz="1400"/>
            </a:b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68360" y="4652640"/>
            <a:ext cx="799128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191966"/>
                </a:solidFill>
                <a:latin typeface="Calibri"/>
              </a:rPr>
              <a:t>Concours restreint de Maîtrise d’Œuv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191966"/>
                </a:solidFill>
                <a:latin typeface="Calibri"/>
              </a:rPr>
              <a:t>Extension et restructuration de l’hôpital de Joigny, Site de gériatrie et de logistique à Joigny (89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468360" y="1836720"/>
          <a:ext cx="7991280" cy="2271600"/>
        </p:xfrm>
        <a:graphic>
          <a:graphicData uri="http://schemas.openxmlformats.org/drawingml/2006/table">
            <a:tbl>
              <a:tblPr/>
              <a:tblGrid>
                <a:gridCol w="503280"/>
                <a:gridCol w="3689280"/>
                <a:gridCol w="1243080"/>
                <a:gridCol w="2555640"/>
              </a:tblGrid>
              <a:tr h="4269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dade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c00000"/>
                          </a:solidFill>
                          <a:latin typeface="Arial Black"/>
                        </a:rPr>
                        <a:t>REFERENC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dade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900" spc="-1" strike="noStrike">
                          <a:solidFill>
                            <a:srgbClr val="c00000"/>
                          </a:solidFill>
                          <a:latin typeface="Arial Black"/>
                        </a:rPr>
                        <a:t>VILL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dade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c00000"/>
                          </a:solidFill>
                          <a:latin typeface="Arial Black"/>
                        </a:rPr>
                        <a:t>FONCTION DANS L'EQUIPE DE MAITRISE D’OEUVR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dadeb"/>
                    </a:solidFill>
                  </a:tcPr>
                </a:tc>
              </a:tr>
              <a:tr h="3700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1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 </a:t>
                      </a:r>
                      <a:br>
                        <a:rPr sz="1000"/>
                      </a:b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6f5"/>
                    </a:solidFill>
                  </a:tcPr>
                </a:tc>
              </a:tr>
              <a:tr h="3682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6f5"/>
                    </a:solidFill>
                  </a:tcPr>
                </a:tc>
              </a:tr>
              <a:tr h="2952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6f5"/>
                    </a:solidFill>
                  </a:tcPr>
                </a:tc>
              </a:tr>
              <a:tr h="4428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6f5"/>
                    </a:solidFill>
                  </a:tcPr>
                </a:tc>
              </a:tr>
              <a:tr h="3682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6f5"/>
                    </a:solidFill>
                  </a:tcPr>
                </a:tc>
              </a:tr>
            </a:tbl>
          </a:graphicData>
        </a:graphic>
      </p:graphicFrame>
      <p:pic>
        <p:nvPicPr>
          <p:cNvPr id="47" name="Image 3" descr="Une image contenant texte, Police, Graphique, graphisme&#10;&#10;Description générée automatiquement"/>
          <p:cNvPicPr/>
          <p:nvPr/>
        </p:nvPicPr>
        <p:blipFill>
          <a:blip r:embed="rId1"/>
          <a:stretch/>
        </p:blipFill>
        <p:spPr>
          <a:xfrm>
            <a:off x="6659640" y="6048360"/>
            <a:ext cx="2155680" cy="623880"/>
          </a:xfrm>
          <a:prstGeom prst="rect">
            <a:avLst/>
          </a:prstGeom>
          <a:ln w="0">
            <a:noFill/>
          </a:ln>
        </p:spPr>
      </p:pic>
      <p:pic>
        <p:nvPicPr>
          <p:cNvPr id="48" name="Image 3" descr="Une image contenant Police, logo, conception, Graphique&#10;&#10;Description générée automatiquement"/>
          <p:cNvPicPr/>
          <p:nvPr/>
        </p:nvPicPr>
        <p:blipFill>
          <a:blip r:embed="rId2"/>
          <a:srcRect l="3725" t="19731" r="8891" b="24792"/>
          <a:stretch/>
        </p:blipFill>
        <p:spPr>
          <a:xfrm>
            <a:off x="777960" y="5908680"/>
            <a:ext cx="141768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468360" y="333360"/>
          <a:ext cx="8229600" cy="1109520"/>
        </p:xfrm>
        <a:graphic>
          <a:graphicData uri="http://schemas.openxmlformats.org/drawingml/2006/table">
            <a:tbl>
              <a:tblPr/>
              <a:tblGrid>
                <a:gridCol w="506520"/>
                <a:gridCol w="1220760"/>
                <a:gridCol w="1739880"/>
                <a:gridCol w="1282680"/>
                <a:gridCol w="3479760"/>
              </a:tblGrid>
              <a:tr h="370080">
                <a:tc row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ître d'ouvrag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scripti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6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rface (SDO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ût travaux en € H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6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vancemen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ôle dans l'opéra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</a:tbl>
          </a:graphicData>
        </a:graphic>
      </p:graphicFrame>
      <p:sp>
        <p:nvSpPr>
          <p:cNvPr id="50" name="ZoneTexte 2"/>
          <p:cNvSpPr/>
          <p:nvPr/>
        </p:nvSpPr>
        <p:spPr>
          <a:xfrm>
            <a:off x="2711520" y="3500280"/>
            <a:ext cx="37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9d9"/>
                </a:solidFill>
                <a:latin typeface="Times New Roman"/>
              </a:rPr>
              <a:t>1 diapositive par réfé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468360" y="260280"/>
          <a:ext cx="8229600" cy="1111320"/>
        </p:xfrm>
        <a:graphic>
          <a:graphicData uri="http://schemas.openxmlformats.org/drawingml/2006/table">
            <a:tbl>
              <a:tblPr/>
              <a:tblGrid>
                <a:gridCol w="506520"/>
                <a:gridCol w="1220760"/>
                <a:gridCol w="1739880"/>
                <a:gridCol w="1282680"/>
                <a:gridCol w="3479760"/>
              </a:tblGrid>
              <a:tr h="370080">
                <a:tc row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ître d'ouvrag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scripti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71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rface (SDO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ût travaux en € H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6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vancemen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ôle dans l'opéra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</a:tbl>
          </a:graphicData>
        </a:graphic>
      </p:graphicFrame>
      <p:sp>
        <p:nvSpPr>
          <p:cNvPr id="52" name="ZoneTexte 2"/>
          <p:cNvSpPr/>
          <p:nvPr/>
        </p:nvSpPr>
        <p:spPr>
          <a:xfrm>
            <a:off x="2711520" y="3500280"/>
            <a:ext cx="37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9d9"/>
                </a:solidFill>
                <a:latin typeface="Times New Roman"/>
              </a:rPr>
              <a:t>1 diapositive par réfé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539640" y="260280"/>
          <a:ext cx="8229600" cy="1111320"/>
        </p:xfrm>
        <a:graphic>
          <a:graphicData uri="http://schemas.openxmlformats.org/drawingml/2006/table">
            <a:tbl>
              <a:tblPr/>
              <a:tblGrid>
                <a:gridCol w="506520"/>
                <a:gridCol w="1220760"/>
                <a:gridCol w="1739880"/>
                <a:gridCol w="1282680"/>
                <a:gridCol w="3479760"/>
              </a:tblGrid>
              <a:tr h="370080">
                <a:tc row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ître d'ouvrag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scripti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71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rface (SDO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ût travaux en € H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6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vancemen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ôle dans l'opéra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</a:tbl>
          </a:graphicData>
        </a:graphic>
      </p:graphicFrame>
      <p:sp>
        <p:nvSpPr>
          <p:cNvPr id="54" name="ZoneTexte 2"/>
          <p:cNvSpPr/>
          <p:nvPr/>
        </p:nvSpPr>
        <p:spPr>
          <a:xfrm>
            <a:off x="2711520" y="3500280"/>
            <a:ext cx="37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9d9"/>
                </a:solidFill>
                <a:latin typeface="Times New Roman"/>
              </a:rPr>
              <a:t>1 diapositive par réfé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468360" y="260280"/>
          <a:ext cx="8229600" cy="1111320"/>
        </p:xfrm>
        <a:graphic>
          <a:graphicData uri="http://schemas.openxmlformats.org/drawingml/2006/table">
            <a:tbl>
              <a:tblPr/>
              <a:tblGrid>
                <a:gridCol w="506520"/>
                <a:gridCol w="1220760"/>
                <a:gridCol w="1739880"/>
                <a:gridCol w="1282680"/>
                <a:gridCol w="3479760"/>
              </a:tblGrid>
              <a:tr h="370080">
                <a:tc row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ître d'ouvrag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scripti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71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rface (SDO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ût travaux en € H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6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vancemen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ôle dans l'opéra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</a:tbl>
          </a:graphicData>
        </a:graphic>
      </p:graphicFrame>
      <p:sp>
        <p:nvSpPr>
          <p:cNvPr id="56" name="ZoneTexte 2"/>
          <p:cNvSpPr/>
          <p:nvPr/>
        </p:nvSpPr>
        <p:spPr>
          <a:xfrm>
            <a:off x="2711520" y="3500280"/>
            <a:ext cx="37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9d9"/>
                </a:solidFill>
                <a:latin typeface="Times New Roman"/>
              </a:rPr>
              <a:t>1 diapositive par réfé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468360" y="260280"/>
          <a:ext cx="8229600" cy="1111320"/>
        </p:xfrm>
        <a:graphic>
          <a:graphicData uri="http://schemas.openxmlformats.org/drawingml/2006/table">
            <a:tbl>
              <a:tblPr/>
              <a:tblGrid>
                <a:gridCol w="506520"/>
                <a:gridCol w="1220760"/>
                <a:gridCol w="1739880"/>
                <a:gridCol w="1282680"/>
                <a:gridCol w="3479760"/>
              </a:tblGrid>
              <a:tr h="370080">
                <a:tc row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ître d'ouvrag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scripti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71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rface (SDO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ût travaux en € H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6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vancemen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ôle dans l'opéra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</a:tbl>
          </a:graphicData>
        </a:graphic>
      </p:graphicFrame>
      <p:sp>
        <p:nvSpPr>
          <p:cNvPr id="58" name="ZoneTexte 2"/>
          <p:cNvSpPr/>
          <p:nvPr/>
        </p:nvSpPr>
        <p:spPr>
          <a:xfrm>
            <a:off x="2711520" y="3500280"/>
            <a:ext cx="37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9d9"/>
                </a:solidFill>
                <a:latin typeface="Times New Roman"/>
              </a:rPr>
              <a:t>1 diapositive par réfé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3T12:13:26Z</dcterms:created>
  <dc:creator>LED</dc:creator>
  <dc:description/>
  <dc:language>en-US</dc:language>
  <cp:lastModifiedBy>Gaëtan PATRIGEON</cp:lastModifiedBy>
  <cp:lastPrinted>2012-03-05T08:37:59Z</cp:lastPrinted>
  <dcterms:modified xsi:type="dcterms:W3CDTF">2025-01-27T17:22:59Z</dcterms:modified>
  <cp:revision>216</cp:revision>
  <dc:subject/>
  <dc:title>Présentation PowerPoint</dc:title>
</cp:coreProperties>
</file>