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82A9-21A2-419C-B9A8-5556C5967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F206-0E39-4584-A5F1-4C22C73EC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AF0E-A7E8-4C80-96DE-3FF74B33D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2678-1A27-4330-82C9-8D41853E3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3DA4-8857-469B-8099-DC7975903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3A5A-ECB8-4FBF-9040-97533AD5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2CF1-768B-4BA0-9E26-9610E7A9B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08D2-5540-4A0E-95DF-976EA96E9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F7B8-8067-40B5-9F01-F0CDBE422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2312-F1D9-4BBC-B84F-5B9625E8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CCCD-9737-49B0-BC79-D589E536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AC52-9CEA-43B3-B0D1-E4537812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62CE3-66F3-4B3B-9C06-CD726FFF2C5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22320" y="1539360"/>
            <a:ext cx="7299360" cy="144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22268"/>
                </a:solidFill>
                <a:latin typeface="Arial"/>
              </a:rPr>
              <a:t>CONCOURS RESTREINT DE MAÎTRISE D’ŒUVRE SUR ESQUISSE+ POUR LA CONSTRUCTION D’UN BÂTIMENT NEUF ET LA RÉHABILITATION-EXTENSION DU BÂTIMENT BOURNEVILLE DANS LE CADRE DE LA RÉALISATION DE L’AXE EST-OUEST DU TRAMWAY DE CAEN LA MER ET DE SON INSERTION AU SEIN DE L’ETABLISSEMENT PUBLIC DE SANTÉ MENTALE (EPSM) DE CA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87440" y="2995200"/>
            <a:ext cx="6369120" cy="17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2060"/>
                </a:solidFill>
                <a:latin typeface="Arial"/>
              </a:rPr>
              <a:t>Cadre de réponse à l’appel à candida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RÉFÉRENCES B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2556000" y="907920"/>
            <a:ext cx="331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"/>
          <p:cNvSpPr/>
          <p:nvPr/>
        </p:nvSpPr>
        <p:spPr>
          <a:xfrm>
            <a:off x="3708360" y="5181480"/>
            <a:ext cx="4819680" cy="1406520"/>
          </a:xfrm>
          <a:prstGeom prst="rect">
            <a:avLst/>
          </a:prstGeom>
          <a:solidFill>
            <a:srgbClr val="ffffff"/>
          </a:solidFill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mpétence du BET : URBANI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om du BET : </a:t>
            </a:r>
            <a:r>
              <a:rPr b="0" lang="fr-FR" sz="1200" spc="-1" strike="noStrike">
                <a:solidFill>
                  <a:srgbClr val="ff0000"/>
                </a:solidFill>
                <a:latin typeface="Arial"/>
              </a:rPr>
              <a:t>A renseig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Image 2" descr=""/>
          <p:cNvPicPr/>
          <p:nvPr/>
        </p:nvPicPr>
        <p:blipFill>
          <a:blip r:embed="rId1"/>
          <a:stretch/>
        </p:blipFill>
        <p:spPr>
          <a:xfrm>
            <a:off x="395280" y="92160"/>
            <a:ext cx="205416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14"/>
          <p:cNvSpPr/>
          <p:nvPr/>
        </p:nvSpPr>
        <p:spPr>
          <a:xfrm>
            <a:off x="179280" y="476280"/>
            <a:ext cx="5832720" cy="626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15"/>
          <p:cNvSpPr/>
          <p:nvPr/>
        </p:nvSpPr>
        <p:spPr>
          <a:xfrm>
            <a:off x="287280" y="2276640"/>
            <a:ext cx="4608720" cy="16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LLUSTRATIONS D’UNE REFERENCE DE NATURE EQUIVALENTE A L’OBJET DE LA CONSUL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Contenu lib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(images, texte, schémas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éférenc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Zone de texte 2"/>
          <p:cNvSpPr/>
          <p:nvPr/>
        </p:nvSpPr>
        <p:spPr>
          <a:xfrm>
            <a:off x="6119640" y="476280"/>
            <a:ext cx="2990880" cy="626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normAutofit/>
          </a:bodyPr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Intitulé du projet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Programm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Qualité environnementale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aitre d’ouvrag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Lieu d’exécution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aitrise d’œuvr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Responsable du proje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issions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Date de livraison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Surface plancher du projet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Cout travaux HT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Enjeux/contraintes spécifiqu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Compléments d’informations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14"/>
          <p:cNvSpPr/>
          <p:nvPr/>
        </p:nvSpPr>
        <p:spPr>
          <a:xfrm>
            <a:off x="179280" y="476280"/>
            <a:ext cx="5832720" cy="626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15"/>
          <p:cNvSpPr/>
          <p:nvPr/>
        </p:nvSpPr>
        <p:spPr>
          <a:xfrm>
            <a:off x="287280" y="2276640"/>
            <a:ext cx="4608720" cy="16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LLUSTRATIONS D’UNE REFERENCE DE NATURE EQUIVALENTE A L’OBJET DE LA CONSUL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Contenu lib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(images, texte, schémas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éférenc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Zone de texte 2"/>
          <p:cNvSpPr/>
          <p:nvPr/>
        </p:nvSpPr>
        <p:spPr>
          <a:xfrm>
            <a:off x="6119640" y="476280"/>
            <a:ext cx="2990880" cy="626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normAutofit/>
          </a:bodyPr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Intitulé du projet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Programm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Qualité environnementale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aitre d’ouvrag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Lieu d’exécution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aitrise d’œuvr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Responsable du proje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issions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Date de livraison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Surface plancher du projet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Cout travaux HT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Enjeux/contraintes spécifiqu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Compléments d’informations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14"/>
          <p:cNvSpPr/>
          <p:nvPr/>
        </p:nvSpPr>
        <p:spPr>
          <a:xfrm>
            <a:off x="179280" y="476280"/>
            <a:ext cx="5832720" cy="626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15"/>
          <p:cNvSpPr/>
          <p:nvPr/>
        </p:nvSpPr>
        <p:spPr>
          <a:xfrm>
            <a:off x="287280" y="2276640"/>
            <a:ext cx="4608720" cy="16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LLUSTRATIONS D’UNE REFERENCE DE NATURE EQUIVALENTE A L’OBJET DE LA CONSUL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Contenu lib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(images, texte, schémas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éférence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one de texte 2"/>
          <p:cNvSpPr/>
          <p:nvPr/>
        </p:nvSpPr>
        <p:spPr>
          <a:xfrm>
            <a:off x="6119640" y="476280"/>
            <a:ext cx="2990880" cy="626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normAutofit/>
          </a:bodyPr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Intitulé du projet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Programm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Qualité environnementale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aitre d’ouvrag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Lieu d’exécution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aitrise d’œuvr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Responsable du proje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issions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Date de livraison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Surface plancher du projet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Cout travaux HT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Enjeux/contraintes spécifiqu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Compléments d’informations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22320" y="1539360"/>
            <a:ext cx="7299360" cy="144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22268"/>
                </a:solidFill>
                <a:latin typeface="Arial"/>
              </a:rPr>
              <a:t>CONCOURS RESTREINT DE MAÎTRISE D’ŒUVRE SUR ESQUISSE+ POUR LA CONSTRUCTION D’UN BÂTIMENT NEUF ET LA RÉHABILITATION-EXTENSION DU BÂTIMENT BOURNEVILLE DANS LE CADRE DE LA RÉALISATION DE L’AXE EST-OUEST DU TRAMWAY DE CAEN LA MER ET DE SON INSERTION AU SEIN DE L’ETABLISSEMENT PUBLIC DE SANTÉ MENTALE (EPSM) DE CA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87440" y="2995200"/>
            <a:ext cx="6369120" cy="17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2060"/>
                </a:solidFill>
                <a:latin typeface="Arial"/>
              </a:rPr>
              <a:t>Cadre de réponse à l’appel à candida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RÉFÉRENCES B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2556000" y="907920"/>
            <a:ext cx="331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"/>
          <p:cNvSpPr/>
          <p:nvPr/>
        </p:nvSpPr>
        <p:spPr>
          <a:xfrm>
            <a:off x="3708360" y="5181480"/>
            <a:ext cx="4819680" cy="1406520"/>
          </a:xfrm>
          <a:prstGeom prst="rect">
            <a:avLst/>
          </a:prstGeom>
          <a:solidFill>
            <a:srgbClr val="ffffff"/>
          </a:solidFill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mpétence du BET : PAYSAGI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om du BET : </a:t>
            </a:r>
            <a:r>
              <a:rPr b="0" lang="fr-FR" sz="1200" spc="-1" strike="noStrike">
                <a:solidFill>
                  <a:srgbClr val="ff0000"/>
                </a:solidFill>
                <a:latin typeface="Arial"/>
              </a:rPr>
              <a:t>A renseig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Image 2" descr=""/>
          <p:cNvPicPr/>
          <p:nvPr/>
        </p:nvPicPr>
        <p:blipFill>
          <a:blip r:embed="rId1"/>
          <a:stretch/>
        </p:blipFill>
        <p:spPr>
          <a:xfrm>
            <a:off x="395280" y="92160"/>
            <a:ext cx="205416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14"/>
          <p:cNvSpPr/>
          <p:nvPr/>
        </p:nvSpPr>
        <p:spPr>
          <a:xfrm>
            <a:off x="179280" y="476280"/>
            <a:ext cx="5832720" cy="626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5"/>
          <p:cNvSpPr/>
          <p:nvPr/>
        </p:nvSpPr>
        <p:spPr>
          <a:xfrm>
            <a:off x="287280" y="2276640"/>
            <a:ext cx="4608720" cy="16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LLUSTRATIONS D’UNE REFERENCE DE NATURE EQUIVALENTE A L’OBJET DE LA CONSUL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Contenu lib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(images, texte, schémas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éférenc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Zone de texte 2"/>
          <p:cNvSpPr/>
          <p:nvPr/>
        </p:nvSpPr>
        <p:spPr>
          <a:xfrm>
            <a:off x="6119640" y="476280"/>
            <a:ext cx="2990880" cy="626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normAutofit/>
          </a:bodyPr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Intitulé du projet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Programm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Qualité environnementale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aitre d’ouvrag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Lieu d’exécution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aitrise d’œuvr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Responsable du proje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issions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Date de livraison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Surface plancher du projet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Cout travaux HT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Enjeux/contraintes spécifiqu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Compléments d’informations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14"/>
          <p:cNvSpPr/>
          <p:nvPr/>
        </p:nvSpPr>
        <p:spPr>
          <a:xfrm>
            <a:off x="179280" y="476280"/>
            <a:ext cx="5832720" cy="626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5"/>
          <p:cNvSpPr/>
          <p:nvPr/>
        </p:nvSpPr>
        <p:spPr>
          <a:xfrm>
            <a:off x="287280" y="2276640"/>
            <a:ext cx="4608720" cy="16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LLUSTRATIONS D’UNE REFERENCE DE NATURE EQUIVALENTE A L’OBJET DE LA CONSUL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Contenu lib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(images, texte, schémas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éférenc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 de texte 2"/>
          <p:cNvSpPr/>
          <p:nvPr/>
        </p:nvSpPr>
        <p:spPr>
          <a:xfrm>
            <a:off x="6119640" y="476280"/>
            <a:ext cx="2990880" cy="626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normAutofit/>
          </a:bodyPr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Intitulé du projet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Programm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Qualité environnementale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aitre d’ouvrag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Lieu d’exécution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aitrise d’œuvr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Responsable du proje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issions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Date de livraison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Surface plancher du projet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Cout travaux HT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Enjeux/contraintes spécifiqu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Compléments d’informations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14"/>
          <p:cNvSpPr/>
          <p:nvPr/>
        </p:nvSpPr>
        <p:spPr>
          <a:xfrm>
            <a:off x="179280" y="476280"/>
            <a:ext cx="5832720" cy="626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5"/>
          <p:cNvSpPr/>
          <p:nvPr/>
        </p:nvSpPr>
        <p:spPr>
          <a:xfrm>
            <a:off x="287280" y="2276640"/>
            <a:ext cx="4608720" cy="16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LLUSTRATIONS D’UNE REFERENCE DE NATURE EQUIVALENTE A L’OBJET DE LA CONSUL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Contenu lib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(images, texte, schémas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éférence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Zone de texte 2"/>
          <p:cNvSpPr/>
          <p:nvPr/>
        </p:nvSpPr>
        <p:spPr>
          <a:xfrm>
            <a:off x="6119640" y="476280"/>
            <a:ext cx="2990880" cy="626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normAutofit/>
          </a:bodyPr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Intitulé du projet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Programm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Qualité environnementale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aitre d’ouvrag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Lieu d’exécution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aitrise d’œuvr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Responsable du proje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issions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Date de livraison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Surface plancher du projet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Cout travaux HT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Enjeux/contraintes spécifiqu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Compléments d’informations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22320" y="1539360"/>
            <a:ext cx="7299360" cy="144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22268"/>
                </a:solidFill>
                <a:latin typeface="Arial"/>
              </a:rPr>
              <a:t>CONCOURS RESTREINT DE MAÎTRISE D’ŒUVRE SUR ESQUISSE+ POUR LA CONSTRUCTION D’UN BÂTIMENT NEUF ET LA RÉHABILITATION-EXTENSION DU BÂTIMENT BOURNEVILLE DANS LE CADRE DE LA RÉALISATION DE L’AXE EST-OUEST DU TRAMWAY DE CAEN LA MER ET DE SON INSERTION AU SEIN DE L’ETABLISSEMENT PUBLIC DE SANTÉ MENTALE (EPSM) DE CA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87440" y="2995200"/>
            <a:ext cx="6369120" cy="17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2060"/>
                </a:solidFill>
                <a:latin typeface="Arial"/>
              </a:rPr>
              <a:t>Cadre de réponse à l’appel à candida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RÉFÉRENCES B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2556000" y="907920"/>
            <a:ext cx="331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3708360" y="5181480"/>
            <a:ext cx="4819680" cy="1406520"/>
          </a:xfrm>
          <a:prstGeom prst="rect">
            <a:avLst/>
          </a:prstGeom>
          <a:solidFill>
            <a:srgbClr val="ffffff"/>
          </a:solidFill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mpétence du BET :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om du BET : </a:t>
            </a:r>
            <a:r>
              <a:rPr b="0" lang="fr-FR" sz="1200" spc="-1" strike="noStrike">
                <a:solidFill>
                  <a:srgbClr val="ff0000"/>
                </a:solidFill>
                <a:latin typeface="Arial"/>
              </a:rPr>
              <a:t>A renseig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Image 2" descr=""/>
          <p:cNvPicPr/>
          <p:nvPr/>
        </p:nvPicPr>
        <p:blipFill>
          <a:blip r:embed="rId1"/>
          <a:stretch/>
        </p:blipFill>
        <p:spPr>
          <a:xfrm>
            <a:off x="395280" y="92160"/>
            <a:ext cx="205416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14"/>
          <p:cNvSpPr/>
          <p:nvPr/>
        </p:nvSpPr>
        <p:spPr>
          <a:xfrm>
            <a:off x="179280" y="476280"/>
            <a:ext cx="5832720" cy="626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15"/>
          <p:cNvSpPr/>
          <p:nvPr/>
        </p:nvSpPr>
        <p:spPr>
          <a:xfrm>
            <a:off x="287280" y="2276640"/>
            <a:ext cx="4608720" cy="16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LLUSTRATIONS D’UNE REFERENCE DE NATURE EQUIVALENTE A L’OBJET DE LA CONSUL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Contenu lib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(images, texte, schémas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éférenc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Zone de texte 2"/>
          <p:cNvSpPr/>
          <p:nvPr/>
        </p:nvSpPr>
        <p:spPr>
          <a:xfrm>
            <a:off x="6119640" y="476280"/>
            <a:ext cx="2990880" cy="626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normAutofit/>
          </a:bodyPr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Intitulé du projet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Programm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Qualité environnementale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aitre d’ouvrag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Lieu d’exécution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aitrise d’œuvr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Responsable du proje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issions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Date de livraison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Surface plancher du projet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Cout travaux HT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Enjeux/contraintes spécifiqu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Compléments d’informations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14"/>
          <p:cNvSpPr/>
          <p:nvPr/>
        </p:nvSpPr>
        <p:spPr>
          <a:xfrm>
            <a:off x="179280" y="476280"/>
            <a:ext cx="5832720" cy="626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15"/>
          <p:cNvSpPr/>
          <p:nvPr/>
        </p:nvSpPr>
        <p:spPr>
          <a:xfrm>
            <a:off x="287280" y="2276640"/>
            <a:ext cx="4608720" cy="16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LLUSTRATIONS D’UNE REFERENCE DE NATURE EQUIVALENTE A L’OBJET DE LA CONSUL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Contenu lib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(images, texte, schémas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éférenc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Zone de texte 2"/>
          <p:cNvSpPr/>
          <p:nvPr/>
        </p:nvSpPr>
        <p:spPr>
          <a:xfrm>
            <a:off x="6119640" y="476280"/>
            <a:ext cx="2990880" cy="626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normAutofit/>
          </a:bodyPr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Intitulé du projet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Programm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Qualité environnementale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aitre d’ouvrag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Lieu d’exécution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aitrise d’œuvr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Responsable du proje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issions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Date de livraison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Surface plancher du projet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Cout travaux HT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Enjeux/contraintes spécifiqu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Compléments d’informations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14"/>
          <p:cNvSpPr/>
          <p:nvPr/>
        </p:nvSpPr>
        <p:spPr>
          <a:xfrm>
            <a:off x="179280" y="476280"/>
            <a:ext cx="5832720" cy="626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15"/>
          <p:cNvSpPr/>
          <p:nvPr/>
        </p:nvSpPr>
        <p:spPr>
          <a:xfrm>
            <a:off x="287280" y="2276640"/>
            <a:ext cx="4608720" cy="16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LLUSTRATIONS D’UNE REFERENCE DE NATURE EQUIVALENTE A L’OBJET DE LA CONSUL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Contenu lib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(images, texte, schémas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éférenc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Zone de texte 2"/>
          <p:cNvSpPr/>
          <p:nvPr/>
        </p:nvSpPr>
        <p:spPr>
          <a:xfrm>
            <a:off x="6119640" y="476280"/>
            <a:ext cx="2990880" cy="626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normAutofit/>
          </a:bodyPr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Intitulé du projet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Programm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Qualité environnementale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aitre d’ouvrag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Lieu d’exécution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aitrise d’œuvr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Responsable du proje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issions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Date de livraison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Surface plancher du projet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Cout travaux HT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Enjeux/contraintes spécifiqu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Compléments d’informations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14"/>
          <p:cNvSpPr/>
          <p:nvPr/>
        </p:nvSpPr>
        <p:spPr>
          <a:xfrm>
            <a:off x="179280" y="476280"/>
            <a:ext cx="5832720" cy="626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5"/>
          <p:cNvSpPr/>
          <p:nvPr/>
        </p:nvSpPr>
        <p:spPr>
          <a:xfrm>
            <a:off x="287280" y="2276640"/>
            <a:ext cx="4608720" cy="16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LLUSTRATIONS D’UNE REFERENCE DE NATURE EQUIVALENTE A L’OBJET DE LA CONSUL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Contenu lib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(images, texte, schémas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éférence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Zone de texte 2"/>
          <p:cNvSpPr/>
          <p:nvPr/>
        </p:nvSpPr>
        <p:spPr>
          <a:xfrm>
            <a:off x="6119640" y="476280"/>
            <a:ext cx="2990880" cy="626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normAutofit/>
          </a:bodyPr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Intitulé du projet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Programm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Qualité environnementale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aitre d’ouvrag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Lieu d’exécution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aitrise d’œuvr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Responsable du proje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issions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Date de livraison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Surface plancher du projet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Cout travaux HT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Enjeux/contraintes spécifiqu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Compléments d’informations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22320" y="1539360"/>
            <a:ext cx="7299360" cy="144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22268"/>
                </a:solidFill>
                <a:latin typeface="Arial"/>
              </a:rPr>
              <a:t>CONCOURS RESTREINT DE MAÎTRISE D’ŒUVRE SUR ESQUISSE+ POUR LA CONSTRUCTION D’UN BÂTIMENT NEUF ET LA RÉHABILITATION-EXTENSION DU BÂTIMENT BOURNEVILLE DANS LE CADRE DE LA RÉALISATION DE L’AXE EST-OUEST DU TRAMWAY DE CAEN LA MER ET DE SON INSERTION AU SEIN DE L’ETABLISSEMENT PUBLIC DE SANTÉ MENTALE (EPSM) DE CA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87440" y="2995200"/>
            <a:ext cx="6369120" cy="17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2060"/>
                </a:solidFill>
                <a:latin typeface="Arial"/>
              </a:rPr>
              <a:t>Cadre de réponse à l’appel à candida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RÉFÉRENCES B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2556000" y="907920"/>
            <a:ext cx="331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3708360" y="5181480"/>
            <a:ext cx="4819680" cy="1406520"/>
          </a:xfrm>
          <a:prstGeom prst="rect">
            <a:avLst/>
          </a:prstGeom>
          <a:solidFill>
            <a:srgbClr val="ffffff"/>
          </a:solidFill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mpétence du BET : FLUIDES CFOCF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om du BET : </a:t>
            </a:r>
            <a:r>
              <a:rPr b="0" lang="fr-FR" sz="1200" spc="-1" strike="noStrike">
                <a:solidFill>
                  <a:srgbClr val="ff0000"/>
                </a:solidFill>
                <a:latin typeface="Arial"/>
              </a:rPr>
              <a:t>A renseig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Image 2" descr=""/>
          <p:cNvPicPr/>
          <p:nvPr/>
        </p:nvPicPr>
        <p:blipFill>
          <a:blip r:embed="rId1"/>
          <a:stretch/>
        </p:blipFill>
        <p:spPr>
          <a:xfrm>
            <a:off x="395280" y="92160"/>
            <a:ext cx="205416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14"/>
          <p:cNvSpPr/>
          <p:nvPr/>
        </p:nvSpPr>
        <p:spPr>
          <a:xfrm>
            <a:off x="179280" y="476280"/>
            <a:ext cx="5832720" cy="626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15"/>
          <p:cNvSpPr/>
          <p:nvPr/>
        </p:nvSpPr>
        <p:spPr>
          <a:xfrm>
            <a:off x="287280" y="2276640"/>
            <a:ext cx="4608720" cy="16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LLUSTRATIONS D’UNE REFERENCE DE NATURE EQUIVALENTE A L’OBJET DE LA CONSUL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Contenu lib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(images, texte, schémas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éférenc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Zone de texte 2"/>
          <p:cNvSpPr/>
          <p:nvPr/>
        </p:nvSpPr>
        <p:spPr>
          <a:xfrm>
            <a:off x="6119640" y="476280"/>
            <a:ext cx="2990880" cy="626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normAutofit/>
          </a:bodyPr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Intitulé du projet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Programm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Qualité environnementale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aitre d’ouvrag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Lieu d’exécution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aitrise d’œuvr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Responsable du proje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issions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Date de livraison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Surface plancher du projet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Cout travaux HT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Enjeux/contraintes spécifiqu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Compléments d’informations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4"/>
          <p:cNvSpPr/>
          <p:nvPr/>
        </p:nvSpPr>
        <p:spPr>
          <a:xfrm>
            <a:off x="179280" y="476280"/>
            <a:ext cx="5832720" cy="626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15"/>
          <p:cNvSpPr/>
          <p:nvPr/>
        </p:nvSpPr>
        <p:spPr>
          <a:xfrm>
            <a:off x="287280" y="2276640"/>
            <a:ext cx="4608720" cy="16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LLUSTRATIONS D’UNE REFERENCE DE NATURE EQUIVALENTE A L’OBJET DE LA CONSUL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Contenu lib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(images, texte, schémas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éférenc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one de texte 2"/>
          <p:cNvSpPr/>
          <p:nvPr/>
        </p:nvSpPr>
        <p:spPr>
          <a:xfrm>
            <a:off x="6119640" y="476280"/>
            <a:ext cx="2990880" cy="626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normAutofit/>
          </a:bodyPr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Intitulé du projet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Programm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Qualité environnementale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aitre d’ouvrag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Lieu d’exécution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aitrise d’œuvr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Responsable du proje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issions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Date de livraison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Surface plancher du projet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Cout travaux HT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Enjeux/contraintes spécifiqu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Compléments d’informations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14"/>
          <p:cNvSpPr/>
          <p:nvPr/>
        </p:nvSpPr>
        <p:spPr>
          <a:xfrm>
            <a:off x="179280" y="476280"/>
            <a:ext cx="5832720" cy="626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15"/>
          <p:cNvSpPr/>
          <p:nvPr/>
        </p:nvSpPr>
        <p:spPr>
          <a:xfrm>
            <a:off x="287280" y="2276640"/>
            <a:ext cx="4608720" cy="16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LLUSTRATIONS D’UNE REFERENCE DE NATURE EQUIVALENTE A L’OBJET DE LA CONSUL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Contenu lib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(images, texte, schémas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éférence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Zone de texte 2"/>
          <p:cNvSpPr/>
          <p:nvPr/>
        </p:nvSpPr>
        <p:spPr>
          <a:xfrm>
            <a:off x="6119640" y="476280"/>
            <a:ext cx="2990880" cy="626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normAutofit/>
          </a:bodyPr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Intitulé du projet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Programm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Qualité environnementale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aitre d’ouvrag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Lieu d’exécution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aitrise d’œuvr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Responsable du proje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issions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Date de livraison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Surface plancher du projet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Cout travaux HT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Enjeux/contraintes spécifiqu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Compléments d’informations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22320" y="1539360"/>
            <a:ext cx="7299360" cy="144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22268"/>
                </a:solidFill>
                <a:latin typeface="Arial"/>
              </a:rPr>
              <a:t>CONCOURS RESTREINT DE MAÎTRISE D’ŒUVRE SUR ESQUISSE+ POUR LA CONSTRUCTION D’UN BÂTIMENT NEUF ET LA RÉHABILITATION-EXTENSION DU BÂTIMENT BOURNEVILLE DANS LE CADRE DE LA RÉALISATION DE L’AXE EST-OUEST DU TRAMWAY DE CAEN LA MER ET DE SON INSERTION AU SEIN DE L’ETABLISSEMENT PUBLIC DE SANTÉ MENTALE (EPSM) DE CA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87440" y="2995200"/>
            <a:ext cx="6369120" cy="17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2060"/>
                </a:solidFill>
                <a:latin typeface="Arial"/>
              </a:rPr>
              <a:t>Cadre de réponse à l’appel à candida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RÉFÉRENCES B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2556000" y="907920"/>
            <a:ext cx="331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"/>
          <p:cNvSpPr/>
          <p:nvPr/>
        </p:nvSpPr>
        <p:spPr>
          <a:xfrm>
            <a:off x="3708360" y="5181480"/>
            <a:ext cx="4819680" cy="1406520"/>
          </a:xfrm>
          <a:prstGeom prst="rect">
            <a:avLst/>
          </a:prstGeom>
          <a:solidFill>
            <a:srgbClr val="ffffff"/>
          </a:solidFill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mpétence du BET : FLUIDES PLOMBERIE CV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om du BET : </a:t>
            </a:r>
            <a:r>
              <a:rPr b="0" lang="fr-FR" sz="1200" spc="-1" strike="noStrike">
                <a:solidFill>
                  <a:srgbClr val="ff0000"/>
                </a:solidFill>
                <a:latin typeface="Arial"/>
              </a:rPr>
              <a:t>A renseig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Image 2" descr=""/>
          <p:cNvPicPr/>
          <p:nvPr/>
        </p:nvPicPr>
        <p:blipFill>
          <a:blip r:embed="rId1"/>
          <a:stretch/>
        </p:blipFill>
        <p:spPr>
          <a:xfrm>
            <a:off x="395280" y="92160"/>
            <a:ext cx="205416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14"/>
          <p:cNvSpPr/>
          <p:nvPr/>
        </p:nvSpPr>
        <p:spPr>
          <a:xfrm>
            <a:off x="179280" y="476280"/>
            <a:ext cx="5832720" cy="626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15"/>
          <p:cNvSpPr/>
          <p:nvPr/>
        </p:nvSpPr>
        <p:spPr>
          <a:xfrm>
            <a:off x="287280" y="2276640"/>
            <a:ext cx="4608720" cy="16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LLUSTRATIONS D’UNE REFERENCE DE NATURE EQUIVALENTE A L’OBJET DE LA CONSUL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Contenu lib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(images, texte, schémas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éférenc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Zone de texte 2"/>
          <p:cNvSpPr/>
          <p:nvPr/>
        </p:nvSpPr>
        <p:spPr>
          <a:xfrm>
            <a:off x="6119640" y="476280"/>
            <a:ext cx="2990880" cy="626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normAutofit/>
          </a:bodyPr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Intitulé du projet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Programm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Qualité environnementale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aitre d’ouvrag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Lieu d’exécution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aitrise d’œuvr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Responsable du proje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issions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Date de livraison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Surface plancher du projet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Cout travaux HT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Enjeux/contraintes spécifiqu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Compléments d’informations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14"/>
          <p:cNvSpPr/>
          <p:nvPr/>
        </p:nvSpPr>
        <p:spPr>
          <a:xfrm>
            <a:off x="179280" y="476280"/>
            <a:ext cx="5832720" cy="626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15"/>
          <p:cNvSpPr/>
          <p:nvPr/>
        </p:nvSpPr>
        <p:spPr>
          <a:xfrm>
            <a:off x="287280" y="2276640"/>
            <a:ext cx="4608720" cy="16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LLUSTRATIONS D’UNE REFERENCE DE NATURE EQUIVALENTE A L’OBJET DE LA CONSUL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Contenu lib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(images, texte, schémas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éférenc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Zone de texte 2"/>
          <p:cNvSpPr/>
          <p:nvPr/>
        </p:nvSpPr>
        <p:spPr>
          <a:xfrm>
            <a:off x="6119640" y="476280"/>
            <a:ext cx="2990880" cy="626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normAutofit/>
          </a:bodyPr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Intitulé du projet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Programm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Qualité environnementale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aitre d’ouvrag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Lieu d’exécution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aitrise d’œuvr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Responsable du proje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issions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Date de livraison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Surface plancher du projet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Cout travaux HT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Enjeux/contraintes spécifiqu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Compléments d’informations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114"/>
          <p:cNvSpPr/>
          <p:nvPr/>
        </p:nvSpPr>
        <p:spPr>
          <a:xfrm>
            <a:off x="179280" y="476280"/>
            <a:ext cx="5832720" cy="626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15"/>
          <p:cNvSpPr/>
          <p:nvPr/>
        </p:nvSpPr>
        <p:spPr>
          <a:xfrm>
            <a:off x="287280" y="2276640"/>
            <a:ext cx="4608720" cy="16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LLUSTRATIONS D’UNE REFERENCE DE NATURE EQUIVALENTE A L’OBJET DE LA CONSUL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Contenu lib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(images, texte, schémas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éférence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Zone de texte 2"/>
          <p:cNvSpPr/>
          <p:nvPr/>
        </p:nvSpPr>
        <p:spPr>
          <a:xfrm>
            <a:off x="6119640" y="476280"/>
            <a:ext cx="2990880" cy="626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normAutofit/>
          </a:bodyPr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Intitulé du projet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Programm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Qualité environnementale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aitre d’ouvrag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Lieu d’exécution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aitrise d’œuvr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Responsable du proje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issions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Date de livraison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Surface plancher du projet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Cout travaux HT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Enjeux/contraintes spécifiqu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Compléments d’informations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22320" y="1539360"/>
            <a:ext cx="7299360" cy="144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22268"/>
                </a:solidFill>
                <a:latin typeface="Arial"/>
              </a:rPr>
              <a:t>CONCOURS RESTREINT DE MAÎTRISE D’ŒUVRE SUR ESQUISSE+ POUR LA CONSTRUCTION D’UN BÂTIMENT NEUF ET LA RÉHABILITATION-EXTENSION DU BÂTIMENT BOURNEVILLE DANS LE CADRE DE LA RÉALISATION DE L’AXE EST-OUEST DU TRAMWAY DE CAEN LA MER ET DE SON INSERTION AU SEIN DE L’ETABLISSEMENT PUBLIC DE SANTÉ MENTALE (EPSM) DE CA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87440" y="2995200"/>
            <a:ext cx="6369120" cy="17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2060"/>
                </a:solidFill>
                <a:latin typeface="Arial"/>
              </a:rPr>
              <a:t>Cadre de réponse à l’appel à candida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RÉFÉRENCES B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2556000" y="907920"/>
            <a:ext cx="331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"/>
          <p:cNvSpPr/>
          <p:nvPr/>
        </p:nvSpPr>
        <p:spPr>
          <a:xfrm>
            <a:off x="3708360" y="5181480"/>
            <a:ext cx="4819680" cy="1406520"/>
          </a:xfrm>
          <a:prstGeom prst="rect">
            <a:avLst/>
          </a:prstGeom>
          <a:solidFill>
            <a:srgbClr val="ffffff"/>
          </a:solidFill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mpétence du BET : FLUIDES ENERGIES RENOUVEL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om du BET : </a:t>
            </a:r>
            <a:r>
              <a:rPr b="0" lang="fr-FR" sz="1200" spc="-1" strike="noStrike">
                <a:solidFill>
                  <a:srgbClr val="ff0000"/>
                </a:solidFill>
                <a:latin typeface="Arial"/>
              </a:rPr>
              <a:t>A renseig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Image 2" descr=""/>
          <p:cNvPicPr/>
          <p:nvPr/>
        </p:nvPicPr>
        <p:blipFill>
          <a:blip r:embed="rId1"/>
          <a:stretch/>
        </p:blipFill>
        <p:spPr>
          <a:xfrm>
            <a:off x="395280" y="92160"/>
            <a:ext cx="205416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14"/>
          <p:cNvSpPr/>
          <p:nvPr/>
        </p:nvSpPr>
        <p:spPr>
          <a:xfrm>
            <a:off x="179280" y="476280"/>
            <a:ext cx="5832720" cy="626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15"/>
          <p:cNvSpPr/>
          <p:nvPr/>
        </p:nvSpPr>
        <p:spPr>
          <a:xfrm>
            <a:off x="287280" y="2276640"/>
            <a:ext cx="4608720" cy="16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LLUSTRATIONS D’UNE REFERENCE DE NATURE EQUIVALENTE A L’OBJET DE LA CONSUL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Contenu lib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(images, texte, schémas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éférenc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Zone de texte 2"/>
          <p:cNvSpPr/>
          <p:nvPr/>
        </p:nvSpPr>
        <p:spPr>
          <a:xfrm>
            <a:off x="6119640" y="476280"/>
            <a:ext cx="2990880" cy="626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normAutofit/>
          </a:bodyPr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Intitulé du projet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Programm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Qualité environnementale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aitre d’ouvrag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Lieu d’exécution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aitrise d’œuvr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Responsable du proje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issions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Date de livraison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Surface plancher du projet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Cout travaux HT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Enjeux/contraintes spécifiqu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Compléments d’informations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14"/>
          <p:cNvSpPr/>
          <p:nvPr/>
        </p:nvSpPr>
        <p:spPr>
          <a:xfrm>
            <a:off x="179280" y="476280"/>
            <a:ext cx="5832720" cy="626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15"/>
          <p:cNvSpPr/>
          <p:nvPr/>
        </p:nvSpPr>
        <p:spPr>
          <a:xfrm>
            <a:off x="287280" y="2276640"/>
            <a:ext cx="4608720" cy="16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LLUSTRATIONS D’UNE REFERENCE DE NATURE EQUIVALENTE A L’OBJET DE LA CONSUL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Contenu lib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(images, texte, schémas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éférenc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Zone de texte 2"/>
          <p:cNvSpPr/>
          <p:nvPr/>
        </p:nvSpPr>
        <p:spPr>
          <a:xfrm>
            <a:off x="6119640" y="476280"/>
            <a:ext cx="2990880" cy="626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normAutofit/>
          </a:bodyPr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Intitulé du projet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Programm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Qualité environnementale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aitre d’ouvrag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Lieu d’exécution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aitrise d’œuvr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Responsable du proje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issions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Date de livraison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Surface plancher du projet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Cout travaux HT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Enjeux/contraintes spécifiqu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Compléments d’informations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14"/>
          <p:cNvSpPr/>
          <p:nvPr/>
        </p:nvSpPr>
        <p:spPr>
          <a:xfrm>
            <a:off x="179280" y="476280"/>
            <a:ext cx="5832720" cy="626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15"/>
          <p:cNvSpPr/>
          <p:nvPr/>
        </p:nvSpPr>
        <p:spPr>
          <a:xfrm>
            <a:off x="287280" y="2276640"/>
            <a:ext cx="4608720" cy="16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LLUSTRATIONS D’UNE REFERENCE DE NATURE EQUIVALENTE A L’OBJET DE LA CONSUL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Contenu lib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(images, texte, schémas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éférenc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Zone de texte 2"/>
          <p:cNvSpPr/>
          <p:nvPr/>
        </p:nvSpPr>
        <p:spPr>
          <a:xfrm>
            <a:off x="6119640" y="476280"/>
            <a:ext cx="2990880" cy="626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normAutofit/>
          </a:bodyPr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Intitulé du projet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Programm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Qualité environnementale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aitre d’ouvrag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Lieu d’exécution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aitrise d’œuvr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Responsable du proje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issions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Date de livraison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Surface plancher du projet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Cout travaux HT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Enjeux/contraintes spécifiqu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Compléments d’informations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14"/>
          <p:cNvSpPr/>
          <p:nvPr/>
        </p:nvSpPr>
        <p:spPr>
          <a:xfrm>
            <a:off x="179280" y="476280"/>
            <a:ext cx="5832720" cy="626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5"/>
          <p:cNvSpPr/>
          <p:nvPr/>
        </p:nvSpPr>
        <p:spPr>
          <a:xfrm>
            <a:off x="287280" y="2276640"/>
            <a:ext cx="4608720" cy="16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LLUSTRATIONS D’UNE REFERENCE DE NATURE EQUIVALENTE A L’OBJET DE LA CONSUL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Contenu lib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(images, texte, schémas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éférence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Zone de texte 2"/>
          <p:cNvSpPr/>
          <p:nvPr/>
        </p:nvSpPr>
        <p:spPr>
          <a:xfrm>
            <a:off x="6119640" y="476280"/>
            <a:ext cx="2990880" cy="626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normAutofit/>
          </a:bodyPr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Intitulé du projet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Programm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Qualité environnementale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aitre d’ouvrag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Lieu d’exécution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aitrise d’œuvr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Responsable du proje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issions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Date de livraison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Surface plancher du projet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Cout travaux HT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Enjeux/contraintes spécifiqu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Compléments d’informations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22320" y="1539360"/>
            <a:ext cx="7299360" cy="144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22268"/>
                </a:solidFill>
                <a:latin typeface="Arial"/>
              </a:rPr>
              <a:t>CONCOURS RESTREINT DE MAÎTRISE D’ŒUVRE SUR ESQUISSE+ POUR LA CONSTRUCTION D’UN BÂTIMENT NEUF ET LA RÉHABILITATION-EXTENSION DU BÂTIMENT BOURNEVILLE DANS LE CADRE DE LA RÉALISATION DE L’AXE EST-OUEST DU TRAMWAY DE CAEN LA MER ET DE SON INSERTION AU SEIN DE L’ETABLISSEMENT PUBLIC DE SANTÉ MENTALE (EPSM) DE CA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387440" y="2995200"/>
            <a:ext cx="6369120" cy="17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2060"/>
                </a:solidFill>
                <a:latin typeface="Arial"/>
              </a:rPr>
              <a:t>Cadre de réponse à l’appel à candida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RÉFÉRENCES B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2556000" y="907920"/>
            <a:ext cx="331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"/>
          <p:cNvSpPr/>
          <p:nvPr/>
        </p:nvSpPr>
        <p:spPr>
          <a:xfrm>
            <a:off x="3708360" y="5181480"/>
            <a:ext cx="4819680" cy="1406520"/>
          </a:xfrm>
          <a:prstGeom prst="rect">
            <a:avLst/>
          </a:prstGeom>
          <a:solidFill>
            <a:srgbClr val="ffffff"/>
          </a:solidFill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mpétence du BET : FLUIDES ST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om du BET : </a:t>
            </a:r>
            <a:r>
              <a:rPr b="0" lang="fr-FR" sz="1200" spc="-1" strike="noStrike">
                <a:solidFill>
                  <a:srgbClr val="ff0000"/>
                </a:solidFill>
                <a:latin typeface="Arial"/>
              </a:rPr>
              <a:t>A renseig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Image 2" descr=""/>
          <p:cNvPicPr/>
          <p:nvPr/>
        </p:nvPicPr>
        <p:blipFill>
          <a:blip r:embed="rId1"/>
          <a:stretch/>
        </p:blipFill>
        <p:spPr>
          <a:xfrm>
            <a:off x="395280" y="92160"/>
            <a:ext cx="205416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14"/>
          <p:cNvSpPr/>
          <p:nvPr/>
        </p:nvSpPr>
        <p:spPr>
          <a:xfrm>
            <a:off x="179280" y="476280"/>
            <a:ext cx="5832720" cy="626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15"/>
          <p:cNvSpPr/>
          <p:nvPr/>
        </p:nvSpPr>
        <p:spPr>
          <a:xfrm>
            <a:off x="287280" y="2276640"/>
            <a:ext cx="4608720" cy="16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LLUSTRATIONS D’UNE REFERENCE DE NATURE EQUIVALENTE A L’OBJET DE LA CONSUL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Contenu lib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(images, texte, schémas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éférenc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Zone de texte 2"/>
          <p:cNvSpPr/>
          <p:nvPr/>
        </p:nvSpPr>
        <p:spPr>
          <a:xfrm>
            <a:off x="6119640" y="476280"/>
            <a:ext cx="2990880" cy="626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normAutofit/>
          </a:bodyPr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Intitulé du projet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Programm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Qualité environnementale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aitre d’ouvrag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Lieu d’exécution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aitrise d’œuvr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Responsable du proje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issions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Date de livraison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Surface plancher du projet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Cout travaux HT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Enjeux/contraintes spécifiqu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Compléments d’informations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14"/>
          <p:cNvSpPr/>
          <p:nvPr/>
        </p:nvSpPr>
        <p:spPr>
          <a:xfrm>
            <a:off x="179280" y="476280"/>
            <a:ext cx="5832720" cy="626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15"/>
          <p:cNvSpPr/>
          <p:nvPr/>
        </p:nvSpPr>
        <p:spPr>
          <a:xfrm>
            <a:off x="287280" y="2276640"/>
            <a:ext cx="4608720" cy="16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LLUSTRATIONS D’UNE REFERENCE DE NATURE EQUIVALENTE A L’OBJET DE LA CONSUL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Contenu lib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(images, texte, schémas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éférenc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Zone de texte 2"/>
          <p:cNvSpPr/>
          <p:nvPr/>
        </p:nvSpPr>
        <p:spPr>
          <a:xfrm>
            <a:off x="6119640" y="476280"/>
            <a:ext cx="2990880" cy="626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normAutofit/>
          </a:bodyPr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Intitulé du projet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Programm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Qualité environnementale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aitre d’ouvrag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Lieu d’exécution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aitrise d’œuvr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Responsable du proje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issions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Date de livraison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Surface plancher du projet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Cout travaux HT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Enjeux/contraintes spécifiqu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Compléments d’informations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14"/>
          <p:cNvSpPr/>
          <p:nvPr/>
        </p:nvSpPr>
        <p:spPr>
          <a:xfrm>
            <a:off x="179280" y="476280"/>
            <a:ext cx="5832720" cy="626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15"/>
          <p:cNvSpPr/>
          <p:nvPr/>
        </p:nvSpPr>
        <p:spPr>
          <a:xfrm>
            <a:off x="287280" y="2276640"/>
            <a:ext cx="4608720" cy="16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LLUSTRATIONS D’UNE REFERENCE DE NATURE EQUIVALENTE A L’OBJET DE LA CONSUL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Contenu lib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(images, texte, schémas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éférence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Zone de texte 2"/>
          <p:cNvSpPr/>
          <p:nvPr/>
        </p:nvSpPr>
        <p:spPr>
          <a:xfrm>
            <a:off x="6119640" y="476280"/>
            <a:ext cx="2990880" cy="626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normAutofit/>
          </a:bodyPr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Intitulé du projet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Programm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Qualité environnementale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aitre d’ouvrag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Lieu d’exécution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aitrise d’œuvr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Responsable du proje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issions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Date de livraison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Surface plancher du projet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Cout travaux HT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Enjeux/contraintes spécifiqu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Compléments d’informations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22320" y="1539360"/>
            <a:ext cx="7299360" cy="144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22268"/>
                </a:solidFill>
                <a:latin typeface="Arial"/>
              </a:rPr>
              <a:t>CONCOURS RESTREINT DE MAÎTRISE D’ŒUVRE SUR ESQUISSE+ POUR LA CONSTRUCTION D’UN BÂTIMENT NEUF ET LA RÉHABILITATION-EXTENSION DU BÂTIMENT BOURNEVILLE DANS LE CADRE DE LA RÉALISATION DE L’AXE EST-OUEST DU TRAMWAY DE CAEN LA MER ET DE SON INSERTION AU SEIN DE L’ETABLISSEMENT PUBLIC DE SANTÉ MENTALE (EPSM) DE CA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387440" y="2995200"/>
            <a:ext cx="6369120" cy="17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2060"/>
                </a:solidFill>
                <a:latin typeface="Arial"/>
              </a:rPr>
              <a:t>Cadre de réponse à l’appel à candida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RÉFÉRENCES B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2556000" y="907920"/>
            <a:ext cx="331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"/>
          <p:cNvSpPr/>
          <p:nvPr/>
        </p:nvSpPr>
        <p:spPr>
          <a:xfrm>
            <a:off x="3708360" y="5181480"/>
            <a:ext cx="4819680" cy="1406520"/>
          </a:xfrm>
          <a:prstGeom prst="rect">
            <a:avLst/>
          </a:prstGeom>
          <a:solidFill>
            <a:srgbClr val="ffffff"/>
          </a:solidFill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mpétence du BET : AMIA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om du BET : </a:t>
            </a:r>
            <a:r>
              <a:rPr b="0" lang="fr-FR" sz="1200" spc="-1" strike="noStrike">
                <a:solidFill>
                  <a:srgbClr val="ff0000"/>
                </a:solidFill>
                <a:latin typeface="Arial"/>
              </a:rPr>
              <a:t>A renseig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Image 2" descr=""/>
          <p:cNvPicPr/>
          <p:nvPr/>
        </p:nvPicPr>
        <p:blipFill>
          <a:blip r:embed="rId1"/>
          <a:stretch/>
        </p:blipFill>
        <p:spPr>
          <a:xfrm>
            <a:off x="395280" y="92160"/>
            <a:ext cx="205416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14"/>
          <p:cNvSpPr/>
          <p:nvPr/>
        </p:nvSpPr>
        <p:spPr>
          <a:xfrm>
            <a:off x="179280" y="476280"/>
            <a:ext cx="5832720" cy="626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15"/>
          <p:cNvSpPr/>
          <p:nvPr/>
        </p:nvSpPr>
        <p:spPr>
          <a:xfrm>
            <a:off x="287280" y="2276640"/>
            <a:ext cx="4608720" cy="16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LLUSTRATIONS D’UNE REFERENCE DE NATURE EQUIVALENTE A L’OBJET DE LA CONSUL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Contenu lib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(images, texte, schémas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éférenc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Zone de texte 2"/>
          <p:cNvSpPr/>
          <p:nvPr/>
        </p:nvSpPr>
        <p:spPr>
          <a:xfrm>
            <a:off x="6119640" y="476280"/>
            <a:ext cx="2990880" cy="626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normAutofit/>
          </a:bodyPr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Intitulé du projet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Programm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Qualité environnementale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aitre d’ouvrag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Lieu d’exécution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aitrise d’œuvr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Responsable du proje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issions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Date de livraison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Surface plancher du projet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Cout travaux HT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Enjeux/contraintes spécifiqu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Compléments d’informations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14"/>
          <p:cNvSpPr/>
          <p:nvPr/>
        </p:nvSpPr>
        <p:spPr>
          <a:xfrm>
            <a:off x="179280" y="476280"/>
            <a:ext cx="5832720" cy="626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15"/>
          <p:cNvSpPr/>
          <p:nvPr/>
        </p:nvSpPr>
        <p:spPr>
          <a:xfrm>
            <a:off x="287280" y="2276640"/>
            <a:ext cx="4608720" cy="16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LLUSTRATIONS D’UNE REFERENCE DE NATURE EQUIVALENTE A L’OBJET DE LA CONSUL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Contenu lib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(images, texte, schémas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éférenc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Zone de texte 2"/>
          <p:cNvSpPr/>
          <p:nvPr/>
        </p:nvSpPr>
        <p:spPr>
          <a:xfrm>
            <a:off x="6119640" y="476280"/>
            <a:ext cx="2990880" cy="626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normAutofit/>
          </a:bodyPr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Intitulé du projet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Programm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Qualité environnementale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aitre d’ouvrag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Lieu d’exécution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aitrise d’œuvr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Responsable du proje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issions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Date de livraison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Surface plancher du projet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Cout travaux HT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Enjeux/contraintes spécifiqu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Compléments d’informations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14"/>
          <p:cNvSpPr/>
          <p:nvPr/>
        </p:nvSpPr>
        <p:spPr>
          <a:xfrm>
            <a:off x="179280" y="476280"/>
            <a:ext cx="5832720" cy="626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5"/>
          <p:cNvSpPr/>
          <p:nvPr/>
        </p:nvSpPr>
        <p:spPr>
          <a:xfrm>
            <a:off x="287280" y="2276640"/>
            <a:ext cx="4608720" cy="16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LLUSTRATIONS D’UNE REFERENCE DE NATURE EQUIVALENTE A L’OBJET DE LA CONSUL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Contenu lib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(images, texte, schémas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éférence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Zone de texte 2"/>
          <p:cNvSpPr/>
          <p:nvPr/>
        </p:nvSpPr>
        <p:spPr>
          <a:xfrm>
            <a:off x="6119640" y="476280"/>
            <a:ext cx="2990880" cy="626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normAutofit/>
          </a:bodyPr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Intitulé du projet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Programm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Qualité environnementale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aitre d’ouvrag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Lieu d’exécution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aitrise d’œuvr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Responsable du proje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issions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Date de livraison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Surface plancher du projet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Cout travaux HT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Enjeux/contraintes spécifiqu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Compléments d’informations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114"/>
          <p:cNvSpPr/>
          <p:nvPr/>
        </p:nvSpPr>
        <p:spPr>
          <a:xfrm>
            <a:off x="179280" y="476280"/>
            <a:ext cx="5832720" cy="626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15"/>
          <p:cNvSpPr/>
          <p:nvPr/>
        </p:nvSpPr>
        <p:spPr>
          <a:xfrm>
            <a:off x="287280" y="2276640"/>
            <a:ext cx="4608720" cy="16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LLUSTRATIONS D’UNE REFERENCE DE NATURE EQUIVALENTE A L’OBJET DE LA CONSUL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Contenu lib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(images, texte, schémas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éférence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Zone de texte 2"/>
          <p:cNvSpPr/>
          <p:nvPr/>
        </p:nvSpPr>
        <p:spPr>
          <a:xfrm>
            <a:off x="6119640" y="476280"/>
            <a:ext cx="2990880" cy="626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normAutofit/>
          </a:bodyPr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Intitulé du projet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Programm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Qualité environnementale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aitre d’ouvrag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Lieu d’exécution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aitrise d’œuvr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Responsable du proje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issions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Date de livraison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Surface plancher du projet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Cout travaux HT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Enjeux/contraintes spécifiqu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Compléments d’informations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22320" y="1539360"/>
            <a:ext cx="7299360" cy="144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22268"/>
                </a:solidFill>
                <a:latin typeface="Arial"/>
              </a:rPr>
              <a:t>CONCOURS RESTREINT DE MAÎTRISE D’ŒUVRE SUR ESQUISSE+ POUR LA CONSTRUCTION D’UN BÂTIMENT NEUF ET LA RÉHABILITATION-EXTENSION DU BÂTIMENT BOURNEVILLE DANS LE CADRE DE LA RÉALISATION DE L’AXE EST-OUEST DU TRAMWAY DE CAEN LA MER ET DE SON INSERTION AU SEIN DE L’ETABLISSEMENT PUBLIC DE SANTÉ MENTALE (EPSM) DE CA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87440" y="2995200"/>
            <a:ext cx="6369120" cy="17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2060"/>
                </a:solidFill>
                <a:latin typeface="Arial"/>
              </a:rPr>
              <a:t>Cadre de réponse à l’appel à candida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RÉFÉRENCES B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556000" y="907920"/>
            <a:ext cx="331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"/>
          <p:cNvSpPr/>
          <p:nvPr/>
        </p:nvSpPr>
        <p:spPr>
          <a:xfrm>
            <a:off x="3708360" y="5181480"/>
            <a:ext cx="4819680" cy="1406520"/>
          </a:xfrm>
          <a:prstGeom prst="rect">
            <a:avLst/>
          </a:prstGeom>
          <a:solidFill>
            <a:srgbClr val="ffffff"/>
          </a:solidFill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mpétence du BET : ACOUST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om du BET : </a:t>
            </a:r>
            <a:r>
              <a:rPr b="0" lang="fr-FR" sz="1200" spc="-1" strike="noStrike">
                <a:solidFill>
                  <a:srgbClr val="ff0000"/>
                </a:solidFill>
                <a:latin typeface="Arial"/>
              </a:rPr>
              <a:t>A renseig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Image 2" descr=""/>
          <p:cNvPicPr/>
          <p:nvPr/>
        </p:nvPicPr>
        <p:blipFill>
          <a:blip r:embed="rId1"/>
          <a:stretch/>
        </p:blipFill>
        <p:spPr>
          <a:xfrm>
            <a:off x="395280" y="92160"/>
            <a:ext cx="205416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14"/>
          <p:cNvSpPr/>
          <p:nvPr/>
        </p:nvSpPr>
        <p:spPr>
          <a:xfrm>
            <a:off x="179280" y="476280"/>
            <a:ext cx="5832720" cy="626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15"/>
          <p:cNvSpPr/>
          <p:nvPr/>
        </p:nvSpPr>
        <p:spPr>
          <a:xfrm>
            <a:off x="287280" y="2276640"/>
            <a:ext cx="4608720" cy="16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LLUSTRATIONS D’UNE REFERENCE DE NATURE EQUIVALENTE A L’OBJET DE LA CONSUL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Contenu lib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(images, texte, schémas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éférenc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Zone de texte 2"/>
          <p:cNvSpPr/>
          <p:nvPr/>
        </p:nvSpPr>
        <p:spPr>
          <a:xfrm>
            <a:off x="6119640" y="476280"/>
            <a:ext cx="2990880" cy="626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normAutofit/>
          </a:bodyPr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Intitulé du projet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Programm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Qualité environnementale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aitre d’ouvrag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Lieu d’exécution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aitrise d’œuvr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Responsable du proje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issions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Date de livraison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Surface plancher du projet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Cout travaux HT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Enjeux/contraintes spécifiqu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Compléments d’informations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14"/>
          <p:cNvSpPr/>
          <p:nvPr/>
        </p:nvSpPr>
        <p:spPr>
          <a:xfrm>
            <a:off x="179280" y="476280"/>
            <a:ext cx="5832720" cy="626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15"/>
          <p:cNvSpPr/>
          <p:nvPr/>
        </p:nvSpPr>
        <p:spPr>
          <a:xfrm>
            <a:off x="287280" y="2276640"/>
            <a:ext cx="4608720" cy="16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LLUSTRATIONS D’UNE REFERENCE DE NATURE EQUIVALENTE A L’OBJET DE LA CONSUL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Contenu lib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(images, texte, schémas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éférenc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Zone de texte 2"/>
          <p:cNvSpPr/>
          <p:nvPr/>
        </p:nvSpPr>
        <p:spPr>
          <a:xfrm>
            <a:off x="6119640" y="476280"/>
            <a:ext cx="2990880" cy="626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normAutofit/>
          </a:bodyPr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Intitulé du projet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Programm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Qualité environnementale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aitre d’ouvrag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Lieu d’exécution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aitrise d’œuvr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Responsable du proje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issions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Date de livraison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Surface plancher du projet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Cout travaux HT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Enjeux/contraintes spécifiqu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Compléments d’informations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114"/>
          <p:cNvSpPr/>
          <p:nvPr/>
        </p:nvSpPr>
        <p:spPr>
          <a:xfrm>
            <a:off x="179280" y="476280"/>
            <a:ext cx="5832720" cy="626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15"/>
          <p:cNvSpPr/>
          <p:nvPr/>
        </p:nvSpPr>
        <p:spPr>
          <a:xfrm>
            <a:off x="287280" y="2276640"/>
            <a:ext cx="4608720" cy="16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LLUSTRATIONS D’UNE REFERENCE DE NATURE EQUIVALENTE A L’OBJET DE LA CONSUL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Contenu lib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(images, texte, schémas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éférence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Zone de texte 2"/>
          <p:cNvSpPr/>
          <p:nvPr/>
        </p:nvSpPr>
        <p:spPr>
          <a:xfrm>
            <a:off x="6119640" y="476280"/>
            <a:ext cx="2990880" cy="626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normAutofit/>
          </a:bodyPr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Intitulé du projet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Programm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Qualité environnementale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aitre d’ouvrag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Lieu d’exécution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aitrise d’œuvr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Responsable du proje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issions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Date de livraison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Surface plancher du projet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Cout travaux HT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Enjeux/contraintes spécifiqu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Compléments d’informations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22320" y="1539360"/>
            <a:ext cx="7299360" cy="144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22268"/>
                </a:solidFill>
                <a:latin typeface="Arial"/>
              </a:rPr>
              <a:t>CONCOURS RESTREINT DE MAÎTRISE D’ŒUVRE SUR ESQUISSE+ POUR LA CONSTRUCTION D’UN BÂTIMENT NEUF ET LA RÉHABILITATION-EXTENSION DU BÂTIMENT BOURNEVILLE DANS LE CADRE DE LA RÉALISATION DE L’AXE EST-OUEST DU TRAMWAY DE CAEN LA MER ET DE SON INSERTION AU SEIN DE L’ETABLISSEMENT PUBLIC DE SANTÉ MENTALE (EPSM) DE CA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387440" y="2995200"/>
            <a:ext cx="6369120" cy="17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2060"/>
                </a:solidFill>
                <a:latin typeface="Arial"/>
              </a:rPr>
              <a:t>Cadre de réponse à l’appel à candida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RÉFÉRENCES B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2556000" y="907920"/>
            <a:ext cx="331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"/>
          <p:cNvSpPr/>
          <p:nvPr/>
        </p:nvSpPr>
        <p:spPr>
          <a:xfrm>
            <a:off x="3708360" y="5181480"/>
            <a:ext cx="4819680" cy="1406520"/>
          </a:xfrm>
          <a:prstGeom prst="rect">
            <a:avLst/>
          </a:prstGeom>
          <a:solidFill>
            <a:srgbClr val="ffffff"/>
          </a:solidFill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mpétence du BET : CS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om du BET : </a:t>
            </a:r>
            <a:r>
              <a:rPr b="0" lang="fr-FR" sz="1200" spc="-1" strike="noStrike">
                <a:solidFill>
                  <a:srgbClr val="ff0000"/>
                </a:solidFill>
                <a:latin typeface="Arial"/>
              </a:rPr>
              <a:t>A renseig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Image 2" descr=""/>
          <p:cNvPicPr/>
          <p:nvPr/>
        </p:nvPicPr>
        <p:blipFill>
          <a:blip r:embed="rId1"/>
          <a:stretch/>
        </p:blipFill>
        <p:spPr>
          <a:xfrm>
            <a:off x="395280" y="92160"/>
            <a:ext cx="205416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114"/>
          <p:cNvSpPr/>
          <p:nvPr/>
        </p:nvSpPr>
        <p:spPr>
          <a:xfrm>
            <a:off x="179280" y="476280"/>
            <a:ext cx="5832720" cy="626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15"/>
          <p:cNvSpPr/>
          <p:nvPr/>
        </p:nvSpPr>
        <p:spPr>
          <a:xfrm>
            <a:off x="287280" y="2276640"/>
            <a:ext cx="4608720" cy="16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LLUSTRATIONS D’UNE REFERENCE DE NATURE EQUIVALENTE A L’OBJET DE LA CONSUL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Contenu lib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(images, texte, schémas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éférenc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Zone de texte 2"/>
          <p:cNvSpPr/>
          <p:nvPr/>
        </p:nvSpPr>
        <p:spPr>
          <a:xfrm>
            <a:off x="6119640" y="476280"/>
            <a:ext cx="2990880" cy="626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normAutofit/>
          </a:bodyPr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Intitulé du projet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Programm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Qualité environnementale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aitre d’ouvrag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Lieu d’exécution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aitrise d’œuvr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Responsable du proje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issions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Date de livraison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Surface plancher du projet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Cout travaux HT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Enjeux/contraintes spécifiqu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Compléments d’informations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114"/>
          <p:cNvSpPr/>
          <p:nvPr/>
        </p:nvSpPr>
        <p:spPr>
          <a:xfrm>
            <a:off x="179280" y="476280"/>
            <a:ext cx="5832720" cy="626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15"/>
          <p:cNvSpPr/>
          <p:nvPr/>
        </p:nvSpPr>
        <p:spPr>
          <a:xfrm>
            <a:off x="287280" y="2276640"/>
            <a:ext cx="4608720" cy="16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LLUSTRATIONS D’UNE REFERENCE DE NATURE EQUIVALENTE A L’OBJET DE LA CONSUL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Contenu lib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(images, texte, schémas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éférenc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Zone de texte 2"/>
          <p:cNvSpPr/>
          <p:nvPr/>
        </p:nvSpPr>
        <p:spPr>
          <a:xfrm>
            <a:off x="6119640" y="476280"/>
            <a:ext cx="2990880" cy="626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normAutofit/>
          </a:bodyPr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Intitulé du projet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Programm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Qualité environnementale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aitre d’ouvrag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Lieu d’exécution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aitrise d’œuvr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Responsable du proje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issions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Date de livraison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Surface plancher du projet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Cout travaux HT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Enjeux/contraintes spécifiqu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Compléments d’informations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114"/>
          <p:cNvSpPr/>
          <p:nvPr/>
        </p:nvSpPr>
        <p:spPr>
          <a:xfrm>
            <a:off x="179280" y="476280"/>
            <a:ext cx="5832720" cy="626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15"/>
          <p:cNvSpPr/>
          <p:nvPr/>
        </p:nvSpPr>
        <p:spPr>
          <a:xfrm>
            <a:off x="287280" y="2276640"/>
            <a:ext cx="4608720" cy="16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LLUSTRATIONS D’UNE REFERENCE DE NATURE EQUIVALENTE A L’OBJET DE LA CONSUL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Contenu lib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(images, texte, schémas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éférence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Zone de texte 2"/>
          <p:cNvSpPr/>
          <p:nvPr/>
        </p:nvSpPr>
        <p:spPr>
          <a:xfrm>
            <a:off x="6119640" y="476280"/>
            <a:ext cx="2990880" cy="626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normAutofit/>
          </a:bodyPr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Intitulé du projet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Programm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Qualité environnementale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aitre d’ouvrag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Lieu d’exécution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aitrise d’œuvr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Responsable du proje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issions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Date de livraison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Surface plancher du projet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Cout travaux HT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Enjeux/contraintes spécifiqu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Compléments d’informations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22320" y="1539360"/>
            <a:ext cx="7299360" cy="144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22268"/>
                </a:solidFill>
                <a:latin typeface="Arial"/>
              </a:rPr>
              <a:t>CONCOURS RESTREINT DE MAÎTRISE D’ŒUVRE SUR ESQUISSE+ POUR LA CONSTRUCTION D’UN BÂTIMENT NEUF ET LA RÉHABILITATION-EXTENSION DU BÂTIMENT BOURNEVILLE DANS LE CADRE DE LA RÉALISATION DE L’AXE EST-OUEST DU TRAMWAY DE CAEN LA MER ET DE SON INSERTION AU SEIN DE L’ETABLISSEMENT PUBLIC DE SANTÉ MENTALE (EPSM) DE CA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387440" y="2995200"/>
            <a:ext cx="6369120" cy="17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2060"/>
                </a:solidFill>
                <a:latin typeface="Arial"/>
              </a:rPr>
              <a:t>Cadre de réponse à l’appel à candida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RÉFÉRENCES B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2556000" y="907920"/>
            <a:ext cx="331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"/>
          <p:cNvSpPr/>
          <p:nvPr/>
        </p:nvSpPr>
        <p:spPr>
          <a:xfrm>
            <a:off x="3708360" y="5181480"/>
            <a:ext cx="4819680" cy="1406520"/>
          </a:xfrm>
          <a:prstGeom prst="rect">
            <a:avLst/>
          </a:prstGeom>
          <a:solidFill>
            <a:srgbClr val="ffffff"/>
          </a:solidFill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mpétence du BET : O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om du BET : </a:t>
            </a:r>
            <a:r>
              <a:rPr b="0" lang="fr-FR" sz="1200" spc="-1" strike="noStrike">
                <a:solidFill>
                  <a:srgbClr val="ff0000"/>
                </a:solidFill>
                <a:latin typeface="Arial"/>
              </a:rPr>
              <a:t>A renseig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Image 2" descr=""/>
          <p:cNvPicPr/>
          <p:nvPr/>
        </p:nvPicPr>
        <p:blipFill>
          <a:blip r:embed="rId1"/>
          <a:stretch/>
        </p:blipFill>
        <p:spPr>
          <a:xfrm>
            <a:off x="395280" y="92160"/>
            <a:ext cx="205416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22320" y="1539360"/>
            <a:ext cx="7299360" cy="144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22268"/>
                </a:solidFill>
                <a:latin typeface="Arial"/>
              </a:rPr>
              <a:t>CONCOURS RESTREINT DE MAÎTRISE D’ŒUVRE SUR ESQUISSE+ POUR LA CONSTRUCTION D’UN BÂTIMENT NEUF ET LA RÉHABILITATION-EXTENSION DU BÂTIMENT BOURNEVILLE DANS LE CADRE DE LA RÉALISATION DE L’AXE EST-OUEST DU TRAMWAY DE CAEN LA MER ET DE SON INSERTION AU SEIN DE L’ETABLISSEMENT PUBLIC DE SANTÉ MENTALE (EPSM) DE CA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87440" y="2995200"/>
            <a:ext cx="6369120" cy="17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2060"/>
                </a:solidFill>
                <a:latin typeface="Arial"/>
              </a:rPr>
              <a:t>Cadre de réponse à l’appel à candida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RÉFÉRENCES B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2556000" y="907920"/>
            <a:ext cx="331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"/>
          <p:cNvSpPr/>
          <p:nvPr/>
        </p:nvSpPr>
        <p:spPr>
          <a:xfrm>
            <a:off x="3708360" y="5181480"/>
            <a:ext cx="4819680" cy="1406520"/>
          </a:xfrm>
          <a:prstGeom prst="rect">
            <a:avLst/>
          </a:prstGeom>
          <a:solidFill>
            <a:srgbClr val="ffffff"/>
          </a:solidFill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mpétence du BET : ECONOMIE DE LA CO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om du BET : </a:t>
            </a:r>
            <a:r>
              <a:rPr b="0" lang="fr-FR" sz="1200" spc="-1" strike="noStrike">
                <a:solidFill>
                  <a:srgbClr val="ff0000"/>
                </a:solidFill>
                <a:latin typeface="Arial"/>
              </a:rPr>
              <a:t>A renseig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Image 2" descr=""/>
          <p:cNvPicPr/>
          <p:nvPr/>
        </p:nvPicPr>
        <p:blipFill>
          <a:blip r:embed="rId1"/>
          <a:stretch/>
        </p:blipFill>
        <p:spPr>
          <a:xfrm>
            <a:off x="395280" y="92160"/>
            <a:ext cx="205416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114"/>
          <p:cNvSpPr/>
          <p:nvPr/>
        </p:nvSpPr>
        <p:spPr>
          <a:xfrm>
            <a:off x="179280" y="476280"/>
            <a:ext cx="5832720" cy="626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15"/>
          <p:cNvSpPr/>
          <p:nvPr/>
        </p:nvSpPr>
        <p:spPr>
          <a:xfrm>
            <a:off x="287280" y="2276640"/>
            <a:ext cx="4608720" cy="16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LLUSTRATIONS D’UNE REFERENCE DE NATURE EQUIVALENTE A L’OBJET DE LA CONSUL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Contenu lib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(images, texte, schémas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éférenc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Zone de texte 2"/>
          <p:cNvSpPr/>
          <p:nvPr/>
        </p:nvSpPr>
        <p:spPr>
          <a:xfrm>
            <a:off x="6119640" y="476280"/>
            <a:ext cx="2990880" cy="626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normAutofit/>
          </a:bodyPr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Intitulé du projet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Programm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Qualité environnementale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aitre d’ouvrag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Lieu d’exécution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aitrise d’œuvr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Responsable du proje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issions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Date de livraison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Surface plancher du projet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Cout travaux HT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Enjeux/contraintes spécifiqu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Compléments d’informations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14"/>
          <p:cNvSpPr/>
          <p:nvPr/>
        </p:nvSpPr>
        <p:spPr>
          <a:xfrm>
            <a:off x="179280" y="476280"/>
            <a:ext cx="5832720" cy="626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15"/>
          <p:cNvSpPr/>
          <p:nvPr/>
        </p:nvSpPr>
        <p:spPr>
          <a:xfrm>
            <a:off x="287280" y="2276640"/>
            <a:ext cx="4608720" cy="16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LLUSTRATIONS D’UNE REFERENCE DE NATURE EQUIVALENTE A L’OBJET DE LA CONSUL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Contenu lib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(images, texte, schémas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éférenc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Zone de texte 2"/>
          <p:cNvSpPr/>
          <p:nvPr/>
        </p:nvSpPr>
        <p:spPr>
          <a:xfrm>
            <a:off x="6119640" y="476280"/>
            <a:ext cx="2990880" cy="626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normAutofit/>
          </a:bodyPr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Intitulé du projet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Programm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Qualité environnementale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aitre d’ouvrag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Lieu d’exécution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aitrise d’œuvr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Responsable du proje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issions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Date de livraison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Surface plancher du projet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Cout travaux HT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Enjeux/contraintes spécifiqu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Compléments d’informations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114"/>
          <p:cNvSpPr/>
          <p:nvPr/>
        </p:nvSpPr>
        <p:spPr>
          <a:xfrm>
            <a:off x="179280" y="476280"/>
            <a:ext cx="5832720" cy="626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15"/>
          <p:cNvSpPr/>
          <p:nvPr/>
        </p:nvSpPr>
        <p:spPr>
          <a:xfrm>
            <a:off x="287280" y="2276640"/>
            <a:ext cx="4608720" cy="16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LLUSTRATIONS D’UNE REFERENCE DE NATURE EQUIVALENTE A L’OBJET DE LA CONSUL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Contenu lib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(images, texte, schémas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éférence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Zone de texte 2"/>
          <p:cNvSpPr/>
          <p:nvPr/>
        </p:nvSpPr>
        <p:spPr>
          <a:xfrm>
            <a:off x="6119640" y="476280"/>
            <a:ext cx="2990880" cy="626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normAutofit/>
          </a:bodyPr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Intitulé du projet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Programm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Qualité environnementale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aitre d’ouvrag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Lieu d’exécution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aitrise d’œuvr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Responsable du proje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issions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Date de livraison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Surface plancher du projet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Cout travaux HT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Enjeux/contraintes spécifiqu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Compléments d’informations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14"/>
          <p:cNvSpPr/>
          <p:nvPr/>
        </p:nvSpPr>
        <p:spPr>
          <a:xfrm>
            <a:off x="179280" y="476280"/>
            <a:ext cx="5832720" cy="626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5"/>
          <p:cNvSpPr/>
          <p:nvPr/>
        </p:nvSpPr>
        <p:spPr>
          <a:xfrm>
            <a:off x="287280" y="2276640"/>
            <a:ext cx="4608720" cy="16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LLUSTRATIONS D’UNE REFERENCE DE NATURE EQUIVALENTE A L’OBJET DE LA CONSUL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Contenu lib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(images, texte, schémas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éférenc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Zone de texte 2"/>
          <p:cNvSpPr/>
          <p:nvPr/>
        </p:nvSpPr>
        <p:spPr>
          <a:xfrm>
            <a:off x="6119640" y="476280"/>
            <a:ext cx="2990880" cy="626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normAutofit/>
          </a:bodyPr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Intitulé du projet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Programm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Qualité environnementale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aitre d’ouvrag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Lieu d’exécution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aitrise d’œuvr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Responsable du proje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issions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Date de livraison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Surface plancher du projet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Cout travaux HT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Enjeux/contraintes spécifiqu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Compléments d’informations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14"/>
          <p:cNvSpPr/>
          <p:nvPr/>
        </p:nvSpPr>
        <p:spPr>
          <a:xfrm>
            <a:off x="179280" y="476280"/>
            <a:ext cx="5832720" cy="626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15"/>
          <p:cNvSpPr/>
          <p:nvPr/>
        </p:nvSpPr>
        <p:spPr>
          <a:xfrm>
            <a:off x="287280" y="2276640"/>
            <a:ext cx="4608720" cy="16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LLUSTRATIONS D’UNE REFERENCE DE NATURE EQUIVALENTE A L’OBJET DE LA CONSUL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Contenu lib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(images, texte, schémas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éférenc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Zone de texte 2"/>
          <p:cNvSpPr/>
          <p:nvPr/>
        </p:nvSpPr>
        <p:spPr>
          <a:xfrm>
            <a:off x="6119640" y="476280"/>
            <a:ext cx="2990880" cy="626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normAutofit/>
          </a:bodyPr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Intitulé du projet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Programm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Qualité environnementale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aitre d’ouvrag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Lieu d’exécution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aitrise d’œuvr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Responsable du proje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issions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Date de livraison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Surface plancher du projet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Cout travaux HT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Enjeux/contraintes spécifiqu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Compléments d’informations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14"/>
          <p:cNvSpPr/>
          <p:nvPr/>
        </p:nvSpPr>
        <p:spPr>
          <a:xfrm>
            <a:off x="179280" y="476280"/>
            <a:ext cx="5832720" cy="626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15"/>
          <p:cNvSpPr/>
          <p:nvPr/>
        </p:nvSpPr>
        <p:spPr>
          <a:xfrm>
            <a:off x="287280" y="2276640"/>
            <a:ext cx="4608720" cy="16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LLUSTRATIONS D’UNE REFERENCE DE NATURE EQUIVALENTE A L’OBJET DE LA CONSUL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Contenu lib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(images, texte, schémas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éférence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one de texte 2"/>
          <p:cNvSpPr/>
          <p:nvPr/>
        </p:nvSpPr>
        <p:spPr>
          <a:xfrm>
            <a:off x="6119640" y="476280"/>
            <a:ext cx="2990880" cy="626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normAutofit/>
          </a:bodyPr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Intitulé du projet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Programm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Qualité environnementale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aitre d’ouvrag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Lieu d’exécution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aitrise d’œuvr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Responsable du proje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issions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Date de livraison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Surface plancher du projet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Cout travaux HT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Enjeux/contraintes spécifiqu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Compléments d’informations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22320" y="1539360"/>
            <a:ext cx="7299360" cy="144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22268"/>
                </a:solidFill>
                <a:latin typeface="Arial"/>
              </a:rPr>
              <a:t>CONCOURS RESTREINT DE MAÎTRISE D’ŒUVRE SUR ESQUISSE+ POUR LA CONSTRUCTION D’UN BÂTIMENT NEUF ET LA RÉHABILITATION-EXTENSION DU BÂTIMENT BOURNEVILLE DANS LE CADRE DE LA RÉALISATION DE L’AXE EST-OUEST DU TRAMWAY DE CAEN LA MER ET DE SON INSERTION AU SEIN DE L’ETABLISSEMENT PUBLIC DE SANTÉ MENTALE (EPSM) DE CA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87440" y="2995200"/>
            <a:ext cx="6369120" cy="17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2060"/>
                </a:solidFill>
                <a:latin typeface="Arial"/>
              </a:rPr>
              <a:t>Cadre de réponse à l’appel à candida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RÉFÉRENCES B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2556000" y="907920"/>
            <a:ext cx="331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"/>
          <p:cNvSpPr/>
          <p:nvPr/>
        </p:nvSpPr>
        <p:spPr>
          <a:xfrm>
            <a:off x="3708360" y="5181480"/>
            <a:ext cx="4819680" cy="1406520"/>
          </a:xfrm>
          <a:prstGeom prst="rect">
            <a:avLst/>
          </a:prstGeom>
          <a:solidFill>
            <a:srgbClr val="ffffff"/>
          </a:solidFill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mpétence du BET : V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om du BET : </a:t>
            </a:r>
            <a:r>
              <a:rPr b="0" lang="fr-FR" sz="1200" spc="-1" strike="noStrike">
                <a:solidFill>
                  <a:srgbClr val="ff0000"/>
                </a:solidFill>
                <a:latin typeface="Arial"/>
              </a:rPr>
              <a:t>A renseig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Image 2" descr=""/>
          <p:cNvPicPr/>
          <p:nvPr/>
        </p:nvPicPr>
        <p:blipFill>
          <a:blip r:embed="rId1"/>
          <a:stretch/>
        </p:blipFill>
        <p:spPr>
          <a:xfrm>
            <a:off x="395280" y="92160"/>
            <a:ext cx="205416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20T15:44:18Z</dcterms:created>
  <dc:creator>ALAIN</dc:creator>
  <dc:description/>
  <cp:keywords/>
  <dc:language>en-US</dc:language>
  <cp:lastModifiedBy>TOUTAIN Antonin</cp:lastModifiedBy>
  <cp:lastPrinted>2021-09-06T10:52:10Z</cp:lastPrinted>
  <dcterms:modified xsi:type="dcterms:W3CDTF">2025-02-11T10:03:00Z</dcterms:modified>
  <cp:revision>52</cp:revision>
  <dc:subject/>
  <dc:title>Construction d’une crèche dans le parc de la Bergère</dc:title>
</cp:coreProperties>
</file>