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4B8-8681-454A-BECC-F8152624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0C8-B78C-42E0-8721-A71CA86D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246-488D-4A56-ACF8-EB20D917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25B-FCF3-4372-9799-70368628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170-D4BF-486C-9138-0122D2D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590-7B5C-422A-BF69-3BDB0884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EE4-F7B7-46F5-8835-8111FB8D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E62-F20D-4C6C-BD9D-02D90E8D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F4C-2AF2-4FEE-AD75-8DF4C15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FD7-8D2E-4997-8AEE-0A660DD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AE5-0D19-4FE4-AD02-93981AB6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F43-D1AF-42C8-AEA4-BEA9F57D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D9D2-6DEB-45FC-AB91-3FA69DBFE45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2320" y="1539360"/>
            <a:ext cx="7299360" cy="14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22268"/>
                </a:solidFill>
                <a:latin typeface="Arial"/>
              </a:rPr>
              <a:t>CONCOURS RESTREINT DE MAÎTRISE D’ŒUVRE SUR ESQUISSE+ POUR LA CONSTRUCTION D’UN BÂTIMENT NEUF ET LA RÉHABILITATION-EXTENSION DU BÂTIMENT BOURNEVILLE DANS LE CADRE DE LA RÉALISATION DE L’AXE EST-OUEST DU TRAMWAY DE CAEN LA MER ET DE SON INSERTION AU SEIN DE L’ETABLISSEMENT PUBLIC DE SANTÉ MENTALE (EPSM) DE CA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87440" y="2995200"/>
            <a:ext cx="6369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adre de réponse à l’appel à candid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Arial"/>
              </a:rPr>
              <a:t>RÉFÉRENCES DE L’ARCHITECTE MANDA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556000" y="90792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3708360" y="5181480"/>
            <a:ext cx="4819680" cy="140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m de l’Architecte mandataire : </a:t>
            </a:r>
            <a:r>
              <a:rPr b="0" lang="fr-FR" sz="1200" spc="-1" strike="noStrike">
                <a:solidFill>
                  <a:srgbClr val="ff0000"/>
                </a:solidFill>
                <a:latin typeface="Arial"/>
              </a:rPr>
              <a:t>A rense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2" descr=""/>
          <p:cNvPicPr/>
          <p:nvPr/>
        </p:nvPicPr>
        <p:blipFill>
          <a:blip r:embed="rId1"/>
          <a:stretch/>
        </p:blipFill>
        <p:spPr>
          <a:xfrm>
            <a:off x="395280" y="92160"/>
            <a:ext cx="20541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14"/>
          <p:cNvSpPr/>
          <p:nvPr/>
        </p:nvSpPr>
        <p:spPr>
          <a:xfrm>
            <a:off x="179280" y="476280"/>
            <a:ext cx="5832720" cy="62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5"/>
          <p:cNvSpPr/>
          <p:nvPr/>
        </p:nvSpPr>
        <p:spPr>
          <a:xfrm>
            <a:off x="287280" y="2276640"/>
            <a:ext cx="460872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LLUSTRATIONS D’UNE REFERENCE DE NATURE EQUIVALENTE A L’OBJET DE LA CONSUL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ontenu li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images, texte, schéma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ce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 de texte 2"/>
          <p:cNvSpPr/>
          <p:nvPr/>
        </p:nvSpPr>
        <p:spPr>
          <a:xfrm>
            <a:off x="6119640" y="476280"/>
            <a:ext cx="2990880" cy="62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t">
            <a:normAutofit/>
          </a:bodyPr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Intitulé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Programm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Qualité environnemental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e d’ouvrag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Lieu d’exécution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aitrise d’œuvr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Responsable du proje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Miss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Date de livrais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Surface plancher du projet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ut travaux H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Enjeux/contraintes spécifiqu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Compléments d’informations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0T15:44:18Z</dcterms:created>
  <dc:creator>ALAIN</dc:creator>
  <dc:description/>
  <cp:keywords/>
  <dc:language>en-US</dc:language>
  <cp:lastModifiedBy>TOUTAIN Antonin</cp:lastModifiedBy>
  <cp:lastPrinted>2021-09-06T10:52:10Z</cp:lastPrinted>
  <dcterms:modified xsi:type="dcterms:W3CDTF">2025-01-16T12:03:15Z</dcterms:modified>
  <cp:revision>50</cp:revision>
  <dc:subject/>
  <dc:title>Construction d’une crèche dans le parc de la Bergère</dc:title>
</cp:coreProperties>
</file>