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Tableau 2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habilitation - Reconstruction du Centre Hospitalier de Chemillé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5-01-08T10:57:44Z</dcterms:modified>
  <cp:revision>1</cp:revision>
  <dc:subject/>
  <dc:title/>
</cp:coreProperties>
</file>