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8D0-C18D-47F7-9195-78C1E6DE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B45-6210-4B25-B931-ADF6AB5B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076-AAC0-48D8-99B9-D0B6DCFE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7CD-57E5-40F9-84B8-C42E80BD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2B5-02A9-410E-A76D-EB414C21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CE8-ACFF-4DF5-86D4-7CCC0DBB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6C3-42C6-42A8-BC52-410391F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F74-925F-4AEC-8ED8-A5566389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29C-05F4-4592-9296-4153FE9E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3A2-DF14-4E2D-8F48-27B40FF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BB3-EE9D-4137-A150-C4EF5EF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02F-5372-4254-9E6A-7138C6B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D8A6-CC05-4F17-A34C-FE36BD875F6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lan pisc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3" name="Line 39"/>
          <p:cNvSpPr/>
          <p:nvPr/>
        </p:nvSpPr>
        <p:spPr>
          <a:xfrm>
            <a:off x="7362720" y="6605640"/>
            <a:ext cx="433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2"/>
          <p:cNvSpPr/>
          <p:nvPr/>
        </p:nvSpPr>
        <p:spPr>
          <a:xfrm>
            <a:off x="7796160" y="648324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ffluents contamin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4"/>
          <p:cNvSpPr/>
          <p:nvPr/>
        </p:nvSpPr>
        <p:spPr>
          <a:xfrm>
            <a:off x="6732720" y="4680000"/>
            <a:ext cx="0" cy="681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6516720" y="5361120"/>
            <a:ext cx="431640" cy="2998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60840" y="5361120"/>
            <a:ext cx="433440" cy="2998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4"/>
          <p:cNvSpPr/>
          <p:nvPr/>
        </p:nvSpPr>
        <p:spPr>
          <a:xfrm flipH="1">
            <a:off x="684360" y="571176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9"/>
          <p:cNvSpPr/>
          <p:nvPr/>
        </p:nvSpPr>
        <p:spPr>
          <a:xfrm>
            <a:off x="4994280" y="5511960"/>
            <a:ext cx="1522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0"/>
          <p:cNvCxnSpPr>
            <a:stCxn id="46" idx="2"/>
          </p:cNvCxnSpPr>
          <p:nvPr/>
        </p:nvCxnSpPr>
        <p:spPr>
          <a:xfrm rot="5400000">
            <a:off x="4258080" y="3237480"/>
            <a:ext cx="51120" cy="4897800"/>
          </a:xfrm>
          <a:prstGeom prst="bentConnector3">
            <a:avLst>
              <a:gd name="adj1" fmla="val 471631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3"/>
          <p:cNvSpPr/>
          <p:nvPr/>
        </p:nvSpPr>
        <p:spPr>
          <a:xfrm>
            <a:off x="6946920" y="5497560"/>
            <a:ext cx="83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egard 1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973920" y="5361120"/>
            <a:ext cx="285840" cy="16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6"/>
          <p:cNvSpPr/>
          <p:nvPr/>
        </p:nvSpPr>
        <p:spPr>
          <a:xfrm>
            <a:off x="3635280" y="5392800"/>
            <a:ext cx="93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egard 2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onnecteur en angle 17"/>
          <p:cNvCxnSpPr/>
          <p:nvPr/>
        </p:nvCxnSpPr>
        <p:spPr>
          <a:xfrm flipH="1" flipV="1" rot="10800000">
            <a:off x="539280" y="5758920"/>
            <a:ext cx="937440" cy="612000"/>
          </a:xfrm>
          <a:prstGeom prst="bentConnector3">
            <a:avLst>
              <a:gd name="adj1" fmla="val -2074"/>
            </a:avLst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5" name="ZoneTexte 21"/>
          <p:cNvSpPr/>
          <p:nvPr/>
        </p:nvSpPr>
        <p:spPr>
          <a:xfrm>
            <a:off x="1409760" y="6173640"/>
            <a:ext cx="998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ejet vers eaux usé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4"/>
          <p:cNvSpPr/>
          <p:nvPr/>
        </p:nvSpPr>
        <p:spPr>
          <a:xfrm>
            <a:off x="4778280" y="4664160"/>
            <a:ext cx="0" cy="681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4211640" y="1989000"/>
            <a:ext cx="3151080" cy="316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3"/>
          <p:cNvSpPr/>
          <p:nvPr/>
        </p:nvSpPr>
        <p:spPr>
          <a:xfrm>
            <a:off x="5143680" y="3203640"/>
            <a:ext cx="1223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ONE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4:50:00Z</dcterms:created>
  <dc:creator>D. Rigaudeau</dc:creator>
  <dc:description/>
  <dc:language>en-US</dc:language>
  <cp:lastModifiedBy>Dimitri</cp:lastModifiedBy>
  <cp:lastPrinted>2018-06-20T08:39:40Z</cp:lastPrinted>
  <dcterms:modified xsi:type="dcterms:W3CDTF">2023-11-27T08:39:54Z</dcterms:modified>
  <cp:revision>27</cp:revision>
  <dc:subject/>
  <dc:title>Diapositive 1</dc:title>
</cp:coreProperties>
</file>