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86F-C505-49FD-B671-B24532FC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79E-3EC0-4C37-A1CF-16A51EA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4E9E3B-EDC9-4E2A-80D1-B7E2D9E4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4D73D3-130D-44A2-BF15-48541EBE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B692C-7589-4B49-9E4F-3041132E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E71B6C-5F07-4F92-878A-B846BBD1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6F7CFF-87E1-48B7-9FCD-C7A2BB7C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BE6A2-C4B9-4869-B0D3-F7505AD0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B4AC2C-A3FA-43BD-9D17-104A9B8C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F2388-D968-4B92-99CE-942CE38B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826E4-CFD6-488C-89E1-C9C14351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A550E5-0053-48B2-B2A4-0B401C97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5FA-88B6-4A81-89BA-C6930C5B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C640CC-55D4-42D6-B1F8-0B75E13E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FCBBF6-CF72-48AE-8F31-8B642E88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98C282-F1D4-45EA-9DDE-00A58D1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70557D-95F8-4289-8C37-83F9B226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4032B-1D76-4F09-AC4A-4D2AAC93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2EFF80-5008-4EB2-87ED-9A13A02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B2D55D-F119-4974-8F76-8962A3BA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31573F-50EB-4D61-B47A-C541605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18D56-DCD6-4E6A-96F8-D80AAE68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6051BB-228F-4986-AC6C-71FF7484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CBD-30ED-405C-BEA9-868876BE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46309E-FD7F-4C79-BCB8-3D6F7ABB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2EFA9D-D8C2-4344-AEAF-4B6E54BA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0BC70F-9784-4A7F-A7DC-62050C49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226030-8F80-4FB9-890E-9B96FA32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88010A-0F04-469A-B7CC-51D033A6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F995BB-95F4-4BE4-8B1C-36192864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3E4F4C-9727-4ED7-B9AB-3666A136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DB06A0-B703-4017-85AE-0CF072DA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D921A7-C00E-487B-AEE6-27B6EB94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97433D-11E4-4F94-8D93-D73C8E3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4A730-5DAE-4A5D-B1AF-2F28BDEC0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C2A956-DED5-4C58-89B0-6DB5977E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461343-6A6C-4165-82C3-1FDC8F40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F4323D-BE4F-4D81-8A0D-A2248848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34A49A-6607-4842-ADC0-04E85D44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9D112F-D4D6-4CE6-B72D-4209E661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36EF1B-FCF6-4DF7-9090-87F4B1C5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AE0815-E6CF-4E87-AB2A-FEB2E52D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DA224A-CA64-457A-A91E-400D4801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FA8A7C-6A4E-42F0-AB48-825EBA65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18951E-B191-4661-88D0-9D97F3A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6C884-A16A-4CC6-A7D0-BBA8B3AF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1AFD4E-8223-484B-858B-59838414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D3B88E-7B86-4E32-A20E-5CB8862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D58853-BFB9-4790-89C5-EE655523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CA7E30-07F2-4985-BBE4-EFA0EEBC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657C30-3537-4127-9D8E-F987249C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B98D4-8D5B-4676-AA86-19A84CF3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7EFD7-72CC-4D58-A833-14A87C87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74315-4D77-4E95-AE74-0243D18F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B6580-AE44-4B00-A40B-C2AD1E91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3FD41-0437-4BED-92AD-74E6BAE8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2E3-B844-40B4-839D-F2F4330D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9C5F2-7462-4CF2-B30F-2AF09EBD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53126-A3D8-40BB-86C9-D2AE9E9D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90459-387E-4C2A-BFFA-CAC7F976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57273-D330-4302-8EB1-6E01A17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51CFA-F1F5-49D1-9F26-344DD3DA3E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DC369-61F2-4431-9213-56F1EEC0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A18E5-109E-4646-A4A6-99B81827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DD3FF-9DB4-4F7C-8550-AE34916A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78025-EAEB-453A-A675-1F08B4A1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DE3D2-AA44-4EC6-A6FD-A951B081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CEB-970C-4653-8696-989939A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C2214-7C0E-4689-9DF8-07D0320B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AF0D6-8325-4F12-A8CC-91BA40D2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B504B-11AB-46F2-B10E-E9EF5A9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7EA53-7C34-4F00-BF19-2D98AEC7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B288C-85A7-4F96-91AF-C25D5091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63DFA-A99A-4831-B517-A7193DC5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513FC-07F0-41E6-B50F-ED0C8772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B6B14-52A3-4967-BE57-A07490F5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DDE10-47A7-45F0-AE38-56069CCC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6B6FA-E495-4C9F-A1D5-8A19700A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A7E-B8C7-4AC3-AF35-5EA064F8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E1FFB-1DBC-4599-B7A7-5EA23473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BE5CA-8A06-45A5-A624-8E720593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9DA66-54AD-4657-BB80-8C3C9232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9EB53-2BC8-4D51-8A98-264351C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1C67A-B62D-4972-BAC7-77803732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0D758-4624-4D46-A6F5-C928553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F3517-362B-47F0-954E-F855C644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AAF77-9479-4FCE-B503-9B4C2385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443F4-91A5-4BFD-952C-35FCC292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CF4C2-0233-447F-88C7-05867FDC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81A-9E12-4249-B2F6-180AEDA8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DE1A5-6AED-4177-B60B-DF9670AC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BD357-6346-4A34-933A-0687EDD3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307F7-D240-40E8-AB05-9A4605AB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031D4-2F6C-4829-AE56-8B75E961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BED7D-7366-4736-A2F8-932A3A0E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8E781-EC47-4769-A452-C83EB1D4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F90DC-8FB4-4BE1-B028-F536961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BBB3E-2C42-464A-A2EA-4EFECD1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DCD48-0D1B-4337-91E7-803715C5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FA1A3-DAB3-464A-9CF8-DDB07D95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691-C3BB-4217-9B72-EE0C56B8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0BF91-8A4A-42F5-AFAA-04702177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32DA0-8BD2-426F-B958-F37E531B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5B338-FB91-4BA1-9FD4-FEC0680C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D5CD9-734A-4362-A4C9-556B0BD1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FA247-F980-4783-88DE-64358DF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36328-C852-483A-BB88-DDEA80DA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D8840-BAB3-4D82-843D-6A43B523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453AA-94A2-47CD-AA91-A62CD83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EC7AE-735D-4959-BE26-43968C1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C3503-387B-4507-813F-84773D4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FE9-1C14-46B1-BD55-60571428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B4F27-A245-4D34-92D7-9407E0F6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AF963-DF42-4FAC-8FD8-BEA6D31C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2E495-11D5-4423-97FD-B6309898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615CC-9544-4D54-91D2-F6FE770C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1B929-10B8-499D-8AB9-9081A81B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1F444-3F76-48AA-86EB-578AE440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C9006-A204-46AC-BE76-CE1BB233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062AD-1FD4-41EA-B74F-FDB6D5B3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A4A4F-99FE-4512-AB27-9CE00BE2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1D633-CE0D-4ACF-9830-0F2E69D2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1C5-8286-485B-9927-24A6111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39275-BD8F-482D-B946-058AB01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01256-1BA1-4DF8-8FF3-377AA364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95D81-59B1-4908-992F-AF2FA2BF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23F5C-4457-4F8E-B67E-1B10A869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ED235-20C3-4FF2-94C1-DD4DEFA1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4EAD2-6E0A-4889-99F2-ADB3BA41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830325-EE96-46A3-8512-247D3983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90414-81AF-4C33-9A67-4FEA98D9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B3137-27DA-4418-A8D8-6472F9E5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BFB6F6-41A7-48F5-9164-151BD3FA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72B-6CDD-4F74-B3E5-9D76417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A3765-67B7-4933-BDF6-83DAAB7B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8E7B2-E11F-4DA0-B265-30C3C798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799216-DEA8-49AF-AA62-9697A726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548CC-B7BF-45CD-83B7-32D6067B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1540C4-1BB7-4470-B026-22B6A39A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E044EA-3D0E-4163-9850-46D7D411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56CB2-FBC0-4E02-BBA0-951BDF4E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EA95B5-E992-4A42-9F9F-6932AC0F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E7A51E-CD04-42CB-93E8-4D010A2E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0AA3B3-F28C-498D-8264-3AA80AC5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8FAD-ACB6-47F1-B39A-E4A92BFAEDD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370" name="Image 1" descr=""/>
          <p:cNvPicPr/>
          <p:nvPr/>
        </p:nvPicPr>
        <p:blipFill>
          <a:blip r:embed="rId3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6513-8C35-4AF6-8FEF-8D513850FD7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" descr=""/>
          <p:cNvPicPr/>
          <p:nvPr/>
        </p:nvPicPr>
        <p:blipFill>
          <a:blip r:embed="rId3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F4AD-C8AD-4E7A-85E0-55CE5AE8729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452" name="Image 1" descr=""/>
          <p:cNvPicPr/>
          <p:nvPr/>
        </p:nvPicPr>
        <p:blipFill>
          <a:blip r:embed="rId3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B839-5B69-4BA4-A574-105D10618E2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41" name="Image 6" descr=""/>
          <p:cNvPicPr/>
          <p:nvPr/>
        </p:nvPicPr>
        <p:blipFill>
          <a:blip r:embed="rId3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BF49-0F55-4DAE-9B91-4E2A058AD01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83" name="Image 1" descr=""/>
          <p:cNvPicPr/>
          <p:nvPr/>
        </p:nvPicPr>
        <p:blipFill>
          <a:blip r:embed="rId3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8A4F-DB2C-4873-B1EC-7D71811E743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" descr=""/>
          <p:cNvPicPr/>
          <p:nvPr/>
        </p:nvPicPr>
        <p:blipFill>
          <a:blip r:embed="rId3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09B-AA6D-4EE4-B4B0-BAA46C59B3B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165" name="Image 1" descr=""/>
          <p:cNvPicPr/>
          <p:nvPr/>
        </p:nvPicPr>
        <p:blipFill>
          <a:blip r:embed="rId3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E3E3-95C9-4A47-B09E-693221E3EDC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" descr=""/>
          <p:cNvPicPr/>
          <p:nvPr/>
        </p:nvPicPr>
        <p:blipFill>
          <a:blip r:embed="rId3"/>
          <a:stretch/>
        </p:blipFill>
        <p:spPr>
          <a:xfrm>
            <a:off x="0" y="-135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490E-7526-4250-B73E-60E649CE19F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247" name="Image 1" descr=""/>
          <p:cNvPicPr/>
          <p:nvPr/>
        </p:nvPicPr>
        <p:blipFill>
          <a:blip r:embed="rId3"/>
          <a:stretch/>
        </p:blipFill>
        <p:spPr>
          <a:xfrm>
            <a:off x="0" y="-135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4237-C9E1-4DCA-9CCD-D8782C8FA05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6" descr=""/>
          <p:cNvPicPr/>
          <p:nvPr/>
        </p:nvPicPr>
        <p:blipFill>
          <a:blip r:embed="rId3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7AB7-664A-451B-8D97-EE37A2FC708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Image 3" descr=""/>
          <p:cNvPicPr/>
          <p:nvPr/>
        </p:nvPicPr>
        <p:blipFill>
          <a:blip r:embed="rId2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pic>
        <p:nvPicPr>
          <p:cNvPr id="329" name="Image 1" descr=""/>
          <p:cNvPicPr/>
          <p:nvPr/>
        </p:nvPicPr>
        <p:blipFill>
          <a:blip r:embed="rId3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4D9A-2E4A-4D51-A6B6-B6E87F9017C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8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Image 3" descr=""/>
          <p:cNvPicPr/>
          <p:nvPr/>
        </p:nvPicPr>
        <p:blipFill>
          <a:blip r:embed="rId1"/>
          <a:stretch/>
        </p:blipFill>
        <p:spPr>
          <a:xfrm>
            <a:off x="0" y="-171360"/>
            <a:ext cx="9156600" cy="7029360"/>
          </a:xfrm>
          <a:prstGeom prst="rect">
            <a:avLst/>
          </a:prstGeom>
          <a:ln w="0">
            <a:noFill/>
          </a:ln>
        </p:spPr>
      </p:pic>
      <p:sp>
        <p:nvSpPr>
          <p:cNvPr id="495" name="ZoneTexte 4"/>
          <p:cNvSpPr/>
          <p:nvPr/>
        </p:nvSpPr>
        <p:spPr>
          <a:xfrm>
            <a:off x="1476360" y="405756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ot 2: CHB - Plans annexes D.P.G.F 20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ZoneTexte 2"/>
          <p:cNvSpPr/>
          <p:nvPr/>
        </p:nvSpPr>
        <p:spPr>
          <a:xfrm>
            <a:off x="1763640" y="18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lan L2.1 – Centre hospitalier de Bapa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835280" y="5913360"/>
            <a:ext cx="504180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imite de la zone d’intervention du L2.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Haie de thuya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Haie champêt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Haie d’aucub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Connecteur droit 2"/>
          <p:cNvSpPr/>
          <p:nvPr/>
        </p:nvSpPr>
        <p:spPr>
          <a:xfrm>
            <a:off x="1044720" y="6021360"/>
            <a:ext cx="7585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Image 7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699600" cy="5191200"/>
          </a:xfrm>
          <a:prstGeom prst="rect">
            <a:avLst/>
          </a:prstGeom>
          <a:ln w="0">
            <a:noFill/>
          </a:ln>
        </p:spPr>
      </p:pic>
      <p:pic>
        <p:nvPicPr>
          <p:cNvPr id="500" name="Image 8" descr=""/>
          <p:cNvPicPr/>
          <p:nvPr/>
        </p:nvPicPr>
        <p:blipFill>
          <a:blip r:embed="rId2"/>
          <a:stretch/>
        </p:blipFill>
        <p:spPr>
          <a:xfrm>
            <a:off x="600120" y="5556240"/>
            <a:ext cx="1649520" cy="204840"/>
          </a:xfrm>
          <a:prstGeom prst="rect">
            <a:avLst/>
          </a:prstGeom>
          <a:ln w="0">
            <a:noFill/>
          </a:ln>
        </p:spPr>
      </p:pic>
      <p:sp>
        <p:nvSpPr>
          <p:cNvPr id="501" name="Forme libre 10"/>
          <p:cNvSpPr/>
          <p:nvPr/>
        </p:nvSpPr>
        <p:spPr>
          <a:xfrm>
            <a:off x="1425600" y="853920"/>
            <a:ext cx="6254640" cy="4899240"/>
          </a:xfrm>
          <a:custGeom>
            <a:avLst/>
            <a:gdLst/>
            <a:ahLst/>
            <a:rect l="l" t="t" r="r" b="b"/>
            <a:pathLst>
              <a:path w="6256020" h="4899660">
                <a:moveTo>
                  <a:pt x="5775960" y="0"/>
                </a:moveTo>
                <a:lnTo>
                  <a:pt x="5859780" y="160020"/>
                </a:lnTo>
                <a:lnTo>
                  <a:pt x="5935980" y="152400"/>
                </a:lnTo>
                <a:lnTo>
                  <a:pt x="6096000" y="1874520"/>
                </a:lnTo>
                <a:lnTo>
                  <a:pt x="6210300" y="2324100"/>
                </a:lnTo>
                <a:lnTo>
                  <a:pt x="6256020" y="2606040"/>
                </a:lnTo>
                <a:lnTo>
                  <a:pt x="4610100" y="3337560"/>
                </a:lnTo>
                <a:lnTo>
                  <a:pt x="2567940" y="4305300"/>
                </a:lnTo>
                <a:lnTo>
                  <a:pt x="2011680" y="4572000"/>
                </a:lnTo>
                <a:lnTo>
                  <a:pt x="1813560" y="4678680"/>
                </a:lnTo>
                <a:lnTo>
                  <a:pt x="1112520" y="4899660"/>
                </a:lnTo>
                <a:lnTo>
                  <a:pt x="114300" y="3337560"/>
                </a:lnTo>
                <a:lnTo>
                  <a:pt x="457200" y="3124200"/>
                </a:lnTo>
                <a:lnTo>
                  <a:pt x="0" y="2423160"/>
                </a:lnTo>
                <a:lnTo>
                  <a:pt x="678180" y="2019300"/>
                </a:lnTo>
                <a:lnTo>
                  <a:pt x="754380" y="2385060"/>
                </a:lnTo>
                <a:lnTo>
                  <a:pt x="944880" y="2651760"/>
                </a:lnTo>
                <a:lnTo>
                  <a:pt x="914400" y="2689860"/>
                </a:lnTo>
                <a:lnTo>
                  <a:pt x="975360" y="2788920"/>
                </a:lnTo>
                <a:lnTo>
                  <a:pt x="1912620" y="2362200"/>
                </a:lnTo>
                <a:lnTo>
                  <a:pt x="1828800" y="2202180"/>
                </a:lnTo>
                <a:lnTo>
                  <a:pt x="2522220" y="1920240"/>
                </a:lnTo>
                <a:lnTo>
                  <a:pt x="2240280" y="1341120"/>
                </a:lnTo>
                <a:lnTo>
                  <a:pt x="577596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orme libre 13"/>
          <p:cNvSpPr/>
          <p:nvPr/>
        </p:nvSpPr>
        <p:spPr>
          <a:xfrm>
            <a:off x="5311800" y="906480"/>
            <a:ext cx="2079720" cy="1935000"/>
          </a:xfrm>
          <a:custGeom>
            <a:avLst/>
            <a:gdLst/>
            <a:ahLst/>
            <a:rect l="l" t="t" r="r" b="b"/>
            <a:pathLst>
              <a:path w="2080260" h="1935480">
                <a:moveTo>
                  <a:pt x="0" y="701040"/>
                </a:moveTo>
                <a:lnTo>
                  <a:pt x="441960" y="1805940"/>
                </a:lnTo>
                <a:lnTo>
                  <a:pt x="525780" y="1935480"/>
                </a:lnTo>
                <a:lnTo>
                  <a:pt x="914400" y="1813560"/>
                </a:lnTo>
                <a:lnTo>
                  <a:pt x="899160" y="1630680"/>
                </a:lnTo>
                <a:lnTo>
                  <a:pt x="1219200" y="1424940"/>
                </a:lnTo>
                <a:lnTo>
                  <a:pt x="1341120" y="1584960"/>
                </a:lnTo>
                <a:lnTo>
                  <a:pt x="2080260" y="1249680"/>
                </a:lnTo>
                <a:lnTo>
                  <a:pt x="2026920" y="121920"/>
                </a:lnTo>
                <a:lnTo>
                  <a:pt x="1935480" y="129540"/>
                </a:lnTo>
                <a:lnTo>
                  <a:pt x="1874520" y="0"/>
                </a:lnTo>
                <a:lnTo>
                  <a:pt x="0" y="701040"/>
                </a:lnTo>
                <a:close/>
              </a:path>
            </a:pathLst>
          </a:custGeom>
          <a:solidFill>
            <a:srgbClr val="7f7f7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ZoneTexte 14"/>
          <p:cNvSpPr/>
          <p:nvPr/>
        </p:nvSpPr>
        <p:spPr>
          <a:xfrm>
            <a:off x="5765760" y="148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HPAD Lucien Langlet exc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llipse 1"/>
          <p:cNvSpPr/>
          <p:nvPr/>
        </p:nvSpPr>
        <p:spPr>
          <a:xfrm>
            <a:off x="6643800" y="2211480"/>
            <a:ext cx="985680" cy="863640"/>
          </a:xfrm>
          <a:prstGeom prst="ellipse">
            <a:avLst/>
          </a:prstGeom>
          <a:solidFill>
            <a:srgbClr val="9bbb59">
              <a:alpha val="58000"/>
            </a:srgbClr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5" name="Connecteur droit avec flèche 6"/>
          <p:cNvCxnSpPr/>
          <p:nvPr/>
        </p:nvCxnSpPr>
        <p:spPr>
          <a:xfrm>
            <a:off x="7294680" y="3022200"/>
            <a:ext cx="489600" cy="794520"/>
          </a:xfrm>
          <a:prstGeom prst="straightConnector1">
            <a:avLst/>
          </a:prstGeom>
          <a:ln w="44280">
            <a:solidFill>
              <a:srgbClr val="77933c"/>
            </a:solidFill>
            <a:miter/>
            <a:tailEnd len="med" type="triangle" w="med"/>
          </a:ln>
        </p:spPr>
      </p:cxnSp>
      <p:sp>
        <p:nvSpPr>
          <p:cNvPr id="506" name="Connecteur droit 4"/>
          <p:cNvSpPr/>
          <p:nvPr/>
        </p:nvSpPr>
        <p:spPr>
          <a:xfrm flipV="1">
            <a:off x="3995640" y="4797360"/>
            <a:ext cx="720720" cy="28728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Connecteur droit 15"/>
          <p:cNvSpPr/>
          <p:nvPr/>
        </p:nvSpPr>
        <p:spPr>
          <a:xfrm>
            <a:off x="1014480" y="6300720"/>
            <a:ext cx="749160" cy="79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Connecteur droit 17"/>
          <p:cNvSpPr/>
          <p:nvPr/>
        </p:nvSpPr>
        <p:spPr>
          <a:xfrm>
            <a:off x="1763640" y="4221000"/>
            <a:ext cx="287280" cy="6480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Connecteur droit 19"/>
          <p:cNvSpPr/>
          <p:nvPr/>
        </p:nvSpPr>
        <p:spPr>
          <a:xfrm>
            <a:off x="1014480" y="6510240"/>
            <a:ext cx="749160" cy="79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Connecteur droit 20"/>
          <p:cNvSpPr/>
          <p:nvPr/>
        </p:nvSpPr>
        <p:spPr>
          <a:xfrm flipV="1">
            <a:off x="3419640" y="5229000"/>
            <a:ext cx="215640" cy="114120"/>
          </a:xfrm>
          <a:prstGeom prst="line">
            <a:avLst/>
          </a:prstGeom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Connecteur droit 22"/>
          <p:cNvSpPr/>
          <p:nvPr/>
        </p:nvSpPr>
        <p:spPr>
          <a:xfrm>
            <a:off x="1014480" y="6742080"/>
            <a:ext cx="749160" cy="7920"/>
          </a:xfrm>
          <a:prstGeom prst="line">
            <a:avLst/>
          </a:prstGeom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08:17:50Z</dcterms:created>
  <dc:creator>CHELALA Jean</dc:creator>
  <dc:description/>
  <dc:language>en-US</dc:language>
  <cp:lastModifiedBy>LETURGEZ Estelle</cp:lastModifiedBy>
  <dcterms:modified xsi:type="dcterms:W3CDTF">2025-01-22T15:21:59Z</dcterms:modified>
  <cp:revision>96</cp:revision>
  <dc:subject/>
  <dc:title>Présentation PowerPoint</dc:title>
</cp:coreProperties>
</file>