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Tableau 2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econstruction du Centre Hospitalier de Vihiers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Bât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econstruction du Centre Hospitalier de Vihiers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Bât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econstruction du Centre Hospitalier de Vihiers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Bât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79280" y="111240"/>
            <a:ext cx="8785440" cy="580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econstruction du Centre Hospitalier de Vihiers – LYS HY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Open Sans"/>
                <a:ea typeface="Open Sans"/>
              </a:rPr>
              <a:t>Référence Architecte Bât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8:09:44Z</dcterms:created>
  <dc:creator/>
  <dc:description/>
  <dc:language>en-US</dc:language>
  <cp:lastModifiedBy/>
  <dcterms:modified xsi:type="dcterms:W3CDTF">2024-10-11T15:03:47Z</dcterms:modified>
  <cp:revision>1</cp:revision>
  <dc:subject/>
  <dc:title/>
</cp:coreProperties>
</file>