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0760" y="4712760"/>
            <a:ext cx="5435640" cy="4472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7680" y="94280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fr-F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D8E060E-5AFE-4DBB-9125-4BEF8C94E624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12760"/>
            <a:ext cx="543564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48040" y="94280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DB9CA2F-80AE-48E9-BE2D-C857D17D0150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0760" y="4712760"/>
            <a:ext cx="543564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48040" y="94280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158F4E1-C437-4EAD-8528-092B5C9471B2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2760"/>
            <a:ext cx="543564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48040" y="94280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59510E3-6857-4A50-B76A-A3D7C643F0F4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DD0-7459-44CB-9B76-645F612D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8B8-D5C1-4F5A-BEBA-4737DCC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699-7AB8-4109-958F-718EE53C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727-B6F8-43A9-A283-A48AB7F8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A5C8-DC59-4A04-9A88-4F32DB1C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192-4913-4696-9DBD-F37CBF9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47D0-104E-4E4A-8370-5C1E5C8D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AC2B-391F-4281-850A-F1308D2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8DC-DFB8-4DB5-A3E5-947B46D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98C-BA43-44BE-A734-1050967E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77A-2B4E-45ED-B294-DCF3451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B9A-A716-4309-8241-65AF13A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969D-E7E4-48D0-8876-3C0A541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AAFB-491E-4923-8392-2165EFD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11B-C396-4599-8D4A-4DEE594B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7DC-9988-4BF9-A647-4482278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D112-9C4E-4479-81D6-5B5AACD3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36D-9A17-4762-AC4C-8C7E98F5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B7A-9090-4C09-8ACD-5834FF2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C19-18A8-4424-941E-9A6542A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62C-A28C-4668-94CF-C658BA0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1C6-025F-4B1E-86AD-E05E666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DA8-D666-4F54-9B58-202944B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BBB-4A7E-43FD-AE45-9DBBB70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EA3D-62FB-4FC9-B239-292D1F9D0E98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"/>
          <p:cNvPicPr/>
          <p:nvPr/>
        </p:nvPicPr>
        <p:blipFill>
          <a:blip r:embed="rId2"/>
          <a:stretch/>
        </p:blipFill>
        <p:spPr>
          <a:xfrm>
            <a:off x="217440" y="147600"/>
            <a:ext cx="1330200" cy="1222560"/>
          </a:xfrm>
          <a:prstGeom prst="rect">
            <a:avLst/>
          </a:prstGeom>
          <a:ln w="0">
            <a:noFill/>
          </a:ln>
        </p:spPr>
      </p:pic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7194600" y="147600"/>
            <a:ext cx="1746360" cy="905040"/>
          </a:xfrm>
          <a:prstGeom prst="rect">
            <a:avLst/>
          </a:prstGeom>
          <a:ln w="0">
            <a:noFill/>
          </a:ln>
        </p:spPr>
      </p:pic>
      <p:sp>
        <p:nvSpPr>
          <p:cNvPr id="43" name="ZoneTexte 8"/>
          <p:cNvSpPr/>
          <p:nvPr/>
        </p:nvSpPr>
        <p:spPr>
          <a:xfrm>
            <a:off x="630360" y="6415200"/>
            <a:ext cx="745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 Light"/>
              </a:rPr>
              <a:t>Secrétariat général pour l’administration </a:t>
            </a:r>
            <a:r>
              <a:rPr b="0" lang="fr-FR" sz="1000" spc="-1" strike="noStrike">
                <a:solidFill>
                  <a:srgbClr val="000000"/>
                </a:solidFill>
                <a:latin typeface="Calibri Light"/>
              </a:rPr>
              <a:t>|</a:t>
            </a:r>
            <a:r>
              <a:rPr b="1" lang="fr-FR" sz="1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 Light"/>
              </a:rPr>
              <a:t>Etablissement du service d’infrastructure de la Défense de Ren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6575-76D2-47BD-A884-63D22EEF4B5F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dentification du candidat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2965320"/>
            <a:ext cx="1008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og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andid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619280" y="1314360"/>
            <a:ext cx="6121440" cy="326700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férence n°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hoto(s) ou dessin(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en cas de plusieurs photos ou dessins, l’ensemble doit tenir sur cette diaposi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627280" y="4797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Nom de la référenc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(Faire apparaître au minimum : Maître d’ouvrage, coût, durée des travaux, année,  rôle et mission(s) réalisée(s), surfac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 Light"/>
              </a:rPr>
              <a:t>Explication de la référence 1 et lien avec le projet objet de la consultation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560" y="2205000"/>
            <a:ext cx="7705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 à renseigner en taille de police 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dentification du candidat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2965320"/>
            <a:ext cx="1008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og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andid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619280" y="1314360"/>
            <a:ext cx="6121440" cy="326700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férence n°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hoto(s) ou dessin(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en cas de plusieurs photos ou dessins, l’ensemble doit tenir sur cette diaposi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5"/>
          <p:cNvSpPr/>
          <p:nvPr/>
        </p:nvSpPr>
        <p:spPr>
          <a:xfrm>
            <a:off x="2627280" y="4797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Nom de la référence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(Faire apparaître au minimum : Maître d’ouvrage, coût, durée des travaux, année,  rôle et mission(s) réalisée(s), surfac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 Light"/>
              </a:rPr>
              <a:t>Explication de la référence 2 et lien avec le projet objet de la consultation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42560" y="2205000"/>
            <a:ext cx="7705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 à renseigner en taille de police 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dentification du candidat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9280" y="2965320"/>
            <a:ext cx="1008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og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andid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619280" y="1314360"/>
            <a:ext cx="6121440" cy="326700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férence n°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hoto(s) ou dessin(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en cas de plusieurs photos ou dessins, l’ensemble doit tenir sur cette diaposi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5"/>
          <p:cNvSpPr/>
          <p:nvPr/>
        </p:nvSpPr>
        <p:spPr>
          <a:xfrm>
            <a:off x="2627280" y="4797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Nom de la référenc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Times New Roman"/>
              </a:rPr>
              <a:t>(Faire apparaître au minimum : Maître d’ouvrage, coût, durée des travaux, année,  rôle et mission(s) réalisée(s), surfac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 Light"/>
              </a:rPr>
              <a:t>Explication de la référence 3 et lien avec le projet objet de la consultation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560" y="2205000"/>
            <a:ext cx="7705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 à renseigner en taille de police 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8:14:22Z</dcterms:created>
  <dc:creator>usertemplate</dc:creator>
  <dc:description/>
  <dc:language>en-US</dc:language>
  <cp:lastModifiedBy>NOUAILHAS Valerie SA CN MINDEF</cp:lastModifiedBy>
  <cp:lastPrinted>2015-11-02T08:01:00Z</cp:lastPrinted>
  <dcterms:modified xsi:type="dcterms:W3CDTF">2024-11-14T10:29:48Z</dcterms:modified>
  <cp:revision>290</cp:revision>
  <dc:subject/>
  <dc:title>Diapositive 1</dc:title>
</cp:coreProperties>
</file>