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AD3DF5-4EC8-4B71-8AC1-FDB2AD360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E742FA-2301-49EC-BED7-1489DF764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964788-CAFC-4388-B937-5486BD1B0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CFFFBD-6317-4946-B1AE-2172B89E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5CD188-A8CD-4561-9C6C-7657AB00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8B7B1B-57B1-4947-BA56-C16849CF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577208-76A1-4E6A-8578-17440DB91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A54AAD-6FA2-47F3-B94B-377E04A81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6DFE4D-C5C0-4743-9C87-C5AE5A4E3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E0635C-6EA3-466E-BEEF-099913E7C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E2A7704-C212-49C8-8D2B-90405DFDE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B8FDB0-1553-4BDC-9649-6C138C36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8C3D9D-DDE1-4C12-BE77-EC99FF0C2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609589-EAE2-4F13-A961-6F5642262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865F42-E5AD-411A-A633-1C39AD7A6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463422-F863-40AB-B524-8C294BA6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5365DA-CEC5-479A-A30B-C2A2EAA3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B9FF34-69E8-44FF-84EE-C219C1A6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EFE893-4E65-4A91-85A5-1FB566DE5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417611-CAEB-4BF0-8EC4-48957456C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1494D5-F9CB-4289-88B3-BD60C3591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29D7E4F-93FD-4FFF-AF88-CCCDDBB5D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FCA0365-7A06-4B22-93BB-FAF44C76C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BC301FB-EA63-4AEC-9B5F-20367B840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015FE39-0A15-46C7-AD25-21601554B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77960CE-6326-4D22-95BD-3C4760DCC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EB55C8D-AD09-43C6-91D6-4833E7A81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F40BA74-193C-4F6B-AD5D-04534FEE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C592A53-3294-4339-8A9C-DBFF291E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9F62818-0516-41E1-8843-6776F46C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53B3D-6A68-4294-903C-A50508B1F6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B5675D9-B7D8-4739-BC73-AD0C4A3BB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6AAE1E3-B4DC-4A1A-A271-27D9674BD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D59821C-3BA9-4FB8-BDE2-839184D55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39AF9AC-B001-44B7-9416-C9B10CDAE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70E36C9-3C0B-471B-8908-696E1015F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135C80F-5098-45B6-AC44-25B84718F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D96FEE6-EE1E-47B5-A0DC-E99D5F13A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7F55616-9B14-4DA5-8005-9409F1324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18F6C61-52AE-4504-926A-5F2D58325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6E9F52D-A402-4F75-8EA7-DE2333BC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D85D0-342B-4C63-902D-AB1596D3F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93A03FF-78B9-40E2-BB70-EB9100BE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826B3DA-BA92-41FA-BF6F-07DCF573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585C12E-D18C-4CFD-89F7-4615D5C34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4733D68-924C-468A-943B-0E15DDACB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3BBEBD6-B787-496E-A570-24E9D2329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8ED90-2780-403E-8A6C-F7F0259F2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8B8FD-293A-4814-99CA-805D3EA8C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F7745-BA64-4363-86CA-71FF4A45F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F8704-D9BC-4041-BA8D-291A376D8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0C7CE-D099-4D5B-8705-4ABA5ACB0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67111-6F85-4C4E-879D-6037A988C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777FF-FB29-4026-B25B-93C4AD966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3ECD5-FCEE-4126-BC9B-5CD69641E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A0EEE-CCCA-4EB8-A441-426BE321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EBB39-48FF-460A-B28C-4A57B3F008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A969BC-2143-4CCC-BBA8-62FA0CA94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549829-483A-4A78-9B94-AA3F802A5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F4576E-F5B0-4978-82FA-23CBFB340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516539-E976-4576-B2BD-589214F43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18B14F-2C6A-44FA-A6A5-CA4AF18CB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A7E65C-A132-428C-9440-359D56E46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FE1D9B-8B0C-46EA-8EBC-EFE7E80F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0274E7-F4E8-4575-A6F4-AA7383D0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AF75F7-905A-48C4-840B-6083D768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90A064-CC44-4A1F-82E8-E8356E1A4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08EC45-D2B3-41F2-9CF1-B0F5FED1F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388C95-1C3D-4DB9-BB86-6F3C9C85B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CF1D34-445D-4D57-B786-563C0A264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021FED-9FA3-4CF7-8ACD-34A2D3102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72CFDF-D9A7-4940-857B-9F3B062C5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1BDA46-938D-4C96-8E9A-5AD0E8746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49EC8E-7705-4A88-ABFF-CE0FA531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862E6F-BF9E-4F3D-95EB-9C0C20262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981974-68E0-47CC-8757-DF9FBEA9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2E0176-913B-4989-A635-7790A2C1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EA67AB-C81E-443B-BBD7-2DF8B64C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511AA4-5A94-4289-8782-00F91382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629E4B-7D3A-4EA7-AF4F-A2351DE91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3ECE9D-EBC6-4913-9080-5FBA1A5AD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6D2434-546D-44D9-9339-FEA0E085C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EC7055-AD2C-4B67-94A4-3DFFC6233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E0BBC4-4332-4A52-8545-DDB3106AF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D2830B-426D-4627-AAAD-3041CC318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D87361-39E3-4C62-A09F-145715ABD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0270F8-694B-4F2F-886C-B8EF9B6FE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5B53CE-B99C-4A41-8F81-7A24CC77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28ED03-ECCE-4E4E-94CD-8FAD0540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0B8B0C-2EAA-4B8E-BD7C-09D674D2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61A834-649B-4C17-8D79-514DC55CC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0E8AAF-F0A3-4989-87C9-9ACFFB6EC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9853C9-DD79-4993-A0B2-672CFEBAF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B93EF9-EA4F-4FF0-BD18-DB4B428A1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BA82F2-82AA-4D04-A077-A0C411307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765125-0264-4EC3-A5AC-B5518A2DD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703B91-1014-4711-99CC-88751170F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D68F5A-F970-46E8-9C37-421B6B425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87FFB6-9A5D-402E-AFAA-909DCDD51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AFFC24-4B91-4A0C-BFAE-437DA221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90F36A-6CD4-4108-BFF0-F591E2EB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6ED34C-596F-4536-BE8C-C4A01699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5BA2DC-91A1-481E-A955-2A43C19A8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2AF4B4-E039-4B7B-8D8A-374F38319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831FCF-1A26-4B05-8F3F-92E2869F4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FCD3D4-6F39-45B5-A6FA-12F2C7890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63327F-D009-4E10-AEA7-611C60942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2C1B8C-6102-4681-963C-DA9CE20E1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6E0D70-C07A-4C83-8C2F-B35264DD0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728605-F418-4D0B-8780-5C5F72161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F6FCF3-AD80-4E04-A7D8-236950EF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BF9841-5631-4631-8E72-537450EC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97183B-8FDD-4689-B5E6-6198ECBB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6EC42A-8331-4B06-8D65-0C00EAD2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D4947E-56EB-499F-B5EB-CA55AFCE3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C9404A-716C-4850-B0B8-B8BBE964E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CF5C56-AE72-4AD6-8A21-22913AF2C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95D873-A62A-4216-94C8-22C75DA95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CDA45F-B21A-424C-BEAD-8CA0B1231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6E49F8-87C9-4FD2-BC80-1FB1438A3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3E0C3F-D5A4-4B47-A175-94B3F09B4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6F79C0-B28B-45FE-98B1-706B2AFB4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09D3EE-6408-481E-8D42-93DDEA3AE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3A14C9-2949-4062-9D11-D5BD5BBE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CA562D-6709-4D50-97F9-0A9B8765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7A4237-D8D8-4E07-9E11-350DE966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272561-0A4C-48E1-88A9-B612C8DD3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791A8A-5AEF-4787-B54D-4D399974D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D76D03-2C90-413E-88A8-001288E55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7CB9D1-E5B1-4E80-9F52-8DCB259CC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FFC2A3-5634-470E-A5FA-90C696458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250A33-47C8-487F-8FFE-32A02ED3D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469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D150-F333-4614-8AFC-45FD3DBF99FA}" type="slidenum">
              <a:rPr b="0" lang="fr-BE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469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490D1-A3AE-4C1A-B6DA-AA4C0507A4DB}" type="slidenum">
              <a:rPr b="0" lang="fr-BE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469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AD3BB-4BA5-4174-8E06-CCB1B187BCE8}" type="slidenum">
              <a:rPr b="0" lang="fr-BE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1960E-1428-4E51-8A9E-E17B20BC4968}" type="slidenum">
              <a:rPr b="0" lang="fr-BE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469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OOO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469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CFC86-09A4-444B-8853-2506851EA596}" type="slidenum">
              <a:rPr b="0" lang="fr-BE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469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48A0D-0783-45C7-8BB7-E24E7F3C307D}" type="slidenum">
              <a:rPr b="0" lang="fr-BE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469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8C366-25DB-4148-9032-24242B1B90C3}" type="slidenum">
              <a:rPr b="0" lang="fr-BE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469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4843D-D0E3-40FF-A582-6D057FAE20AF}" type="slidenum">
              <a:rPr b="0" lang="fr-BE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469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F264D-358B-4518-A29F-4C53B7C83ADA}" type="slidenum">
              <a:rPr b="0" lang="fr-BE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469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011A1-217B-4ED3-B689-B22E6F57CBDF}" type="slidenum">
              <a:rPr b="0" lang="fr-BE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469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56F4C-D265-427D-AFD7-604E2FB3F147}" type="slidenum">
              <a:rPr b="0" lang="fr-BE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ZoneTexte 5"/>
          <p:cNvSpPr/>
          <p:nvPr/>
        </p:nvSpPr>
        <p:spPr>
          <a:xfrm>
            <a:off x="0" y="64882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OOO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ZoneTexte 8"/>
          <p:cNvSpPr/>
          <p:nvPr/>
        </p:nvSpPr>
        <p:spPr>
          <a:xfrm>
            <a:off x="3240" y="6488280"/>
            <a:ext cx="914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Calibri"/>
              </a:rPr>
              <a:t>Nom du mandatai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ZoneTexte 9"/>
          <p:cNvSpPr/>
          <p:nvPr/>
        </p:nvSpPr>
        <p:spPr>
          <a:xfrm>
            <a:off x="1979640" y="2637000"/>
            <a:ext cx="48243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ffffff"/>
                </a:solidFill>
                <a:latin typeface="Verdana"/>
              </a:rPr>
              <a:t>La composition de cette diapositive est laissée libre au groupement dès lors que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ffffff"/>
                </a:solidFill>
                <a:latin typeface="Verdana"/>
              </a:rPr>
              <a:t>Chaque référence est représentée sur une seule diapos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fr-FR" sz="1200" spc="-1" strike="noStrike">
                <a:solidFill>
                  <a:srgbClr val="ffffff"/>
                </a:solidFill>
                <a:latin typeface="Verdana"/>
              </a:rPr>
              <a:t>Le nom de l’architecte est renseigné dans le cadre en bas de la diapositive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fr-FR" sz="1200" spc="-1" strike="noStrike">
                <a:solidFill>
                  <a:srgbClr val="ffffff"/>
                </a:solidFill>
                <a:latin typeface="Verdana"/>
              </a:rPr>
              <a:t>Le nom de l’opération apparaisse sur chaque 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ffffff"/>
                </a:solidFill>
                <a:latin typeface="Verdana"/>
              </a:rPr>
              <a:t>REFERENC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ZoneTexte 5"/>
          <p:cNvSpPr/>
          <p:nvPr/>
        </p:nvSpPr>
        <p:spPr>
          <a:xfrm>
            <a:off x="0" y="64882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OOO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ZoneTexte 8"/>
          <p:cNvSpPr/>
          <p:nvPr/>
        </p:nvSpPr>
        <p:spPr>
          <a:xfrm>
            <a:off x="3240" y="6488280"/>
            <a:ext cx="914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Calibri"/>
              </a:rPr>
              <a:t>Nom du mandatai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ZoneTexte 9"/>
          <p:cNvSpPr/>
          <p:nvPr/>
        </p:nvSpPr>
        <p:spPr>
          <a:xfrm>
            <a:off x="1979640" y="2565360"/>
            <a:ext cx="48243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ffffff"/>
                </a:solidFill>
                <a:latin typeface="Verdana"/>
              </a:rPr>
              <a:t>La composition de cette diapositive est laissée libre au groupement dès lors que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ffffff"/>
                </a:solidFill>
                <a:latin typeface="Verdana"/>
              </a:rPr>
              <a:t>Chaque référence est représentée sur une seule diapos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fr-FR" sz="1200" spc="-1" strike="noStrike">
                <a:solidFill>
                  <a:srgbClr val="ffffff"/>
                </a:solidFill>
                <a:latin typeface="Verdana"/>
              </a:rPr>
              <a:t>Le nom de l’architecte est renseigné dans le cadre en bas de la diapositive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fr-FR" sz="1200" spc="-1" strike="noStrike">
                <a:solidFill>
                  <a:srgbClr val="ffffff"/>
                </a:solidFill>
                <a:latin typeface="Verdana"/>
              </a:rPr>
              <a:t>Le nom de l’opération apparaisse sur chaque 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ffffff"/>
                </a:solidFill>
                <a:latin typeface="Verdana"/>
              </a:rPr>
              <a:t>REFERENC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ZoneTexte 5"/>
          <p:cNvSpPr/>
          <p:nvPr/>
        </p:nvSpPr>
        <p:spPr>
          <a:xfrm>
            <a:off x="0" y="64882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OOO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ZoneTexte 8"/>
          <p:cNvSpPr/>
          <p:nvPr/>
        </p:nvSpPr>
        <p:spPr>
          <a:xfrm>
            <a:off x="3240" y="6488280"/>
            <a:ext cx="914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Calibri"/>
              </a:rPr>
              <a:t>Nom du mandatai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ZoneTexte 9"/>
          <p:cNvSpPr/>
          <p:nvPr/>
        </p:nvSpPr>
        <p:spPr>
          <a:xfrm>
            <a:off x="1979640" y="2637000"/>
            <a:ext cx="48243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ffffff"/>
                </a:solidFill>
                <a:latin typeface="Verdana"/>
              </a:rPr>
              <a:t>La composition de cette diapositive est laissée libre au groupement dès lors que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ffffff"/>
                </a:solidFill>
                <a:latin typeface="Verdana"/>
              </a:rPr>
              <a:t>Chaque référence est représentée sur une seule diapos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fr-FR" sz="1200" spc="-1" strike="noStrike">
                <a:solidFill>
                  <a:srgbClr val="ffffff"/>
                </a:solidFill>
                <a:latin typeface="Verdana"/>
              </a:rPr>
              <a:t>Le nom de l’architecte est renseigné dans le cadre en bas de la diapositive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fr-FR" sz="1200" spc="-1" strike="noStrike">
                <a:solidFill>
                  <a:srgbClr val="ffffff"/>
                </a:solidFill>
                <a:latin typeface="Verdana"/>
              </a:rPr>
              <a:t>Le nom de l’opération apparaisse sur chaque 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ffffff"/>
                </a:solidFill>
                <a:latin typeface="Verdana"/>
              </a:rPr>
              <a:t>REFERENC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EVEGRAND Nicolas</dc:creator>
  <dc:description/>
  <dc:language>en-US</dc:language>
  <cp:lastModifiedBy>PELLE Valérie</cp:lastModifiedBy>
  <dcterms:modified xsi:type="dcterms:W3CDTF">2020-11-30T16:15:00Z</dcterms:modified>
  <cp:revision>7</cp:revision>
  <dc:subject/>
  <dc:title>Présentation PowerPoint</dc:title>
</cp:coreProperties>
</file>