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925050" cy="14357350"/>
  <p:custShowLst>
    <p:custShow name="Diaporama personnalisé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122-5570-4658-BF56-68B9D91B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526-83E1-43AA-A476-C0753D64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C8B-A72D-405D-A8D5-E19A0899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A7D-ECC0-47BC-A134-184277C3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557-CC6B-4221-87ED-A780525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0C3-0123-4F3F-91D9-17C78A3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BD7-1EC9-48EE-84C5-6329FD0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AC4-370B-4D3A-870F-F1F301AE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0D3-1E13-46A2-A398-2B04B75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8CF-1F3A-4128-8C17-F93F014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2DA-A04A-437D-B406-D39F834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2CF-3CC7-4BDD-81E9-39E7D83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67CB-2195-457D-A5DC-F3AF7827D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070000" y="115920"/>
            <a:ext cx="50054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11040" y="836640"/>
            <a:ext cx="8521920" cy="270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11040" y="3787920"/>
            <a:ext cx="8521920" cy="27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5840" y="647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70160" y="1798560"/>
            <a:ext cx="4105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5419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pération : Projet de construction d’un Pôle de Santé Mentale Ambulatoire à Lorient ( 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21" descr=""/>
          <p:cNvPicPr/>
          <p:nvPr/>
        </p:nvPicPr>
        <p:blipFill>
          <a:blip r:embed="rId2"/>
          <a:stretch/>
        </p:blipFill>
        <p:spPr>
          <a:xfrm>
            <a:off x="122400" y="77760"/>
            <a:ext cx="993600" cy="542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70160" y="4581360"/>
            <a:ext cx="4105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2"/>
          <p:cNvSpPr/>
          <p:nvPr/>
        </p:nvSpPr>
        <p:spPr>
          <a:xfrm>
            <a:off x="3475080" y="11592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DE L’E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88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3475080" y="11592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DE L’E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8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88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7:21:32Z</dcterms:created>
  <dc:creator>vv</dc:creator>
  <dc:description/>
  <dc:language>en-US</dc:language>
  <cp:lastModifiedBy>Jeanne DANIEL</cp:lastModifiedBy>
  <dcterms:modified xsi:type="dcterms:W3CDTF">2024-09-25T19:03:34Z</dcterms:modified>
  <cp:revision>43</cp:revision>
  <dc:subject/>
  <dc:title>Diapositive 1</dc:title>
</cp:coreProperties>
</file>