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691813" cy="7559675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65F-9843-4E20-8109-9C39FBE0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018-AA80-4395-B829-872E022C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61F-5822-4A31-8C7D-8984F693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44C-F25D-4302-BFB8-B07A23E3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86E-87A4-4630-895A-EDA829E9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C9C-3996-4A3F-9582-4094D59E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902-11D2-4F93-B85A-FAECBF0D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3EA-65FB-423B-BBC7-2DE20BB6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541-85D7-4BF4-8BF2-48A10617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08B-B84E-460B-98DB-88852C9F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98A-A488-4891-A37E-0B3C2757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364-1AEA-4EF1-B1FE-DEBD668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fr-FR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fr-FR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B36C0CA-261B-4C48-9C7E-8E6E8D86CB76}" type="slidenum">
              <a:rPr b="0" lang="fr-FR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582480" y="1343160"/>
            <a:ext cx="95662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2d2e2d"/>
                </a:solidFill>
                <a:latin typeface="Calibri"/>
                <a:ea typeface="Arial"/>
              </a:rPr>
              <a:t>Présentation du groupement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582480" y="879480"/>
            <a:ext cx="9528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376092"/>
                </a:solidFill>
                <a:latin typeface="Calibri"/>
                <a:ea typeface="Arial"/>
              </a:rPr>
              <a:t>CONSTRUCTION D’UN NOUVEAU BATIMENT POUR LE REGROUPEMENT DES STRUCTURES AMBULATOIRES A NEUFCHATEA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376092"/>
                </a:solidFill>
                <a:latin typeface="Calibri"/>
                <a:ea typeface="Arial"/>
              </a:rPr>
              <a:t>CONCOURS RESTREINT DE MAÎTRISE D’ŒUV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989440" y="228600"/>
          <a:ext cx="7121520" cy="438120"/>
        </p:xfrm>
        <a:graphic>
          <a:graphicData uri="http://schemas.openxmlformats.org/drawingml/2006/table">
            <a:tbl>
              <a:tblPr/>
              <a:tblGrid>
                <a:gridCol w="5148360"/>
                <a:gridCol w="36000"/>
                <a:gridCol w="1386360"/>
                <a:gridCol w="36000"/>
                <a:gridCol w="514800"/>
              </a:tblGrid>
              <a:tr h="438120">
                <a:tc>
                  <a:txBody>
                    <a:bodyPr lIns="118080" rIns="118080" tIns="55800" bIns="55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XXXX  NOM DU MANDATAIRE XXXXXX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18080" marR="11808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50400" rIns="50400" tIns="50400" bIns="5040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 N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118080" rIns="118080" tIns="55800" bIns="55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18080" marR="11808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pic>
        <p:nvPicPr>
          <p:cNvPr id="44" name="Tableau 12" descr=""/>
          <p:cNvPicPr/>
          <p:nvPr/>
        </p:nvPicPr>
        <p:blipFill>
          <a:blip r:embed="rId1"/>
          <a:stretch/>
        </p:blipFill>
        <p:spPr>
          <a:xfrm>
            <a:off x="573120" y="1706400"/>
            <a:ext cx="9607680" cy="5712120"/>
          </a:xfrm>
          <a:prstGeom prst="rect">
            <a:avLst/>
          </a:prstGeom>
          <a:ln w="0">
            <a:noFill/>
          </a:ln>
        </p:spPr>
      </p:pic>
      <p:pic>
        <p:nvPicPr>
          <p:cNvPr id="45" name="Image 1" descr=""/>
          <p:cNvPicPr/>
          <p:nvPr/>
        </p:nvPicPr>
        <p:blipFill>
          <a:blip r:embed="rId2"/>
          <a:stretch/>
        </p:blipFill>
        <p:spPr>
          <a:xfrm>
            <a:off x="1349280" y="268200"/>
            <a:ext cx="882720" cy="358920"/>
          </a:xfrm>
          <a:prstGeom prst="rect">
            <a:avLst/>
          </a:prstGeom>
          <a:ln w="0">
            <a:noFill/>
          </a:ln>
        </p:spPr>
      </p:pic>
      <p:pic>
        <p:nvPicPr>
          <p:cNvPr id="46" name="Image 2" descr=""/>
          <p:cNvPicPr/>
          <p:nvPr/>
        </p:nvPicPr>
        <p:blipFill>
          <a:blip r:embed="rId3"/>
          <a:stretch/>
        </p:blipFill>
        <p:spPr>
          <a:xfrm>
            <a:off x="2260440" y="268200"/>
            <a:ext cx="676440" cy="358920"/>
          </a:xfrm>
          <a:prstGeom prst="rect">
            <a:avLst/>
          </a:prstGeom>
          <a:ln w="0">
            <a:noFill/>
          </a:ln>
        </p:spPr>
      </p:pic>
      <p:pic>
        <p:nvPicPr>
          <p:cNvPr id="47" name="Image 3" descr="Centre Hospitalier Ravenel | Mirecourt"/>
          <p:cNvPicPr/>
          <p:nvPr/>
        </p:nvPicPr>
        <p:blipFill>
          <a:blip r:embed="rId4"/>
          <a:srcRect l="0" t="24744" r="0" b="22711"/>
          <a:stretch/>
        </p:blipFill>
        <p:spPr>
          <a:xfrm>
            <a:off x="623880" y="268200"/>
            <a:ext cx="682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5280" y="993600"/>
          <a:ext cx="5168880" cy="3143520"/>
        </p:xfrm>
        <a:graphic>
          <a:graphicData uri="http://schemas.openxmlformats.org/drawingml/2006/table">
            <a:tbl>
              <a:tblPr/>
              <a:tblGrid>
                <a:gridCol w="1068480"/>
                <a:gridCol w="4100400"/>
              </a:tblGrid>
              <a:tr h="538200">
                <a:tc>
                  <a:txBody>
                    <a:bodyPr lIns="8424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MS PGothic"/>
                        </a:rPr>
                        <a:t>DESIGNATION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MS PGothic"/>
                        </a:rPr>
                        <a:t>Loc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84240" rIns="0" tIns="50400" bIns="50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MS PGothic"/>
                        </a:rPr>
                        <a:t>Avancement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MS PGothic"/>
                        </a:rPr>
                        <a:t>Dévolution du march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00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MS PGothic"/>
                        </a:rPr>
                        <a:t>Rô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MS PGothic"/>
                        </a:rPr>
                        <a:t>Travaux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MS PGothic"/>
                        </a:rPr>
                        <a:t>00 M € 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424480" y="993600"/>
          <a:ext cx="5167440" cy="3143520"/>
        </p:xfrm>
        <a:graphic>
          <a:graphicData uri="http://schemas.openxmlformats.org/drawingml/2006/table">
            <a:tbl>
              <a:tblPr/>
              <a:tblGrid>
                <a:gridCol w="1066680"/>
                <a:gridCol w="4100760"/>
              </a:tblGrid>
              <a:tr h="538200">
                <a:tc>
                  <a:txBody>
                    <a:bodyPr lIns="8424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NSTRUCTION DU XXX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XXX VILLE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84240" rIns="0" tIns="50400" bIns="50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En cours d’étu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oi M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00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Architecte mandat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ravaux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00 M € 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25280" y="4230720"/>
          <a:ext cx="5168880" cy="3143160"/>
        </p:xfrm>
        <a:graphic>
          <a:graphicData uri="http://schemas.openxmlformats.org/drawingml/2006/table">
            <a:tbl>
              <a:tblPr/>
              <a:tblGrid>
                <a:gridCol w="1068480"/>
                <a:gridCol w="4100400"/>
              </a:tblGrid>
              <a:tr h="538200">
                <a:tc>
                  <a:txBody>
                    <a:bodyPr lIns="8424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EXTENSION DU XXX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XXX VILLE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84240" rIns="0" tIns="50400" bIns="50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En cours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nception /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Architecte co-trai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ravaux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00 M € 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424480" y="4230720"/>
          <a:ext cx="5167440" cy="3143160"/>
        </p:xfrm>
        <a:graphic>
          <a:graphicData uri="http://schemas.openxmlformats.org/drawingml/2006/table">
            <a:tbl>
              <a:tblPr/>
              <a:tblGrid>
                <a:gridCol w="1066680"/>
                <a:gridCol w="4100760"/>
              </a:tblGrid>
              <a:tr h="538200">
                <a:tc>
                  <a:txBody>
                    <a:bodyPr lIns="8424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NSTRUCTION DU XXX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XXX VILLE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ivré en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Architecte sous-trai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ravaux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00 M € 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989440" y="228600"/>
          <a:ext cx="7121520" cy="438120"/>
        </p:xfrm>
        <a:graphic>
          <a:graphicData uri="http://schemas.openxmlformats.org/drawingml/2006/table">
            <a:tbl>
              <a:tblPr/>
              <a:tblGrid>
                <a:gridCol w="5148360"/>
                <a:gridCol w="36000"/>
                <a:gridCol w="1386360"/>
                <a:gridCol w="36000"/>
                <a:gridCol w="514800"/>
              </a:tblGrid>
              <a:tr h="438120">
                <a:tc>
                  <a:txBody>
                    <a:bodyPr lIns="118080" rIns="118080" tIns="55800" bIns="55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XXXX  NOM DU MANDATAIRE XXXXXX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18080" marR="11808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50400" rIns="50400" tIns="50400" bIns="5040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 N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118080" rIns="118080" tIns="55800" bIns="55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18080" marR="11808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pic>
        <p:nvPicPr>
          <p:cNvPr id="53" name="Image 5" descr=""/>
          <p:cNvPicPr/>
          <p:nvPr/>
        </p:nvPicPr>
        <p:blipFill>
          <a:blip r:embed="rId1"/>
          <a:stretch/>
        </p:blipFill>
        <p:spPr>
          <a:xfrm>
            <a:off x="1349280" y="268200"/>
            <a:ext cx="882720" cy="358920"/>
          </a:xfrm>
          <a:prstGeom prst="rect">
            <a:avLst/>
          </a:prstGeom>
          <a:ln w="0">
            <a:noFill/>
          </a:ln>
        </p:spPr>
      </p:pic>
      <p:pic>
        <p:nvPicPr>
          <p:cNvPr id="54" name="Image 6" descr=""/>
          <p:cNvPicPr/>
          <p:nvPr/>
        </p:nvPicPr>
        <p:blipFill>
          <a:blip r:embed="rId2"/>
          <a:stretch/>
        </p:blipFill>
        <p:spPr>
          <a:xfrm>
            <a:off x="2260440" y="268200"/>
            <a:ext cx="676440" cy="358920"/>
          </a:xfrm>
          <a:prstGeom prst="rect">
            <a:avLst/>
          </a:prstGeom>
          <a:ln w="0">
            <a:noFill/>
          </a:ln>
        </p:spPr>
      </p:pic>
      <p:pic>
        <p:nvPicPr>
          <p:cNvPr id="55" name="Image 7" descr="Centre Hospitalier Ravenel | Mirecourt"/>
          <p:cNvPicPr/>
          <p:nvPr/>
        </p:nvPicPr>
        <p:blipFill>
          <a:blip r:embed="rId3"/>
          <a:srcRect l="0" t="24744" r="0" b="22711"/>
          <a:stretch/>
        </p:blipFill>
        <p:spPr>
          <a:xfrm>
            <a:off x="623880" y="268200"/>
            <a:ext cx="682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5T13:29:38Z</dcterms:created>
  <dc:creator>Peggy THIOT</dc:creator>
  <dc:description/>
  <dc:language>en-US</dc:language>
  <cp:lastModifiedBy>MARCHAL Cedric</cp:lastModifiedBy>
  <cp:lastPrinted>2019-02-06T15:47:18Z</cp:lastPrinted>
  <dcterms:modified xsi:type="dcterms:W3CDTF">2024-09-25T08:15:32Z</dcterms:modified>
  <cp:revision>37</cp:revision>
  <dc:subject/>
  <dc:title>Présentation PowerPoint</dc:title>
</cp:coreProperties>
</file>