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691813" cy="7559675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CDD-B982-44E3-A6DB-A3459CAD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5D2-6BE4-426F-9DDB-D5AADF8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6884-2593-44FF-894A-7B2292E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B41-562B-43F4-8D0C-A88E658D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52C-7F37-4CE8-A789-3DF5C6D6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DE7-2214-4F89-8EB1-4B7D5AA0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A7F-516C-48CA-A8FA-EA9D6330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33D-9F5A-4F08-9CE4-851B8CC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C12-5C4D-4B1A-9FE8-1EFA906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F3E-BAF8-4E64-BF03-CDFF05A1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C75-1EA1-48FB-B1FC-B96E09A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2E4F-482A-42BF-AE88-3EB32EBE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fr-F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fr-FR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7291A1D-0706-4994-875B-5960E4EC1ACB}" type="slidenum">
              <a:rPr b="0" lang="fr-FR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582480" y="1343160"/>
            <a:ext cx="95662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2d2e2d"/>
                </a:solidFill>
                <a:latin typeface="Calibri"/>
                <a:ea typeface="Arial"/>
              </a:rPr>
              <a:t>Présentation du groupemen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582480" y="879480"/>
            <a:ext cx="9528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9a9"/>
                </a:solidFill>
                <a:latin typeface="Calibri"/>
                <a:ea typeface="Arial"/>
              </a:rPr>
              <a:t>NOUVEAU BÂTIMENT DE CONSULTATIONS ET D’HDJ DE PSYCHIATRIE ET DE PÉDOPSYCHIATR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9a9"/>
                </a:solidFill>
                <a:latin typeface="Calibri"/>
                <a:ea typeface="Arial"/>
              </a:rPr>
              <a:t>CONCOURS RESTREINT DE MAÎTRISE D’ŒUV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989440" y="228600"/>
          <a:ext cx="7121520" cy="438120"/>
        </p:xfrm>
        <a:graphic>
          <a:graphicData uri="http://schemas.openxmlformats.org/drawingml/2006/table">
            <a:tbl>
              <a:tblPr/>
              <a:tblGrid>
                <a:gridCol w="5148360"/>
                <a:gridCol w="36000"/>
                <a:gridCol w="1386360"/>
                <a:gridCol w="36000"/>
                <a:gridCol w="514800"/>
              </a:tblGrid>
              <a:tr h="438120">
                <a:tc>
                  <a:txBody>
                    <a:bodyPr lIns="118080" rIns="118080" tIns="55800" bIns="55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X  NOM DU MANDATAIRE XXXXXX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50400" rIns="50400" tIns="50400" bIns="504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 N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118080" rIns="118080" tIns="55800" bIns="55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</a:tr>
            </a:tbl>
          </a:graphicData>
        </a:graphic>
      </p:graphicFrame>
      <p:pic>
        <p:nvPicPr>
          <p:cNvPr id="44" name="Tableau 12" descr=""/>
          <p:cNvPicPr/>
          <p:nvPr/>
        </p:nvPicPr>
        <p:blipFill>
          <a:blip r:embed="rId1"/>
          <a:stretch/>
        </p:blipFill>
        <p:spPr>
          <a:xfrm>
            <a:off x="573120" y="1706400"/>
            <a:ext cx="9607680" cy="5712120"/>
          </a:xfrm>
          <a:prstGeom prst="rect">
            <a:avLst/>
          </a:prstGeom>
          <a:ln w="0">
            <a:noFill/>
          </a:ln>
        </p:spPr>
      </p:pic>
      <p:pic>
        <p:nvPicPr>
          <p:cNvPr id="45" name="Image 9" descr=""/>
          <p:cNvPicPr/>
          <p:nvPr/>
        </p:nvPicPr>
        <p:blipFill>
          <a:blip r:embed="rId2"/>
          <a:stretch/>
        </p:blipFill>
        <p:spPr>
          <a:xfrm>
            <a:off x="1079640" y="216000"/>
            <a:ext cx="113976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Image 8" descr="Centre Psychothérapique de Nancy - CPN | Laxou"/>
          <p:cNvPicPr/>
          <p:nvPr/>
        </p:nvPicPr>
        <p:blipFill>
          <a:blip r:embed="rId3"/>
          <a:srcRect l="16563" t="0" r="14648" b="0"/>
          <a:stretch/>
        </p:blipFill>
        <p:spPr>
          <a:xfrm>
            <a:off x="582480" y="84240"/>
            <a:ext cx="497160" cy="720720"/>
          </a:xfrm>
          <a:prstGeom prst="rect">
            <a:avLst/>
          </a:prstGeom>
          <a:ln w="0">
            <a:noFill/>
          </a:ln>
        </p:spPr>
      </p:pic>
      <p:pic>
        <p:nvPicPr>
          <p:cNvPr id="47" name="Image 4" descr=""/>
          <p:cNvPicPr/>
          <p:nvPr/>
        </p:nvPicPr>
        <p:blipFill>
          <a:blip r:embed="rId4"/>
          <a:stretch/>
        </p:blipFill>
        <p:spPr>
          <a:xfrm>
            <a:off x="2286000" y="228600"/>
            <a:ext cx="636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5280" y="993600"/>
          <a:ext cx="5168880" cy="3143520"/>
        </p:xfrm>
        <a:graphic>
          <a:graphicData uri="http://schemas.openxmlformats.org/drawingml/2006/table">
            <a:tbl>
              <a:tblPr/>
              <a:tblGrid>
                <a:gridCol w="1068480"/>
                <a:gridCol w="410040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1a25d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DESIGNATION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Loc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Avancement du proj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Dévolution du march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Rô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ff0000"/>
                          </a:solidFill>
                          <a:latin typeface="Calibri"/>
                          <a:ea typeface="ＭＳ Ｐゴシック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424480" y="993600"/>
          <a:ext cx="5167440" cy="3143520"/>
        </p:xfrm>
        <a:graphic>
          <a:graphicData uri="http://schemas.openxmlformats.org/drawingml/2006/table">
            <a:tbl>
              <a:tblPr/>
              <a:tblGrid>
                <a:gridCol w="1066680"/>
                <a:gridCol w="410076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1a25d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STRUCT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n cours d’étu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oi M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chitecte mandat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25280" y="4230720"/>
          <a:ext cx="5168880" cy="3143160"/>
        </p:xfrm>
        <a:graphic>
          <a:graphicData uri="http://schemas.openxmlformats.org/drawingml/2006/table">
            <a:tbl>
              <a:tblPr/>
              <a:tblGrid>
                <a:gridCol w="1068480"/>
                <a:gridCol w="410040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1a25d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XTENS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84240" rIns="0" tIns="50400" bIns="50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n cours de chant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ception /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chitecte co-traita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424480" y="4230720"/>
          <a:ext cx="5167440" cy="3143160"/>
        </p:xfrm>
        <a:graphic>
          <a:graphicData uri="http://schemas.openxmlformats.org/drawingml/2006/table">
            <a:tbl>
              <a:tblPr/>
              <a:tblGrid>
                <a:gridCol w="1066680"/>
                <a:gridCol w="4100760"/>
              </a:tblGrid>
              <a:tr h="538200">
                <a:tc>
                  <a:txBody>
                    <a:bodyPr lIns="8424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42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01a25d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STRUCTION DU XXXX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XXX VILLE XX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vré en 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chitecte sous-trai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45720" rIns="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avaux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0 M € 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5720" marR="4572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2989440" y="228600"/>
          <a:ext cx="7121520" cy="438120"/>
        </p:xfrm>
        <a:graphic>
          <a:graphicData uri="http://schemas.openxmlformats.org/drawingml/2006/table">
            <a:tbl>
              <a:tblPr/>
              <a:tblGrid>
                <a:gridCol w="5148360"/>
                <a:gridCol w="36000"/>
                <a:gridCol w="1386360"/>
                <a:gridCol w="36000"/>
                <a:gridCol w="514800"/>
              </a:tblGrid>
              <a:tr h="438120">
                <a:tc>
                  <a:txBody>
                    <a:bodyPr lIns="118080" rIns="118080" tIns="55800" bIns="55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X  NOM DU MANDATAIRE XXXXXX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50400" rIns="50400" tIns="50400" bIns="5040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IPE N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50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  <a:tc>
                  <a:txBody>
                    <a:bodyPr lIns="118080" rIns="118080" tIns="55800" bIns="55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1" lang="fr-FR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18080" marR="11808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45d"/>
                    </a:solidFill>
                  </a:tcPr>
                </a:tc>
              </a:tr>
            </a:tbl>
          </a:graphicData>
        </a:graphic>
      </p:graphicFrame>
      <p:pic>
        <p:nvPicPr>
          <p:cNvPr id="53" name="Image 9" descr=""/>
          <p:cNvPicPr/>
          <p:nvPr/>
        </p:nvPicPr>
        <p:blipFill>
          <a:blip r:embed="rId1"/>
          <a:stretch/>
        </p:blipFill>
        <p:spPr>
          <a:xfrm>
            <a:off x="1079640" y="216000"/>
            <a:ext cx="1139760" cy="468360"/>
          </a:xfrm>
          <a:prstGeom prst="rect">
            <a:avLst/>
          </a:prstGeom>
          <a:ln w="0">
            <a:noFill/>
          </a:ln>
        </p:spPr>
      </p:pic>
      <p:pic>
        <p:nvPicPr>
          <p:cNvPr id="54" name="Image 8" descr="Centre Psychothérapique de Nancy - CPN | Laxou"/>
          <p:cNvPicPr/>
          <p:nvPr/>
        </p:nvPicPr>
        <p:blipFill>
          <a:blip r:embed="rId2"/>
          <a:srcRect l="16563" t="0" r="14648" b="0"/>
          <a:stretch/>
        </p:blipFill>
        <p:spPr>
          <a:xfrm>
            <a:off x="582480" y="84240"/>
            <a:ext cx="497160" cy="720720"/>
          </a:xfrm>
          <a:prstGeom prst="rect">
            <a:avLst/>
          </a:prstGeom>
          <a:ln w="0">
            <a:noFill/>
          </a:ln>
        </p:spPr>
      </p:pic>
      <p:pic>
        <p:nvPicPr>
          <p:cNvPr id="55" name="Image 8" descr=""/>
          <p:cNvPicPr/>
          <p:nvPr/>
        </p:nvPicPr>
        <p:blipFill>
          <a:blip r:embed="rId3"/>
          <a:stretch/>
        </p:blipFill>
        <p:spPr>
          <a:xfrm>
            <a:off x="2286000" y="228600"/>
            <a:ext cx="6364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5T13:29:38Z</dcterms:created>
  <dc:creator>Peggy THIOT</dc:creator>
  <dc:description/>
  <dc:language>en-US</dc:language>
  <cp:lastModifiedBy>Noureddine FAOUZI</cp:lastModifiedBy>
  <cp:lastPrinted>2019-02-06T15:47:18Z</cp:lastPrinted>
  <dcterms:modified xsi:type="dcterms:W3CDTF">2024-07-16T14:00:19Z</dcterms:modified>
  <cp:revision>35</cp:revision>
  <dc:subject/>
  <dc:title>Présentation PowerPoint</dc:title>
</cp:coreProperties>
</file>