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9925050" cy="14357350"/>
  <p:custShowLst>
    <p:custShow name="Diaporama personnalisé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5A09-C8BF-454E-A4C4-8CD5FD54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B15D-CCAB-4503-8FF9-2C01DDE1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263-BACA-48FC-913B-723E0C34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20E-81F9-4DF3-BC60-A5225843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BB37-9CA1-4E60-85CE-5B121304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7602-EF25-4EF4-89C4-564DDECA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7A0A-6ADE-4356-B2C3-455688EC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BA2A-6A1A-4D44-A979-5ACB8746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2E17-D6D4-45D8-9266-47FE8D8C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018F-27DA-46F1-9D95-81E45961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89E-19A2-4EFC-894F-667B3EA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E71-EFFC-4E65-BFAB-A114E8CF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EC47-141E-4843-8082-6AF19B1F73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2070000" y="115920"/>
            <a:ext cx="5005440" cy="43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11040" y="836640"/>
            <a:ext cx="4105440" cy="270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727520" y="836640"/>
            <a:ext cx="4105440" cy="2703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11040" y="3787920"/>
            <a:ext cx="4105440" cy="270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727520" y="3787920"/>
            <a:ext cx="4105440" cy="270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15840" y="6473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95200" y="1766880"/>
            <a:ext cx="4105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numéro à rappeler dans la fiche candida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0" y="654192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95356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Projet de restructuration EHPAD / SMR du Centre Hospitalier de Vimouti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80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8834760" y="31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88347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1800" y="61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Image 21" descr=""/>
          <p:cNvPicPr/>
          <p:nvPr/>
        </p:nvPicPr>
        <p:blipFill>
          <a:blip r:embed="rId2"/>
          <a:stretch/>
        </p:blipFill>
        <p:spPr>
          <a:xfrm>
            <a:off x="122400" y="77760"/>
            <a:ext cx="993600" cy="542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708440" y="1720800"/>
            <a:ext cx="4105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numéro à rappeler dans la fiche candida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217440" y="4629240"/>
            <a:ext cx="4105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numéro à rappeler dans la fiche candida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630680" y="4583160"/>
            <a:ext cx="4105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mage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numéro à rappeler dans la fiche candida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2"/>
          <p:cNvSpPr/>
          <p:nvPr/>
        </p:nvSpPr>
        <p:spPr>
          <a:xfrm>
            <a:off x="3475080" y="115920"/>
            <a:ext cx="22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OM DE L’EQU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1T07:21:32Z</dcterms:created>
  <dc:creator>vv</dc:creator>
  <dc:description/>
  <dc:language>en-US</dc:language>
  <cp:lastModifiedBy>Emmanuel MARCHAND</cp:lastModifiedBy>
  <dcterms:modified xsi:type="dcterms:W3CDTF">2024-11-04T14:23:03Z</dcterms:modified>
  <cp:revision>47</cp:revision>
  <dc:subject/>
  <dc:title>Diapositive 1</dc:title>
</cp:coreProperties>
</file>