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930-659F-4D45-B6A0-0BE4C020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CAE-3C5E-437B-88C5-C4E8B7C7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2E6-A991-4755-9750-7D942FF8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AE3-D999-4F9F-8C40-50A62C93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F0B-7AE6-4927-917E-364298A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B4B-8471-4824-815C-4E6A3220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6C1-F12B-4C32-B377-04BE0741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BDE-464F-47EB-BEC6-509D1E5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F0D-5B39-4A98-8516-074E7CBF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46B-3B28-4AB9-84D5-202368AF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8BE-81FC-4AD3-9091-48410CF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EC0-110B-4EBB-B5AF-5E4F760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4C23-6D9C-4DB1-8574-B068031CB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2003400" y="198360"/>
            <a:ext cx="5005440" cy="4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11040" y="836640"/>
            <a:ext cx="4105440" cy="270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727520" y="836640"/>
            <a:ext cx="4105440" cy="270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11040" y="3787920"/>
            <a:ext cx="4105440" cy="270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727520" y="3787920"/>
            <a:ext cx="4105440" cy="270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5840" y="6473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619280" y="1916280"/>
            <a:ext cx="165564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(s)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de synthè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0" y="65419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ISP Rennes | Opération de construction d’une base opérationnelle pénitentiaire sur le site de la Janais (3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883476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88347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180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6084720" y="4508640"/>
            <a:ext cx="16560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(s)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de synthè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6156360" y="1844640"/>
            <a:ext cx="165564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(s)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de synthè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1619280" y="4653000"/>
            <a:ext cx="165564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(S)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de synthè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21" descr=""/>
          <p:cNvPicPr/>
          <p:nvPr/>
        </p:nvPicPr>
        <p:blipFill>
          <a:blip r:embed="rId2"/>
          <a:stretch/>
        </p:blipFill>
        <p:spPr>
          <a:xfrm>
            <a:off x="307800" y="111240"/>
            <a:ext cx="806760" cy="652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2"/>
          <p:cNvSpPr/>
          <p:nvPr/>
        </p:nvSpPr>
        <p:spPr>
          <a:xfrm>
            <a:off x="3497040" y="18900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 DE L’EQU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7:21:32Z</dcterms:created>
  <dc:creator>vv</dc:creator>
  <dc:description/>
  <dc:language>en-US</dc:language>
  <cp:lastModifiedBy>PERSON Richard</cp:lastModifiedBy>
  <dcterms:modified xsi:type="dcterms:W3CDTF">2023-07-05T06:32:55Z</dcterms:modified>
  <cp:revision>34</cp:revision>
  <dc:subject/>
  <dc:title>Diapositive 1</dc:title>
</cp:coreProperties>
</file>