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C4FC-A39A-4331-A746-66D1385D385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7ADA6-193A-4B41-B2C7-D554F6D653A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AE6150-D7F5-40D7-9337-0F147046F63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15E0E-2426-4C6F-923A-4B7CB7A9EF7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5536B9-EAF4-4892-A88D-F2F8B6A33CF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B2AA-5C9A-41FA-B2C1-6CDA48A4401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2F1619-49FD-4125-967E-36AA2C6BB47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BEA5C-103F-4874-ADC7-19B12DCB9FB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9163A-0CAB-4CDA-A2EF-F4C651C8A63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B0A-545A-43E0-ADCA-B2925BCC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ACF-823E-476F-8C1B-A2E19BA5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445-AE7D-448E-9ADF-C057D5A5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8B8-F279-4808-9B30-A0E3FBA7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C2BB-5E04-4BFC-9366-4244FC3A6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CE1BE-CC82-4C54-B355-88C59D7CA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E6F21-0EB4-4DA3-B878-19A3F756B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E6F1-9FAC-410B-82F6-F061094C2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1B89-E65F-4D7E-B20F-9742D8508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F7CDB-3DFE-4D81-9705-B44CFF4BFF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C5FC3-9419-49EC-96A7-73566C61B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52B-3E82-424D-9C61-91F013D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1AB5-FD02-4B6D-A89D-B782FC9BB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BA31-962D-46E9-AE8D-5A06246ED2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8C312-F20A-4D72-8357-DB9611D0F7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D5C1E-990E-44E2-A765-C39704B2F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41A1-39E6-498A-945F-0A41B9A8E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24B-B900-4CA8-83BB-65F664E8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F8E-ECFD-4B21-82B2-EEC2B924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782-F0DB-423F-AA4E-3B92225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EE4-C576-4C5E-933C-390EF898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FD0-07E6-4203-A5F0-AD6C7C9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5A5-84D1-4F8F-BF00-239E678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38E-9D8C-40AC-9DA8-AF2F4BD6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25/06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Concours d'architecture - Lycée polyvalent de Mamoudzou Sud à Kwalé - Candid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CE127-86F3-42AC-B01D-58FA68310675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-360" y="6448320"/>
            <a:ext cx="5506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898989"/>
                </a:solidFill>
                <a:latin typeface="Calibri"/>
                <a:ea typeface="Segoe UI"/>
              </a:rPr>
              <a:t>Concours d'architecture - Lycée polyvalent de Mamoudzou Sud à Kwalé - Candid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78600" y="64357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C4E9-2262-47F1-A0D9-93708387E60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AD78BC-D135-48DD-B4FB-AE49224B5F8D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102420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6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MANDATAIRE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496008-4276-42D5-89EA-F95F39E9E112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MANDATAIRE N°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F8471B-0938-477B-9E7F-170EAF7262FE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MANDATAIRE N°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259F76-8754-4E59-848C-AA44153AC195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MANDATAIRE N°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5T12:05:26Z</dcterms:created>
  <dc:creator>FERNANDEZ SEBASTIEN</dc:creator>
  <dc:description/>
  <dc:language>en-US</dc:language>
  <cp:lastModifiedBy>Dorian GIRARD</cp:lastModifiedBy>
  <dcterms:modified xsi:type="dcterms:W3CDTF">2023-05-19T12:34:57Z</dcterms:modified>
  <cp:revision>19</cp:revision>
  <dc:subject/>
  <dc:title>Nom du candidat ou de l’équipe candidate</dc:title>
</cp:coreProperties>
</file>