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7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28E9B-5897-4E21-BCB1-C4E3C73E6AF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BA769-3EEB-457F-8C36-7C5DFB82DD6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BAF9F2-43F2-46CF-B0C4-1FB73F22127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4A0AA-BD84-40DF-818D-F3E320C2FD2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A78BD2-C882-4511-A6CA-279A72A6C76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4A329-6889-452A-819F-BE234CEEE4A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FC8197-813C-45DB-AA28-6AF393983E5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E4E91-ED2F-4CE1-B341-4DA7C9011B5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26E60F-98A3-410F-860E-ABD89E0272A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F5A-D048-4474-9FFD-1B9B5BC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845-BB8F-4A59-ADC7-A5A1DAE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105-5C9B-4D09-A616-71B9BEA5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0F7-CA2C-45FB-8B0F-C84CB2C8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9FA09-758D-42E6-BC0D-6D1402BD1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45A2E-53D0-46F4-BABD-D5A47C8ECF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9111B-6958-4E07-B2FB-4C5578F4FD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5634B-80B8-4661-BEC0-D0D0C9D7A1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1C155-DF02-46CB-9D87-C5D96B9861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E915-1205-41E6-BEAA-77BADB67A4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65CA1-E7E5-4544-9C05-6143C2BE6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114-8413-4B6A-835E-E7B059E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1D5D2-19C2-413A-B37C-EE7F1F5B2F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DA4BD-CA34-4896-8934-A52AF7E7A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DAE41-ACC9-4B12-A7A0-A73AECF02F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021B0-70E1-49C9-AFDA-1AC310B75B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C1B1D-A768-45AB-8890-4DB043835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08A-7622-49C1-8A83-07C5C8A4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F2A-D0A5-4672-8DFD-C23001F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E9E-34DD-47D1-9F70-7CEC6CD3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816-A6F1-4134-B5A3-4035FA2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FDB-9624-4DFA-8552-8567408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36F-8CF2-437B-B2A7-2E8BBC3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833-5E14-4DD3-BB97-46EE974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25/06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Concours d'architecture - Lycée polyvalent de Mamoudzou Sud à Kwalé - Candid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3173A-C16E-4D2F-8BF0-0CCC1BD392C9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-360" y="6448320"/>
            <a:ext cx="5506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898989"/>
                </a:solidFill>
                <a:latin typeface="Calibri"/>
                <a:ea typeface="Segoe UI"/>
              </a:rPr>
              <a:t>Concours d'architecture - Lycée polyvalent de Mamoudzou Sud à Kwalé - Candid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78600" y="64357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A42E9-2B6E-4EFB-9B2E-99D38572218D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2D7F3A-6B1A-432B-A55B-7477482FC9EA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102420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6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ARCHITECTE N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609408-22AA-455B-95DA-2A4243047B68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9669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842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ARCHITECTE N°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5258D3-55FA-4FA2-B6C3-4572AC741F99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9669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842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ARCHITECTE N°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7640" y="509760"/>
            <a:ext cx="2503440" cy="209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venir LT Std 45 Book"/>
              </a:rPr>
              <a:t>CADRE DE REFERENCE ILLUST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78600" y="6435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50F6E5-B74A-4F43-B56A-6C3577E1DC92}" type="slidenum">
              <a:rPr b="0" lang="fr-FR" sz="1200" spc="-1" strike="noStrike">
                <a:solidFill>
                  <a:srgbClr val="898989"/>
                </a:solidFill>
                <a:latin typeface="Avenir LT Std 45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40" y="765000"/>
          <a:ext cx="1768320" cy="6035760"/>
        </p:xfrm>
        <a:graphic>
          <a:graphicData uri="http://schemas.openxmlformats.org/drawingml/2006/table">
            <a:tbl>
              <a:tblPr/>
              <a:tblGrid>
                <a:gridCol w="860400"/>
                <a:gridCol w="907920"/>
              </a:tblGrid>
              <a:tr h="9669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9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INTITULE, NATURE, NEUF OU REHAB. ET LIEU DE L’OPER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Avenir LT Std 45 Book"/>
                          <a:ea typeface="Arial"/>
                        </a:rPr>
                        <a:t>XX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595a"/>
                    </a:solidFill>
                  </a:tcPr>
                </a:tc>
              </a:tr>
              <a:tr h="58428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MAITRE D’OUV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ETENDUE MISSION MO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PARTENAIREDE LA MAITRISE D’OEUV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ANNEE DE LIVRAISON / ÉTAT D’AVANC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COUT TRAVAUX / SURFACE PLANC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759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7f7f7f"/>
                          </a:solidFill>
                          <a:latin typeface="Avenir LT Std 45 Book"/>
                          <a:ea typeface="Arial"/>
                        </a:rPr>
                        <a:t>DEMARCHE ENVIRONNEMENTALE / LABELLIS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028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62"/>
          <p:cNvSpPr/>
          <p:nvPr/>
        </p:nvSpPr>
        <p:spPr>
          <a:xfrm rot="20580000">
            <a:off x="4088520" y="325764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venir LT Std 45 Book"/>
              </a:rPr>
              <a:t>A l’intérieur de ce cadre, le format des illustrations est libre. Veiller à ce que la taille des images soit lisible dans le cadre d’une proj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7659720" y="57240"/>
            <a:ext cx="1430280" cy="433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venir LT Std 45 Book"/>
              </a:rPr>
              <a:t>N°</a:t>
            </a:r>
            <a:r>
              <a:rPr b="0" lang="fr-FR" sz="3200" spc="-1" strike="noStrike">
                <a:solidFill>
                  <a:srgbClr val="ffffff"/>
                </a:solidFill>
                <a:latin typeface="Avenir LT Std 45 Book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venir LT Std 45 Book"/>
              </a:rPr>
              <a:t>(ne pas remplir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1785960" y="-147600"/>
            <a:ext cx="540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venir LT Std 45 Book"/>
              </a:rPr>
              <a:t>Nom de l’équipe candidate / 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Mandataire - Archit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mage 11" descr=""/>
          <p:cNvPicPr/>
          <p:nvPr/>
        </p:nvPicPr>
        <p:blipFill>
          <a:blip r:embed="rId1"/>
          <a:stretch/>
        </p:blipFill>
        <p:spPr>
          <a:xfrm>
            <a:off x="307800" y="15840"/>
            <a:ext cx="1121040" cy="492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0"/>
          <p:cNvSpPr/>
          <p:nvPr/>
        </p:nvSpPr>
        <p:spPr>
          <a:xfrm>
            <a:off x="1835280" y="765000"/>
            <a:ext cx="7277040" cy="603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2590920" y="507960"/>
            <a:ext cx="6499080" cy="189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venir LT Std 45 Book"/>
              </a:rPr>
              <a:t>REFERENCE ARCHITECTE N°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5T12:05:26Z</dcterms:created>
  <dc:creator>FERNANDEZ SEBASTIEN</dc:creator>
  <dc:description/>
  <dc:language>en-US</dc:language>
  <cp:lastModifiedBy>Dorian GIRARD</cp:lastModifiedBy>
  <dcterms:modified xsi:type="dcterms:W3CDTF">2023-05-19T12:33:50Z</dcterms:modified>
  <cp:revision>18</cp:revision>
  <dc:subject/>
  <dc:title>Nom du candidat ou de l’équipe candidate</dc:title>
</cp:coreProperties>
</file>